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EC11-0BBF-44D9-869E-5C8208E20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A2DF3-88C7-48B7-AC49-E8B1D2D5B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6972-4D7D-4710-AEE5-602574FE1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3587-8EA2-4980-8205-FB5BE46AE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7ACC2-8616-4A33-990F-D912EE251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9DAF3-C38E-40F5-BB18-A044124D3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A668-43C1-43CC-9B33-DBBFF2C9A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C5B2-B643-4BD8-8AAA-712737C2F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E4B39-292C-4779-8F25-57A5256F0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C701A-AF32-42D3-998E-27B26B7623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E654-8B0D-4401-BBFE-C2FF104E6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ADF21-2757-4D77-BB59-75137360E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1AE8-37E5-4E34-8B4D-C29EE3BE05BE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 D APPLICATION TRAIN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NUARY 31, 2006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F1E8-2293-44C4-BC05-0F65B86CB7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Service Area and Pharmacy Acces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P Regions, MA-PD Regions for RPPOs, Local MA-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tail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CARE standards for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me Infusion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adequate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ng-Term Care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y Willing Pharmacy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CDE80-9C5D-4280-9854-71A659A32A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ic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 series of attes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mit contract templates of the standard terms and conditions for its downstream contracts between the organization and the types of pharmacies that constitute the Part D pharmacy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22970-83D3-4716-BB1D-95524B42E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Retail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Geographic Information System (GIS) or similar software to demonstrate pharmacy access ratios for urban, suburban, and rural zip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retail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5D1F4-573D-4F05-84D5-0E0265D3EA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Home Infusio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Medicare Beneficiaries in each region (provided by CMS), provide ratios for the contracted home infusion pharmacies to demonstrate adequ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home infusion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1AD6-DDFA-4EF1-B81A-E4FE375D2E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Long-Term Care (LTC)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nursing home beds available in each region (provided by CMS), provide ratios for the contracted LTC pharmacies to demonstrate convenient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LTC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CE170-06E5-4E2D-8109-CEF1EFC4C6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I/T/U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addendum is provided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de a pharmacy list that demonstrates a contract has been offered to every I/T/U pharmacy in applicant’s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list must identify contract status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 Negot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EAEC-1298-4DDC-8598-9CCCD822CFF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Enrollment and Eligibilit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lete attestations related to enrollment and eligibili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fer to guidance posted at www.cms.hhs.gov/PrescriptionDrugCovContra/Downloads/PDP_EnrollmentGuidance_08.29.05.pdf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 individual is eligible for Part D, provided that he or she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entitled to Part A OR enrolled in Part 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ves in the service area of a Part D 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ypes of Enrollm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l enrollment is a 7-month period (three months before eligibility for Part D, the month of eligibility, and three months after eligibility for Part 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al enrollments include when beneficiary moves outside service area, plan nonrenewable/contract termination; or contract vio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3A6D6-DEA7-4A18-B3B0-AC03749EDB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Full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924680" cy="4727520"/>
        </p:xfrm>
        <a:graphic>
          <a:graphicData uri="http://schemas.openxmlformats.org/drawingml/2006/table">
            <a:tbl>
              <a:tblPr/>
              <a:tblGrid>
                <a:gridCol w="2641680"/>
                <a:gridCol w="1709640"/>
                <a:gridCol w="357336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Subsidy Sub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of Premium Subsidy 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-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 institutionalized indiv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t or below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1- generic/preferred multiple source and $3-other drug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bove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full benefit dual eligible beneficiary wi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Income below 135% F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Assets that do not exceed $6,000/$9,000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65B5A-76E4-422F-97C0-4EE3CEC913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Other Low-Income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1600200"/>
            <a:ext cx="7924680" cy="4794120"/>
            <a:chOff x="914400" y="1600200"/>
            <a:chExt cx="7924680" cy="4794120"/>
          </a:xfrm>
        </p:grpSpPr>
        <p:sp>
          <p:nvSpPr>
            <p:cNvPr id="133" name=""/>
            <p:cNvSpPr/>
            <p:nvPr/>
          </p:nvSpPr>
          <p:spPr>
            <a:xfrm>
              <a:off x="5730840" y="4729320"/>
              <a:ext cx="310824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78160" y="4729320"/>
              <a:ext cx="155268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liding scale premium subsid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729320"/>
              <a:ext cx="326376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income below 150% FP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assets that do not exceed $10,000 (individuals) or $20,000(coup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30840" y="2428920"/>
              <a:ext cx="310824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8160" y="2428920"/>
              <a:ext cx="155268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2428920"/>
              <a:ext cx="326376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income below 135% FPL,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assets tha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6,000 but do not exceed $10,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(individuals) or with assets tha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xceed $9,000 but do no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20,000 (couples)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0840" y="1600200"/>
              <a:ext cx="31082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ost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600200"/>
              <a:ext cx="155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% of Premium Subsidy Amou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4400" y="1600200"/>
              <a:ext cx="326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Other Low-income Subsidy Sub-categ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160020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63943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816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084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3908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4289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47293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62BBF-5ACC-44A4-BC19-DE5BB7C273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pplication Section: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Grievances, Coverage Determinations and Appeal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grievances, coverage determina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the policies and procedures for beneficiary coverage determinations, excep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information is provided in Chapter 18 of the Prescription Drug Benefit Manual or the Part D QIC Reconsideration Process Manu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10BE-1170-4CB2-B912-4C6D312EB2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Steps to Become a Part D Sponsor</a:t>
            </a:r>
            <a:br>
              <a:rPr sz="3200"/>
            </a:b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Part D Application  -- March 20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Formulary – April 17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Bid –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– 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st Systems –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e Contract –Early Fall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rding to 42 CFR 423.503 (c), application approval determination is subject to redetermination and appeal process.  Formulary and bid are subject to negotiation, not to redetermination and appeal proces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BB4F-B5E4-41FD-BCA0-182AD1E1DB0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ordination of Benefit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coordination of  benefi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developing and operating a system for collecting information from enrollees about enrollees’ other health insurance, including whether such insurance covers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ermitting SPAPs and other third-party payers to coordinate benefit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43708-5238-46DF-A849-F5D496E1B6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TrOOP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tracking each enrollee’s TrOOP costs reflecting the amount the enrollee has spent during a program year on covered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accepting data concerning third-party payers for use in the applicant’s TrOOP calcul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ding each enrollee with a report on his or her TrOOP status at least quarter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67F1-3E43-4C98-86DD-C27BB14F4B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Market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eries of attestations related to marketing and beneficiary communic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for review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nually provide enrollees information about PDP features, including enrollment procedures, premiums, formulary, benefits, and pharmacy network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 toll-free line open during normal business hou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n Internet websi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20DE-72E5-464A-BE12-180C93F58E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HIPAA and Claims Process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being HIPAA complia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sions related to claims process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E8BF-59B1-4348-B3DF-1B11D8C27B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Part D Service Area Expansion Applic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existing Part D contractors (PDP, MA-PD, Cost Plans, etc) expanding the service area beyond their existing contrac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PDPs, only complete licensure and solvency sections for each State in new PDP reg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PDP, Regional MA-PD and Cost Plan, and Direct Employer contractors expanding their Part D service area,  must complete the Pharmacy Access Submission for ONLY the new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MA-PDs contractors seeking to expand their Part D service area, should submit the pharmacy access data for the ENTIRE service area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2670-DB08-41B0-8300-5F75AB4F18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General Application Instruc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applications are due to CMS no later than close of business March 20, 2006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2 hard copies and 4 cds of the base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1 hard copy and 4 sets of the cds (each set is 2 cds) of the pharmacy access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further information or questions on the Part D Applications contact Marla Rothouse at marla.rothouse@cms.hhs.gov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CF4BD-8A21-43CE-850E-B9DC08BAA2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RENEWAL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is required to issue all Part D sponsors on or before May 1, 2006, a notice of our decision to renew or non-renew sponsors’ contracts for the 2007 program yea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will make this determination during the Spring of 2006 based on a review of each sponsor’s compliance with Part D program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t D sponsors that elect to non-renew their contracts must notify CMS of their decision on or before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975D2-D6D0-411A-8578-1D02581C46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for new Part D contract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 Alone PDP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t-Base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E Part 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rect Employer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separate from Part C Application (for all new MA-PDs, and Cost Plans, PACE and Direct Employer products that include Part D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armacy Access Submissi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– key component of Part D application, documents are separate because of length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Service Area Expansion Application –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r SAE within an existing contract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nual Renewa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– no application for all existing contracto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B0C4-DFD8-495B-A856-48DBD3B94C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Format of 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a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Subregulatory Policy Guidance Reference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r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Coordination of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roll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Low-income Subsi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C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Reporting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PDP Service Area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-PD Service Area Regions for RP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DA20-76E1-4AE0-84D2-999C23D6E0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anagement and Opera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siness Integr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st to statements related to administrative and management of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opies of executed contracts with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te Struct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a brief summary of organization’s history, ownership, subsidiaries and business affili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iance Pl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mit a compliance plan for the Part D program that may include but must oversee the compliance plan used by the contracted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11C6-21A6-4CA0-8280-01C9B26614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Licensure and Solvenc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ic Requirement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be licensed as a risk-bearing ent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ot licensed to bear risk in at least one state, must provide financial solvency docu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complete a Licensure Waiver Application for each state where applicant not licensed but seeks to operate a PDP (State waiver– 3 years, PDP Regional waiver– 1 ye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7 contract year is the last opportunity for these  special waiv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715D-0C19-431F-8621-42C88E2666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nefit Desig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&amp; Therapeutics Committe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nt (or Applicant’s PBM) is required to submit names of P&amp;T Committee me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&amp;T Committee members must not appear on OIG web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tilization Management Standard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UM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lity Assurance and Patient Safe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quality and patient saf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dication Therapy Manage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MTM and provide detailed description of the MTM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B048-DA58-47E2-BA2D-8220690795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Formular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lete attestations related to formularies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formulary submission is component of bid, not application, therefore formulary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formulary will be through HPMS system. Procedure same for MA-PD and PDP. (Submit flat file in ASCII format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y uploads will include plan name, formulary name, number of tiers, classification structure, prior authorization attachment, and step therapy attachment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aft formulary guidance will be issued in early February with the final guidance issued in early March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ies must be submitted by April 17, 2005 at 5pm ED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BCBB-4A5E-4229-9913-5ECA553CE6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Bid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pplicant attests that it will comply with CMS guidance related to bid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bid submission is not a component of the application, therefore bid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bid will be through HPMS system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ust complete the Bid Pricing Tool (BPT) and PDP data entr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DP Applicant will not submit more than 3 bids per plan (includes bids from parent organization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nd Cost Plans not restricted to 3 bids where the organization is offering various Part C options (e.g. MA-PD with and without SNP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83600" y="5862600"/>
            <a:ext cx="393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ds are due to CMS June 5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FA11-1206-4145-8AC0-D8E3B27C3D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19T17:05:0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81659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