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E6D1D-D2B6-437F-A8C7-71D136FE2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EA08D-533D-4B36-BAB9-8BB6A505C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ACE1C-7B71-4B48-9863-87B35A35D9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AF6E-7845-4B2C-B799-878D1EF18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7C65-D1FF-4FC9-8902-1DC0D5D55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AFB8-C657-440B-B2D4-61452725E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35790-27F6-47F0-8AAE-2C564AACE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59F8B-2C36-4C2C-A767-8679CDE5F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4EE7-60CA-4DD0-8B8F-0B4821D24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4761F-37F4-4C1F-BEE4-3D8AB3508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666E-CF46-42A7-9754-F1851B507A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D0CB-4FE1-471F-933E-04DBD2F45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48080" y="63435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9304-A5DF-4ADE-A361-9A6A02393836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3348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Regional Preferred Provider Organization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 substantive changes to application, revisions made to facilitate CMS review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andardized format for access info, including standards &amp; alternate acce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andardized format for Essential Hospital designations &amp; supporting facto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20B09-2F30-4503-B6AF-A878B8AD80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Regional Preferred Provider Organization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standards to be submitted in chart and with more detai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Narrative and Access Pl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oint Enterprise Applican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4DEF-6719-4062-81DC-6455F62B12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25:51Z</dcterms:created>
  <dc:creator>blebowitz</dc:creator>
  <dc:description/>
  <dc:language>en-US</dc:language>
  <cp:lastModifiedBy>CMS</cp:lastModifiedBy>
  <dcterms:modified xsi:type="dcterms:W3CDTF">2006-01-25T21:44:2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65609730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