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793BB-8FE7-4B9F-AF01-28BDCF228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533EA-9363-4566-A9AF-AC64AA714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60C68-29B6-4586-BCE3-1E6C43AC3D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352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733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352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733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C8B6C-6BFC-4F33-8805-C466053C03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907A1-8DD4-43DA-B7E8-4D355BF1C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9352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733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9352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733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647BC-A57C-448B-9753-F39438542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7A48C-905A-469B-A264-EF0C4CD91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FE9BC-298F-41B1-B31E-AB72FA9CC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72F45-5D4D-44BD-BAF6-7E1B5E7A4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60B3A-886F-4060-91A8-4533FF1B80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D8A77-6724-4260-AF25-5D53E477E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1183F-C98B-42ED-A564-A157BD787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http://rds.yahoo.com/S=96062857/K=medical/v=2/SID=e/l=II/R=397/SS=i/OID=68c644398765b1b0/SIG=1hr2p4h9p/EXP=1104428561/*-http%3A//images.search.yahoo.com/search/images/view?back=http%3A%2F%2Fimages.search.yahoo.com%2Fsearch%2Fimages%3Fp%3Dmedical%26toggle%3D1%26ei%3DUTF-8%26imgsz%3Dall%26fr%3DFP-tab-img-t-192%26b%3D381&amp;h=193&amp;w=206&amp;imgcurl=www.workpartners.com%2Fimages%2Fphoto-medical-services.jpg&amp;imgurl=www.workpartners.com%2Fimages%2Fphoto-medical-services.jpg&amp;size=11.0kB&amp;name=photo-medical-services.jpg&amp;rcurl=http%3A%2F%2Fwww.workpartners.com%2Fmedical-services.htm&amp;rurl=http%3A%2F%2Fwww.workpartners.com%2Fmedical-services.htm&amp;p=medical&amp;type=jpeg&amp;no=397&amp;tt=1,483,666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448080" y="63435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pplication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933960" y="634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9E17-0539-4402-8B35-6A0BD06096DF}" type="slidenum">
              <a:rPr b="0" lang="en-US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86080" y="1219320"/>
            <a:ext cx="727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228600"/>
            <a:ext cx="73152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371600"/>
            <a:ext cx="0" cy="510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1295280"/>
            <a:ext cx="0" cy="45720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09480"/>
            <a:ext cx="137160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371600" cy="6094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67200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6320" y="434880"/>
            <a:ext cx="1066680" cy="32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5120" y="3200400"/>
            <a:ext cx="7238880" cy="1981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92a7d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47920"/>
            <a:ext cx="9144000" cy="1752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738fc6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1905120" cy="198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33480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pplication 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1676520"/>
            <a:ext cx="602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181480"/>
            <a:ext cx="2743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8160" y="5638680"/>
            <a:ext cx="1714320" cy="766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5181480"/>
            <a:ext cx="5105520" cy="13716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5181480"/>
            <a:ext cx="2133360" cy="1676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7400" y="464832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HHS bird logo"/>
          <p:cNvPicPr/>
          <p:nvPr/>
        </p:nvPicPr>
        <p:blipFill>
          <a:blip r:embed="rId6"/>
          <a:stretch/>
        </p:blipFill>
        <p:spPr>
          <a:xfrm>
            <a:off x="8477280" y="5829480"/>
            <a:ext cx="51444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oseph.Esposito@cms.hhs.gov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Financial Statement</a:t>
            </a: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org. must have a positive net worth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org. must be in a surplus basis or have sufficient net worth to breakeve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org. must be in good standing with its state regulator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84D8B-50BF-4369-AB32-4436666E7C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Joseph.Esposito@cms.hhs.gov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8B23F-FC59-4EE2-83B4-22074B7849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0T15:25:51Z</dcterms:created>
  <dc:creator>blebowitz</dc:creator>
  <dc:description/>
  <dc:language>en-US</dc:language>
  <cp:lastModifiedBy>CMS</cp:lastModifiedBy>
  <dcterms:modified xsi:type="dcterms:W3CDTF">2006-01-24T20:43:1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19759899</vt:r8>
  </property>
  <property fmtid="{D5CDD505-2E9C-101B-9397-08002B2CF9AE}" pid="3" name="_AuthorEmail">
    <vt:lpwstr>Duva.Clyburn@cms.hhs.gov</vt:lpwstr>
  </property>
  <property fmtid="{D5CDD505-2E9C-101B-9397-08002B2CF9AE}" pid="4" name="_AuthorEmailDisplayName">
    <vt:lpwstr>Clyburn, Duva L. (CMS/CBC)</vt:lpwstr>
  </property>
  <property fmtid="{D5CDD505-2E9C-101B-9397-08002B2CF9AE}" pid="5" name="_EmailSubject">
    <vt:lpwstr>Postings for the 1/31 broadcast</vt:lpwstr>
  </property>
  <property fmtid="{D5CDD505-2E9C-101B-9397-08002B2CF9AE}" pid="6" name="_NewReviewCycle">
    <vt:lpwstr/>
  </property>
</Properties>
</file>