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5A7A-8CA9-4C68-AFC8-5CF5ED1AA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C467-62ED-43A6-BB0C-58856FBCD5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5745-F331-4843-AC75-DFB1BB144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7914F-032B-46A7-83DA-BEDCA8F88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2677-2C70-4B4F-B38B-C6CD2E866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0D069-D1C2-4900-8A58-261F8549D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098E-EA71-4754-A8BF-AE5562D55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B620-7955-4F9F-BE01-423E22330F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39951-0BCC-42F9-984F-5BE75DEE8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1F09-5E52-40A7-8626-9AC0D9EC0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BE64-6456-4252-A360-D66BA61D7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F2AA0-D6E3-4A87-AF82-2B152580E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F89-27A1-4A64-86D7-95B83A44CF5E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ateway.cms.hhs.gov/" TargetMode="External"/><Relationship Id="rId2" Type="http://schemas.openxmlformats.org/officeDocument/2006/relationships/hyperlink" Target="https://gateway.cms.hhs.gov/" TargetMode="External"/><Relationship Id="rId3" Type="http://schemas.openxmlformats.org/officeDocument/2006/relationships/hyperlink" Target="http://32.91.239.68/" TargetMode="External"/><Relationship Id="rId4" Type="http://schemas.openxmlformats.org/officeDocument/2006/relationships/hyperlink" Target="http://32.91.239.68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imothy.Hoogerwerf@cms.hhs.gov" TargetMode="External"/><Relationship Id="rId2" Type="http://schemas.openxmlformats.org/officeDocument/2006/relationships/hyperlink" Target="mailto:Gregory.Buglio@cms.hhs.gov" TargetMode="External"/><Relationship Id="rId3" Type="http://schemas.openxmlformats.org/officeDocument/2006/relationships/hyperlink" Target="mailto:Neetu.Jhagwani@cms.hhs.go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Activities for CY 2007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 and PDP organizations will use HPMS to: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and maintain contract and plan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formulary sub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the BPT and PB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bid data sub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iew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dicare &amp; 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ndbook and Medicare Personal Plan Finder data prior to pub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 marketing, reporting, and oversight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 data views, extracts, and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494B-58C9-4373-99E2-6D99628D06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Acces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PMS is a web-enabled Extranet application that resides within the Medicare Data Communications Network (MDCN).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PMS requires a CMS user ID/password and the Microsoft Internet Explorer web browser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E98A-E894-49C5-882A-D177F10462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Connectivity Option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alternatives for accessing HPM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et access via a Secure Socket Layer Virtual Private Network (SSL VPN) using your corporate Internet Service Provider (ISP)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2"/>
              </a:rPr>
              <a:t>gateway.cms.hhs.go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-1 lease line access via AT&amp;T Global Network Services (AGNS)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3"/>
              </a:rPr>
              <a:t>http://32.91.239.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l-up access via AGNS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4"/>
              </a:rPr>
              <a:t>http://32.91.239.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3E2CF-FBDE-4E42-9952-B5367CCF6F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HPMS Contact List</a:t>
            </a:r>
            <a:endParaRPr b="1" lang="en-US" sz="20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600200"/>
          <a:ext cx="7924680" cy="4572000"/>
        </p:xfrm>
        <a:graphic>
          <a:graphicData uri="http://schemas.openxmlformats.org/drawingml/2006/table">
            <a:tbl>
              <a:tblPr/>
              <a:tblGrid>
                <a:gridCol w="1455120"/>
                <a:gridCol w="2750040"/>
                <a:gridCol w="37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hone Number / E-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sponsib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i Robin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0-786-1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i.Robinson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rector, Division of Health Plan and Provider Data (DHPP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ristin Fi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2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ristin.Finch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bid and formulary submissions, including BPT and PBP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im Hoogerwe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1"/>
                        </a:rPr>
                        <a:t>Timothy.Hoogerwerf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online application, marketing, MA plan monitoring, and 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g B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6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Gregory.Buglio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s analyst for online application, surveys, performance assessment, and Part D overs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n Freebur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4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n.Freeburger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HPMS connectivity, user access, and user 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eetu Jhagw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2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Neetu.Jhagwani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HPMS user access and user 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PMS Help De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-800-220-2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port for all HPMS technical 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76C3D-5F78-4064-BC30-49E824AE7F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3T20:04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5173271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