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4798-F773-4E13-A94D-2A57E2BF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674-E7F1-4C11-A825-25B6DE19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32F-D4F7-4AF0-B0E9-F287F4E6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7A1-57A9-40B5-A506-13CC8700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43B-44A3-4929-BC80-3D1EB6CE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560-3D3B-4E21-AF64-B52AF7A9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A16-1D23-4BA7-8080-0FA5E085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5214-8BB5-48E0-B791-ADED3418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F2C-D1CC-46B2-A3DE-8F7FFD9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EAA2-80B2-45C8-939A-952B3A63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B80-FFE0-48A1-9352-1B6F17DD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C43-3829-43F2-BC87-01A630D7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A528-6A01-4474-B5EB-C419BD7C8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savings Accou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entitled to Part A and enrolled in Part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savings Accou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rovide reimbursement for at l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riginal FFS Medicare-covered items and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deductible for 2006 is $8,8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% reimbur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savings Accou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able expenses = lesser of actual costs for a service or all the  amou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6:54:09Z</dcterms:created>
  <dc:creator>CMS</dc:creator>
  <dc:description/>
  <dc:language>en-US</dc:language>
  <cp:lastModifiedBy>CMS</cp:lastModifiedBy>
  <dcterms:modified xsi:type="dcterms:W3CDTF">2006-01-18T17:03:47Z</dcterms:modified>
  <cp:revision>2</cp:revision>
  <dc:subject/>
  <dc:title>Medical savings Accou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9640385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