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7E8B8-6B7B-4726-A397-5B758537BB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7F158-A27C-47C1-9D6E-6CF96E7763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B2FAC-0104-4545-9CBB-024F6D463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B28A-9593-4685-B7BD-A95A92892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960F0-0C35-4879-AFAB-C80CE389F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F2740-C381-42F1-9D8A-097A7EDA0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90244-B8D9-4364-8574-C403E5B48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FA439-32C7-42C3-BCDC-A19BFE0E2D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D1706-FD93-4023-865F-28F549F58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86BB8-07E2-4B38-A388-77A1526B1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26726-4BF2-4931-8A63-09D3D5876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DF816-7BF6-4529-B90C-730B1F790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rds.yahoo.com/S=96062857/K=medical/v=2/SID=e/l=II/R=397/SS=i/OID=68c644398765b1b0/SIG=1hr2p4h9p/EXP=1104428561/*-http%3A//images.search.yahoo.com/search/images/view?back=http%3A%2F%2Fimages.search.yahoo.com%2Fsearch%2Fimages%3Fp%3Dmedical%26toggle%3D1%26ei%3DUTF-8%26imgsz%3Dall%26fr%3DFP-tab-img-t-192%26b%3D381&amp;h=193&amp;w=206&amp;imgcurl=www.workpartners.com%2Fimages%2Fphoto-medical-services.jpg&amp;imgurl=www.workpartners.com%2Fimages%2Fphoto-medical-services.jpg&amp;size=11.0kB&amp;name=photo-medical-services.jpg&amp;rcurl=http%3A%2F%2Fwww.workpartners.com%2Fmedical-services.htm&amp;rurl=http%3A%2F%2Fwww.workpartners.com%2Fmedical-services.htm&amp;p=medical&amp;type=jpeg&amp;no=397&amp;tt=1,483,666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448080" y="63435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933960" y="634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744E-F92E-41E7-9AFD-EFB3848DBEDC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86080" y="1219320"/>
            <a:ext cx="727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228600"/>
            <a:ext cx="73152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37160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295280"/>
            <a:ext cx="0" cy="45720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09480"/>
            <a:ext cx="137160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3716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6720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6320" y="434880"/>
            <a:ext cx="1066680" cy="32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3200400"/>
            <a:ext cx="7238880" cy="1981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92a7d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1752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738fc6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3348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676520"/>
            <a:ext cx="60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18148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160" y="5638680"/>
            <a:ext cx="1714320" cy="766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181480"/>
            <a:ext cx="5105520" cy="1371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5181480"/>
            <a:ext cx="213336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464832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HHS bird logo"/>
          <p:cNvPicPr/>
          <p:nvPr/>
        </p:nvPicPr>
        <p:blipFill>
          <a:blip r:embed="rId6"/>
          <a:stretch/>
        </p:blipFill>
        <p:spPr>
          <a:xfrm>
            <a:off x="8477280" y="5829480"/>
            <a:ext cx="51444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Documentation for provider contracts</a:t>
            </a: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lete "Provider Arrangements" Table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py of contract(s) and/or agreement(s)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gnature pages and listing of contracted providers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B3354-6C5F-44E0-99C2-D4647F91AC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Clarification of quality review: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duct quality internal review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D46CC-4BF2-45DB-B200-6C7067B6AB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Claims Processing: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scribe the claims processing workflow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. Provide a list of all claim denial code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. MA organization’s ability to document interest payment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2D053-D03A-4771-9178-04F9A80C46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For non-network PFFS applicants: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ssurance that organization can pay FFS claim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08D88-E373-423B-9D43-95D9EE478F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MEDICARE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END OF CHAPTER DOCUMENTATION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imbursement Grid quarterly update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aims system capabilities to pay claim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3E7FF-3DD0-4A1C-89A6-1B0723C60E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15:25:51Z</dcterms:created>
  <dc:creator>blebowitz</dc:creator>
  <dc:description/>
  <dc:language>en-US</dc:language>
  <cp:lastModifiedBy>CMS</cp:lastModifiedBy>
  <dcterms:modified xsi:type="dcterms:W3CDTF">2006-01-23T15:39:4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33877153</vt:r8>
  </property>
  <property fmtid="{D5CDD505-2E9C-101B-9397-08002B2CF9AE}" pid="3" name="_AuthorEmail">
    <vt:lpwstr>Duva.Clyburn@cms.hhs.gov</vt:lpwstr>
  </property>
  <property fmtid="{D5CDD505-2E9C-101B-9397-08002B2CF9AE}" pid="4" name="_AuthorEmailDisplayName">
    <vt:lpwstr>Clyburn, Duva L. (CMS/CBC)</vt:lpwstr>
  </property>
  <property fmtid="{D5CDD505-2E9C-101B-9397-08002B2CF9AE}" pid="5" name="_EmailSubject">
    <vt:lpwstr>Postings for the 1/31 broadcast</vt:lpwstr>
  </property>
  <property fmtid="{D5CDD505-2E9C-101B-9397-08002B2CF9AE}" pid="6" name="_NewReviewCycle">
    <vt:lpwstr/>
  </property>
</Properties>
</file>