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246C-C77E-4611-91D7-42119299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43C7-90C9-415B-A5AF-85792353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3650-A5EC-49AC-AE45-D95BCE2DD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DD02-4819-495C-97ED-949D84378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9E08-0B0F-4A5D-9D50-23C6CCB6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C2E8-B1BD-4D71-A835-601820B4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BA7-36C9-4C07-BA2D-78C04D33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22C-E9CE-41CD-88FA-9C53B943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FED7-D0DE-4E2C-A5DD-E1614C6B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CB3D-5DF4-4563-BD21-B519D306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786A-A2E8-4DF3-9791-EF393ECC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A794-0EC0-4225-8A76-1D3A43EA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F95C-3141-447E-8728-DAFE1FA9D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ms.hhs.gov/EmpGrpWWaivers/" TargetMode="External"/><Relationship Id="rId2" Type="http://schemas.openxmlformats.org/officeDocument/2006/relationships/hyperlink" Target="http://www.cms.hhs.gov/EmpGrpWWaivers/" TargetMode="External"/><Relationship Id="rId3" Type="http://schemas.openxmlformats.org/officeDocument/2006/relationships/hyperlink" Target="http://www.cms.hhs.gov/EmpGrpWWaivers/" TargetMode="External"/><Relationship Id="rId4" Type="http://schemas.openxmlformats.org/officeDocument/2006/relationships/hyperlink" Target="http://www.cms.hhs.gov/EmpGrpWWaivers/" TargetMode="External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ms.hhs.gov/EmpGrp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Waivers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4379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EmployerWaivers@cms.hhs.g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5:55:51Z</dcterms:created>
  <dc:creator>CMS</dc:creator>
  <dc:description/>
  <dc:language>en-US</dc:language>
  <cp:lastModifiedBy>CMS</cp:lastModifiedBy>
  <dcterms:modified xsi:type="dcterms:W3CDTF">2006-01-23T22:02:26Z</dcterms:modified>
  <cp:revision>2</cp:revision>
  <dc:subject/>
  <dc:title>http://www.cms.hhs.gov/EmpGrp Waivers/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12876303</vt:r8>
  </property>
  <property fmtid="{D5CDD505-2E9C-101B-9397-08002B2CF9AE}" pid="3" name="_AuthorEmail">
    <vt:lpwstr>Duva.Clyburn@cms.hhs.gov</vt:lpwstr>
  </property>
  <property fmtid="{D5CDD505-2E9C-101B-9397-08002B2CF9AE}" pid="4" name="_AuthorEmailDisplayName">
    <vt:lpwstr>Clyburn, Duva L. (CMS/CBC)</vt:lpwstr>
  </property>
  <property fmtid="{D5CDD505-2E9C-101B-9397-08002B2CF9AE}" pid="5" name="_EmailSubject">
    <vt:lpwstr>Postings for the 1/31 broadcast</vt:lpwstr>
  </property>
  <property fmtid="{D5CDD505-2E9C-101B-9397-08002B2CF9AE}" pid="6" name="_NewReviewCycle">
    <vt:lpwstr/>
  </property>
</Properties>
</file>