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8116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3"/>
          </p:nvPr>
        </p:nvSpPr>
        <p:spPr>
          <a:xfrm>
            <a:off x="3876480" y="0"/>
            <a:ext cx="298116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01600" y="6822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move the slide</a:t>
            </a:r>
            <a:endParaRPr b="1" lang="en-US" sz="3600" spc="-1" strike="noStrike">
              <a:solidFill>
                <a:srgbClr val="ffcc66"/>
              </a:solidFill>
              <a:latin typeface="Tahoma"/>
            </a:endParaRPr>
          </a:p>
        </p:txBody>
      </p:sp>
      <p:sp>
        <p:nvSpPr>
          <p:cNvPr id="102" name="PlaceHolder 4"/>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727840"/>
            <a:ext cx="2981160" cy="455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5"/>
          </p:nvPr>
        </p:nvSpPr>
        <p:spPr>
          <a:xfrm>
            <a:off x="3876480" y="8727840"/>
            <a:ext cx="298116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D4B6-806A-43FA-A770-A347DFC5D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76480" y="8727840"/>
            <a:ext cx="2981160" cy="455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2933-1827-421F-9E25-911D9D072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27840"/>
            <a:ext cx="2981160" cy="455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8116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76480" y="0"/>
            <a:ext cx="298116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28600" y="689040"/>
            <a:ext cx="4602240" cy="3451320"/>
          </a:xfrm>
          <a:prstGeom prst="rect">
            <a:avLst/>
          </a:prstGeom>
          <a:ln w="0">
            <a:noFill/>
          </a:ln>
        </p:spPr>
      </p:sp>
      <p:sp>
        <p:nvSpPr>
          <p:cNvPr id="128"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types of plans should be on the c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1600" y="682560"/>
            <a:ext cx="4654800" cy="3490920"/>
          </a:xfrm>
          <a:prstGeom prst="rect">
            <a:avLst/>
          </a:prstGeom>
          <a:ln w="0">
            <a:noFill/>
          </a:ln>
        </p:spPr>
      </p:sp>
      <p:sp>
        <p:nvSpPr>
          <p:cNvPr id="130"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plans to delay the implementation of the 101 model as we do not have a comprehensive and complete set of risk adjustment data, with the appropriate diagnoses for the 101 model, and impact analyses may misrepresent the potential financial impact on pla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that optimal analysis results would be based on CY 2005 diagnostic data, which will be available around April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1600" y="682560"/>
            <a:ext cx="4654800" cy="3490920"/>
          </a:xfrm>
          <a:prstGeom prst="rect">
            <a:avLst/>
          </a:prstGeom>
          <a:ln w="0">
            <a:noFill/>
          </a:ln>
        </p:spPr>
      </p:sp>
      <p:sp>
        <p:nvSpPr>
          <p:cNvPr id="132"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frailty adjustment is to predict the Medicare expenditures of community populations that are unexplained by risk adju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CMS implemented frailty adjustment for PACE organizations (and certain demonst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ilty model is based on beneficiaries’ ability to carry out six Activities of Daily Living (AD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ilty adjustment for these organizations is applied in conjunction with the CMS-HCC risk adjustment mod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1600" y="682560"/>
            <a:ext cx="4654800" cy="3490920"/>
          </a:xfrm>
          <a:prstGeom prst="rect">
            <a:avLst/>
          </a:prstGeom>
          <a:ln w="0">
            <a:noFill/>
          </a:ln>
        </p:spPr>
      </p:sp>
      <p:sp>
        <p:nvSpPr>
          <p:cNvPr id="134"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u="sng">
                <a:solidFill>
                  <a:srgbClr val="000000"/>
                </a:solidFill>
                <a:uFillTx/>
                <a:latin typeface="Times New Roman"/>
              </a:rPr>
              <a:t>Claims data for development of frailty fact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respondent to the survey, the 2004 Medicare Health Survey frailty data must be linked to 2005 claims data.  Because complete 2005 FFS claims data will not be available until well into 2006, we expect this model will not be ready until 2007 for 2008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u="sng">
                <a:solidFill>
                  <a:srgbClr val="000000"/>
                </a:solidFill>
                <a:uFillTx/>
                <a:latin typeface="Times New Roman"/>
              </a:rPr>
              <a:t>  Restandardizing the MA capitation r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pply frailty adjustment program-wide, we must re-standardize the MA county rates with an average frailty factor for the geographic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u="sng">
                <a:solidFill>
                  <a:srgbClr val="000000"/>
                </a:solidFill>
                <a:uFillTx/>
                <a:latin typeface="Times New Roman"/>
              </a:rPr>
              <a:t>Getting frailty data on a representative sample of all types of enrollees in an MA organization.</a:t>
            </a:r>
            <a:r>
              <a:rPr b="0" lang="en-US" sz="1200" spc="-1" strike="noStrike">
                <a:solidFill>
                  <a:srgbClr val="000000"/>
                </a:solidFill>
                <a:latin typeface="Times New Roman"/>
              </a:rPr>
              <a:t> We need to determine what impact, if any, the exclusion of PFFS plan enrollees from the HOS survey will have on MA organizations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lan to continue development of frailty model for implementation in the future, but not in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1A1669-AC01-4478-98DC-01218C756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6"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7"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0E13BD-33D7-4117-B0E0-BB87E39D0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9"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1"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2"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D7BE5C-A946-4C37-B811-7D7380F98E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44"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5"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6"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7"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8"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9"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4C7919-791A-42C6-B3F3-E3046F51AD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3"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5"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7"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8"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3"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5"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B53820-FFEE-4255-A6D4-9F7405B59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6"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7"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8"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0"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1"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2"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4"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5"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7"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8"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9"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0"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92"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3"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4"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5"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6"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7"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7"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0EC013-3A86-4E87-905C-48B00D1596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9"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834267-3723-4A71-9890-051D8D8C9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A2DF7-4497-4175-A3A3-3404369D1D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2F4522-BE7C-4BE5-A71C-076567A371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4"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5"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6"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EABF72-3B32-492C-A8FB-E7476EAB5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8"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9"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0"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F92A3F-C274-4B22-9244-3C2BF1C90F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3"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4"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B8A36-25C6-44A9-907A-858BF2DC56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hyperlink" Target="http://rds.yahoo.com/S=96062857/K=medical/v=2/SID=e/l=II/R=397/SS=i/OID=68c644398765b1b0/SIG=1hr2p4h9p/EXP=1104428561/*-http%3A//images.search.yahoo.com/search/images/view?back=http%3A%2F%2Fimages.search.yahoo.com%2Fsearch%2Fimages%3Fp%3Dmedical%26toggle%3D1%26ei%3DUTF-8%26imgsz%3Dall%26fr%3DFP-tab-img-t-192%26b%3D381&amp;h=193&amp;w=206&amp;imgcurl=www.workpartners.com%2Fimages%2Fphoto-medical-services.jpg&amp;imgurl=www.workpartners.com%2Fimages%2Fphoto-medical-services.jpg&amp;size=11.0kB&amp;name=photo-medical-services.jpg&amp;rcurl=http%3A%2F%2Fwww.workpartners.com%2Fmedical-services.htm&amp;rurl=http%3A%2F%2Fwww.workpartners.com%2Fmedical-services.htm&amp;p=medical&amp;type=jpeg&amp;no=397&amp;tt=1,483,666"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rd Outline Level</a:t>
            </a:r>
            <a:endParaRPr b="1"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rth Outline Level</a:t>
            </a:r>
            <a:endParaRPr b="1"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fth Outline Level</a:t>
            </a:r>
            <a:endParaRPr b="1"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th Outline Level</a:t>
            </a:r>
            <a:endParaRPr b="1"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venth Outline Level</a:t>
            </a:r>
            <a:endParaRPr b="1" lang="en-US" sz="2800" spc="-1" strike="noStrike">
              <a:solidFill>
                <a:srgbClr val="ffffff"/>
              </a:solidFill>
              <a:latin typeface="Tahoma"/>
            </a:endParaRPr>
          </a:p>
        </p:txBody>
      </p:sp>
      <p:sp>
        <p:nvSpPr>
          <p:cNvPr id="2" name="PlaceHolder 2"/>
          <p:cNvSpPr>
            <a:spLocks noGrp="1"/>
          </p:cNvSpPr>
          <p:nvPr>
            <p:ph type="ftr" idx="1"/>
          </p:nvPr>
        </p:nvSpPr>
        <p:spPr>
          <a:xfrm>
            <a:off x="3448080" y="6343560"/>
            <a:ext cx="3448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933960" y="6343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7891-E5F8-426D-BFCA-AEFA134B6FA2}" type="slidenum">
              <a:rPr b="0" lang="en-US" sz="900" spc="-1" strike="noStrike">
                <a:solidFill>
                  <a:srgbClr val="ffffff"/>
                </a:solidFill>
                <a:latin typeface="Tahoma"/>
              </a:rPr>
              <a:t>&lt;number&gt;</a:t>
            </a:fld>
            <a:endParaRPr b="0" lang="en-US" sz="900" spc="-1" strike="noStrike">
              <a:solidFill>
                <a:srgbClr val="000000"/>
              </a:solidFill>
              <a:latin typeface="Times New Roman"/>
            </a:endParaRPr>
          </a:p>
        </p:txBody>
      </p:sp>
      <p:sp>
        <p:nvSpPr>
          <p:cNvPr id="4" name=""/>
          <p:cNvSpPr/>
          <p:nvPr/>
        </p:nvSpPr>
        <p:spPr>
          <a:xfrm>
            <a:off x="1486080" y="1219320"/>
            <a:ext cx="727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447920" y="228600"/>
            <a:ext cx="7315200" cy="100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7" name=""/>
          <p:cNvSpPr/>
          <p:nvPr/>
        </p:nvSpPr>
        <p:spPr>
          <a:xfrm>
            <a:off x="304920" y="137160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52280" y="1295280"/>
            <a:ext cx="0" cy="45720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09480"/>
            <a:ext cx="1371600" cy="6098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0"/>
            <a:ext cx="1371600" cy="6094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67200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 name="" descr=""/>
          <p:cNvPicPr/>
          <p:nvPr/>
        </p:nvPicPr>
        <p:blipFill>
          <a:blip r:embed="rId2"/>
          <a:stretch/>
        </p:blipFill>
        <p:spPr>
          <a:xfrm>
            <a:off x="76320" y="434880"/>
            <a:ext cx="1066680" cy="327240"/>
          </a:xfrm>
          <a:prstGeom prst="rect">
            <a:avLst/>
          </a:prstGeom>
          <a:ln w="0">
            <a:noFill/>
          </a:ln>
        </p:spPr>
      </p:pic>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05120" y="3200400"/>
            <a:ext cx="7238880" cy="1981080"/>
          </a:xfrm>
          <a:prstGeom prst="rect">
            <a:avLst/>
          </a:prstGeom>
          <a:gradFill rotWithShape="0">
            <a:gsLst>
              <a:gs pos="0">
                <a:srgbClr val="003399"/>
              </a:gs>
              <a:gs pos="100000">
                <a:srgbClr val="92a7d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1447920"/>
            <a:ext cx="9144000" cy="1752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1447920"/>
          </a:xfrm>
          <a:prstGeom prst="rect">
            <a:avLst/>
          </a:prstGeom>
          <a:gradFill rotWithShape="0">
            <a:gsLst>
              <a:gs pos="0">
                <a:srgbClr val="738fc6"/>
              </a:gs>
              <a:gs pos="100000">
                <a:srgbClr val="00339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3200400"/>
            <a:ext cx="1905120" cy="1981080"/>
          </a:xfrm>
          <a:prstGeom prst="rect">
            <a:avLst/>
          </a:prstGeom>
          <a:ln w="0">
            <a:noFill/>
          </a:ln>
        </p:spPr>
      </p:pic>
      <p:sp>
        <p:nvSpPr>
          <p:cNvPr id="54" name=""/>
          <p:cNvSpPr/>
          <p:nvPr/>
        </p:nvSpPr>
        <p:spPr>
          <a:xfrm>
            <a:off x="1295280" y="1447920"/>
            <a:ext cx="7010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Medicare Advantag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Part C Topics for CY 2008</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December 18, 2006</a:t>
            </a:r>
            <a:endParaRPr b="0" lang="en-US" sz="3600" spc="-1" strike="noStrike">
              <a:solidFill>
                <a:srgbClr val="000000"/>
              </a:solidFill>
              <a:latin typeface="Times New Roman"/>
            </a:endParaRPr>
          </a:p>
        </p:txBody>
      </p:sp>
      <p:sp>
        <p:nvSpPr>
          <p:cNvPr id="55" name=""/>
          <p:cNvSpPr/>
          <p:nvPr/>
        </p:nvSpPr>
        <p:spPr>
          <a:xfrm>
            <a:off x="0" y="5181480"/>
            <a:ext cx="27432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38160" y="5638680"/>
            <a:ext cx="1714320" cy="766800"/>
          </a:xfrm>
          <a:prstGeom prst="rect">
            <a:avLst/>
          </a:prstGeom>
          <a:ln w="0">
            <a:noFill/>
          </a:ln>
        </p:spPr>
      </p:pic>
      <p:sp>
        <p:nvSpPr>
          <p:cNvPr id="57" name=""/>
          <p:cNvSpPr/>
          <p:nvPr/>
        </p:nvSpPr>
        <p:spPr>
          <a:xfrm>
            <a:off x="4038480" y="5181480"/>
            <a:ext cx="5105520" cy="137160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Go to fullsize image">
            <a:hlinkClick r:id="rId4"/>
          </p:cNvPr>
          <p:cNvPicPr/>
          <p:nvPr/>
        </p:nvPicPr>
        <p:blipFill>
          <a:blip r:embed="rId5"/>
          <a:stretch/>
        </p:blipFill>
        <p:spPr>
          <a:xfrm>
            <a:off x="1905120" y="5181480"/>
            <a:ext cx="2133360" cy="1676520"/>
          </a:xfrm>
          <a:prstGeom prst="rect">
            <a:avLst/>
          </a:prstGeom>
          <a:ln w="0">
            <a:noFill/>
          </a:ln>
        </p:spPr>
      </p:pic>
      <p:pic>
        <p:nvPicPr>
          <p:cNvPr id="59" name="" descr="HHS bird logo"/>
          <p:cNvPicPr/>
          <p:nvPr/>
        </p:nvPicPr>
        <p:blipFill>
          <a:blip r:embed="rId6"/>
          <a:stretch/>
        </p:blipFill>
        <p:spPr>
          <a:xfrm>
            <a:off x="8477280" y="5829480"/>
            <a:ext cx="514440" cy="571320"/>
          </a:xfrm>
          <a:prstGeom prst="rect">
            <a:avLst/>
          </a:prstGeom>
          <a:ln w="0">
            <a:noFill/>
          </a:ln>
        </p:spPr>
      </p:pic>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00"/>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fth Outline Level</a:t>
            </a:r>
            <a:endParaRPr b="0" lang="en-US" sz="1600" spc="-1" strike="noStrike">
              <a:solidFill>
                <a:srgbClr val="ffffff"/>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xth Outline Level</a:t>
            </a:r>
            <a:endParaRPr b="0" lang="en-US" sz="1600" spc="-1" strike="noStrike">
              <a:solidFill>
                <a:srgbClr val="ffffff"/>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venth Outline Level</a:t>
            </a:r>
            <a:endParaRPr b="0"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ontact Information</a:t>
            </a:r>
            <a:endParaRPr b="1" lang="en-US" sz="3600" spc="-1" strike="noStrike">
              <a:solidFill>
                <a:srgbClr val="ffcc66"/>
              </a:solidFill>
              <a:latin typeface="Tahoma"/>
            </a:endParaRPr>
          </a:p>
        </p:txBody>
      </p:sp>
      <p:sp>
        <p:nvSpPr>
          <p:cNvPr id="122" name="PlaceHolder 2"/>
          <p:cNvSpPr>
            <a:spLocks noGrp="1"/>
          </p:cNvSpPr>
          <p:nvPr>
            <p:ph/>
          </p:nvPr>
        </p:nvSpPr>
        <p:spPr>
          <a:xfrm>
            <a:off x="914040" y="1600200"/>
            <a:ext cx="76201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eri Rice</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ri.Rice@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an Creighton</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n.Creighton@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l Mussey</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omon.Mussey@cms.hhs.cm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1EA10A14-4F6C-45FE-92BB-7A4720F8F84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Purpose of Industry Call</a:t>
            </a:r>
            <a:endParaRPr b="1" lang="en-US" sz="3600" spc="-1" strike="noStrike">
              <a:solidFill>
                <a:srgbClr val="ffcc66"/>
              </a:solidFill>
              <a:latin typeface="Tahoma"/>
            </a:endParaRPr>
          </a:p>
        </p:txBody>
      </p:sp>
      <p:sp>
        <p:nvSpPr>
          <p:cNvPr id="106"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vide update on the status of 4 Part C payments topics, in preparation for CMS’ publication of the Advance Notice and Rate Announcement for CY 2008.</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basing</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calibration of Aged/Disabled CMS-HCC Model</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railty Adjustmen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 Coding Intensity Adjustment</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swer questions related to these topic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D211C904-5C40-4E4B-8972-87484DA440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Goals for 2008 MA Payments</a:t>
            </a:r>
            <a:endParaRPr b="1" lang="en-US" sz="3600" spc="-1" strike="noStrike">
              <a:solidFill>
                <a:srgbClr val="ffcc66"/>
              </a:solidFill>
              <a:latin typeface="Tahoma"/>
            </a:endParaRPr>
          </a:p>
        </p:txBody>
      </p:sp>
      <p:sp>
        <p:nvSpPr>
          <p:cNvPr id="108"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CY 2008, continued emphasis on stability and predictability.</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inued effort for transparency on MA rate-setting and risk adjustment methodology.</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t of larger program strategy: government as predictable business partner.</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E1BF89A6-97E1-4FBB-89BE-EF279D2A67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Rebasing FFS Rates</a:t>
            </a:r>
            <a:endParaRPr b="1" lang="en-US" sz="3600" spc="-1" strike="noStrike">
              <a:solidFill>
                <a:srgbClr val="ffcc66"/>
              </a:solidFill>
              <a:latin typeface="Tahoma"/>
            </a:endParaRPr>
          </a:p>
        </p:txBody>
      </p:sp>
      <p:sp>
        <p:nvSpPr>
          <p:cNvPr id="110" name="PlaceHolder 2"/>
          <p:cNvSpPr>
            <a:spLocks noGrp="1"/>
          </p:cNvSpPr>
          <p:nvPr>
            <p:ph/>
          </p:nvPr>
        </p:nvSpPr>
        <p:spPr>
          <a:xfrm>
            <a:off x="914040" y="1219320"/>
            <a:ext cx="79246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y law, CMS must rebase (recalculate with more recent data) the FFS capitation rates at least every 3 year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rebased the FFS rates for CY 200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 Advance Notice for CY 2008, CMS will propose that the FFS rates not be rebased.</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basing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59969305-8E2D-459C-82AD-BF06E73F4E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ffcc66"/>
                </a:solidFill>
                <a:latin typeface="Tahoma"/>
              </a:rPr>
              <a:t>CMS-HCC Model</a:t>
            </a:r>
            <a:br>
              <a:rPr sz="3200"/>
            </a:br>
            <a:endParaRPr b="1" lang="en-US" sz="3600" spc="-1" strike="noStrike">
              <a:solidFill>
                <a:srgbClr val="ffcc66"/>
              </a:solidFill>
              <a:latin typeface="Tahoma"/>
            </a:endParaRPr>
          </a:p>
        </p:txBody>
      </p:sp>
      <p:sp>
        <p:nvSpPr>
          <p:cNvPr id="112" name="PlaceHolder 2"/>
          <p:cNvSpPr>
            <a:spLocks noGrp="1"/>
          </p:cNvSpPr>
          <p:nvPr>
            <p:ph/>
          </p:nvPr>
        </p:nvSpPr>
        <p:spPr>
          <a:xfrm>
            <a:off x="533160" y="1219320"/>
            <a:ext cx="8305560" cy="533376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intend to retain for CY 2008 the 70-HCC CMS-HCC model for aged/disabled beneficiaries currently in use.</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will propose to not recalibrate the CMS-HCC model for aged/disabled beneficiaries for 2008. The model was recalibrated for CY 2007.</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calibration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48154D4C-E78C-4FCC-83FF-81DB210CE8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4" name="PlaceHolder 2"/>
          <p:cNvSpPr>
            <a:spLocks noGrp="1"/>
          </p:cNvSpPr>
          <p:nvPr>
            <p:ph/>
          </p:nvPr>
        </p:nvSpPr>
        <p:spPr>
          <a:xfrm>
            <a:off x="60948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mplemented as an element of risk adjustment in 2004 for PACE organizations and certain demonstration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rrent frailty factors (in use 2004-2007) are based on Medicare Current Beneficiary Survey (MCBS) data from 1994 to 199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is calculating updated frailty factors using CAPHS survey data linked to Medicare claims data (2003-2004).</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8011FC40-DB75-4FC6-A697-AEDD6AA6D9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6" name="PlaceHolder 2"/>
          <p:cNvSpPr>
            <a:spLocks noGrp="1"/>
          </p:cNvSpPr>
          <p:nvPr>
            <p:ph/>
          </p:nvPr>
        </p:nvSpPr>
        <p:spPr>
          <a:xfrm>
            <a:off x="533160" y="1295280"/>
            <a:ext cx="830556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ssues to be decided for CY 2008:</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Use updated factors or continue with current factors.</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updated factors are adopted, which plan types would receive these factors?</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MA plans and PACE organiz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onl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and certain demonstrations</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953CD44D-D115-47D9-8FBA-04058651ED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MA Coding Intensity</a:t>
            </a:r>
            <a:endParaRPr b="1" lang="en-US" sz="3600" spc="-1" strike="noStrike">
              <a:solidFill>
                <a:srgbClr val="ffcc66"/>
              </a:solidFill>
              <a:latin typeface="Tahoma"/>
            </a:endParaRPr>
          </a:p>
        </p:txBody>
      </p:sp>
      <p:sp>
        <p:nvSpPr>
          <p:cNvPr id="118" name="PlaceHolder 2"/>
          <p:cNvSpPr>
            <a:spLocks noGrp="1"/>
          </p:cNvSpPr>
          <p:nvPr>
            <p:ph/>
          </p:nvPr>
        </p:nvSpPr>
        <p:spPr>
          <a:xfrm>
            <a:off x="685800" y="1295280"/>
            <a:ext cx="81532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DRA requires the Secretary to analyze the differences in coding patterns between MA and FFS.</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 the extent that such differences are identified, the Secretary is to make adjustments to payment through the risk scores. </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MS is developing ways to measure these differences.</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too soon to say what the results will look like.</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F989DA2A-7141-4784-A8B2-0CC2D875F4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Next Steps</a:t>
            </a:r>
            <a:endParaRPr b="1" lang="en-US" sz="3600" spc="-1" strike="noStrike">
              <a:solidFill>
                <a:srgbClr val="ffcc66"/>
              </a:solidFill>
              <a:latin typeface="Tahoma"/>
            </a:endParaRPr>
          </a:p>
        </p:txBody>
      </p:sp>
      <p:sp>
        <p:nvSpPr>
          <p:cNvPr id="120"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ll schedule another call with plans in January 2007. </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Advance Notice for 2008 will be published on February 16, 2007 followed by a two week public comment period.</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C9567E2A-219B-4A77-BBF7-3AADED3A1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0T15:25:51Z</dcterms:created>
  <dc:creator>blebowitz</dc:creator>
  <dc:description/>
  <dc:language>en-US</dc:language>
  <cp:lastModifiedBy>Anne Hornsby</cp:lastModifiedBy>
  <dcterms:modified xsi:type="dcterms:W3CDTF">2006-12-15T20:18:40Z</dcterms:modified>
  <cp:revision>1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4523642</vt:r8>
  </property>
  <property fmtid="{D5CDD505-2E9C-101B-9397-08002B2CF9AE}" pid="3" name="_AuthorEmail">
    <vt:lpwstr>Ana.Nunez-Poole@cms.hhs.gov</vt:lpwstr>
  </property>
  <property fmtid="{D5CDD505-2E9C-101B-9397-08002B2CF9AE}" pid="4" name="_AuthorEmailDisplayName">
    <vt:lpwstr>Nunez-Poole, Ana M. (CMS/CBC)</vt:lpwstr>
  </property>
  <property fmtid="{D5CDD505-2E9C-101B-9397-08002B2CF9AE}" pid="5" name="_EmailSubject">
    <vt:lpwstr>HIGH PRIORITY - HPMS E-Mail and Homepage Update </vt:lpwstr>
  </property>
  <property fmtid="{D5CDD505-2E9C-101B-9397-08002B2CF9AE}" pid="6" name="_NewReviewCycle">
    <vt:lpwstr/>
  </property>
  <property fmtid="{D5CDD505-2E9C-101B-9397-08002B2CF9AE}" pid="7" name="_PreviousAdHocReviewCycleID">
    <vt:r8>-137165467</vt:r8>
  </property>
</Properties>
</file>