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8"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39" name="PlaceHolder 2"/>
          <p:cNvSpPr>
            <a:spLocks noGrp="1"/>
          </p:cNvSpPr>
          <p:nvPr>
            <p:ph type="dt" idx="61"/>
          </p:nvPr>
        </p:nvSpPr>
        <p:spPr>
          <a:xfrm>
            <a:off x="3884400" y="0"/>
            <a:ext cx="297180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Calibri"/>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40" name="PlaceHolder 3"/>
          <p:cNvSpPr>
            <a:spLocks noGrp="1"/>
          </p:cNvSpPr>
          <p:nvPr>
            <p:ph type="sldImg"/>
          </p:nvPr>
        </p:nvSpPr>
        <p:spPr>
          <a:xfrm>
            <a:off x="1106280" y="696960"/>
            <a:ext cx="464796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move the slide</a:t>
            </a:r>
            <a:endParaRPr b="1" lang="en-US" sz="4100" spc="-1" strike="noStrike">
              <a:solidFill>
                <a:srgbClr val="1f497d"/>
              </a:solidFill>
              <a:latin typeface="Verdana"/>
            </a:endParaRPr>
          </a:p>
        </p:txBody>
      </p:sp>
      <p:sp>
        <p:nvSpPr>
          <p:cNvPr id="841" name="PlaceHolder 4"/>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2" name="PlaceHolder 5"/>
          <p:cNvSpPr>
            <a:spLocks noGrp="1"/>
          </p:cNvSpPr>
          <p:nvPr>
            <p:ph type="ftr" idx="62"/>
          </p:nvPr>
        </p:nvSpPr>
        <p:spPr>
          <a:xfrm>
            <a:off x="-360" y="8829720"/>
            <a:ext cx="29718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43" name="PlaceHolder 6"/>
          <p:cNvSpPr>
            <a:spLocks noGrp="1"/>
          </p:cNvSpPr>
          <p:nvPr>
            <p:ph type="sldNum" idx="63"/>
          </p:nvPr>
        </p:nvSpPr>
        <p:spPr>
          <a:xfrm>
            <a:off x="3884400" y="8829720"/>
            <a:ext cx="29718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Calibri"/>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EFB1C35-63BB-457E-AA7B-AE6E62D7E40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62C338B-9931-4BE5-A961-9D85C648B5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16" name="PlaceHolder 1"/>
          <p:cNvSpPr>
            <a:spLocks noGrp="1"/>
          </p:cNvSpPr>
          <p:nvPr>
            <p:ph type="sldImg"/>
          </p:nvPr>
        </p:nvSpPr>
        <p:spPr>
          <a:xfrm>
            <a:off x="1106640" y="696960"/>
            <a:ext cx="4647960" cy="3486240"/>
          </a:xfrm>
          <a:prstGeom prst="rect">
            <a:avLst/>
          </a:prstGeom>
          <a:ln w="0">
            <a:noFill/>
          </a:ln>
        </p:spPr>
      </p:sp>
      <p:sp>
        <p:nvSpPr>
          <p:cNvPr id="917"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ve from ICD-9 to ICD-10 is a significant change for State Medicaid Agencies.   It will take considerable effort for Medicaid, and every health plan and provider in the country, to successfully accomplish the transition.  However, there are considerable benefits to using the new code 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prepared a series of training sessions especially for State Medicaid agencies which provide key information about the ICD-10 code set, how to use it, how to benefit from it, and what the implementation steps are.  We hope to provide the information you need to effectively implement and to benefit from this major change to the coding of health care in the United St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12 Training Segments in the entire program.</a:t>
            </a:r>
            <a:endParaRPr b="0" lang="en-US" sz="1200" spc="-1" strike="noStrike">
              <a:solidFill>
                <a:srgbClr val="000000"/>
              </a:solidFill>
              <a:latin typeface="Calibri"/>
            </a:endParaRPr>
          </a:p>
        </p:txBody>
      </p:sp>
      <p:sp>
        <p:nvSpPr>
          <p:cNvPr id="91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CC121B1-0E95-4450-ACCC-D05D250BA3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15D548B-41C4-4AB2-8140-0F800EE0FC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50" name="PlaceHolder 1"/>
          <p:cNvSpPr>
            <a:spLocks noGrp="1"/>
          </p:cNvSpPr>
          <p:nvPr>
            <p:ph type="sldImg"/>
          </p:nvPr>
        </p:nvSpPr>
        <p:spPr>
          <a:xfrm>
            <a:off x="1106640" y="696960"/>
            <a:ext cx="4647960" cy="3486240"/>
          </a:xfrm>
          <a:prstGeom prst="rect">
            <a:avLst/>
          </a:prstGeom>
          <a:ln w="0">
            <a:noFill/>
          </a:ln>
        </p:spPr>
      </p:sp>
      <p:sp>
        <p:nvSpPr>
          <p:cNvPr id="951"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TA Level 5 focuses on utilization of data to make the Medicaid Enterprise most efficient and effective.  ICD-10 enables national and international interoperability because it is now the code set used by the rest of the world.  Medicaid members who receive care in Canada, Mexico, or other international locations can have clinical data from those countries returned to the Medicaid Enterprise to which they belong.  Program planning and evaluation use the detail from diagnoses to create optimal care for the most cost-effective price.</a:t>
            </a:r>
            <a:endParaRPr b="0" lang="en-US" sz="1200" spc="-1" strike="noStrike">
              <a:solidFill>
                <a:srgbClr val="000000"/>
              </a:solidFill>
              <a:latin typeface="Calibri"/>
            </a:endParaRPr>
          </a:p>
        </p:txBody>
      </p:sp>
      <p:sp>
        <p:nvSpPr>
          <p:cNvPr id="95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9910773-7D48-4230-8532-74CC20312C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9168C39-E66D-4EDC-B41E-B2DD953C83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54" name="PlaceHolder 1"/>
          <p:cNvSpPr>
            <a:spLocks noGrp="1"/>
          </p:cNvSpPr>
          <p:nvPr>
            <p:ph type="sldImg"/>
          </p:nvPr>
        </p:nvSpPr>
        <p:spPr>
          <a:xfrm>
            <a:off x="1106640" y="696960"/>
            <a:ext cx="4647960" cy="3486240"/>
          </a:xfrm>
          <a:prstGeom prst="rect">
            <a:avLst/>
          </a:prstGeom>
          <a:ln w="0">
            <a:noFill/>
          </a:ln>
        </p:spPr>
      </p:sp>
      <p:sp>
        <p:nvSpPr>
          <p:cNvPr id="95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gain the most value from the ICD-10 detail, all health care entities should maximize their ability to accept and process the codes and their respective meanings.  Crosswalks may enable the code to enter the system , but will lose the value because the relationship between ICD-9 and ICD-10 is not straightforward.  In one instance, one ICD-9 code maps to over  2,500 ICD-10 codes. (Non-union of a fracture = broken bone vs. exhaustive list of little toe, big nose: location of injury; repeat visit. Care management: pinky versus thigh bone.)   Such a crosswalk would be nearly impossible to map in and map out with accura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states have multiple systems to process transactions and maintain data for reporting.  It will be important to assure that the detail of ICD-10 is not lost in translation between multiple systems.  Data shared between trading partners, such as providers and vendors, will also be more valuable if maintained in their original state.</a:t>
            </a:r>
            <a:endParaRPr b="0" lang="en-US" sz="1200" spc="-1" strike="noStrike">
              <a:solidFill>
                <a:srgbClr val="000000"/>
              </a:solidFill>
              <a:latin typeface="Calibri"/>
            </a:endParaRPr>
          </a:p>
        </p:txBody>
      </p:sp>
      <p:sp>
        <p:nvSpPr>
          <p:cNvPr id="95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3E12BB5-D196-4EE4-A1F5-F78CFF2497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90D005F-23A6-4370-B25D-656719BDCC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58" name="PlaceHolder 1"/>
          <p:cNvSpPr>
            <a:spLocks noGrp="1"/>
          </p:cNvSpPr>
          <p:nvPr>
            <p:ph type="sldImg"/>
          </p:nvPr>
        </p:nvSpPr>
        <p:spPr>
          <a:xfrm>
            <a:off x="1106640" y="696960"/>
            <a:ext cx="4647960" cy="3486240"/>
          </a:xfrm>
          <a:prstGeom prst="rect">
            <a:avLst/>
          </a:prstGeom>
          <a:ln w="0">
            <a:noFill/>
          </a:ln>
        </p:spPr>
      </p:sp>
      <p:sp>
        <p:nvSpPr>
          <p:cNvPr id="959"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CD-10 provides the capability to have extremely detailed data available as a communication between providers, health plans, vendors, contractors, etc., for use in managing the Medicaid program.  Additionally, such data can be used to limit the program liability by improved coordination of benefits.  As data is used for administrative and payment purposes, it can be easily retrieved for program management and care management activities.</a:t>
            </a:r>
            <a:endParaRPr b="0" lang="en-US" sz="1200" spc="-1" strike="noStrike">
              <a:solidFill>
                <a:srgbClr val="000000"/>
              </a:solidFill>
              <a:latin typeface="Calibri"/>
            </a:endParaRPr>
          </a:p>
        </p:txBody>
      </p:sp>
      <p:sp>
        <p:nvSpPr>
          <p:cNvPr id="96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AA8B158-E0DE-4955-B969-22A074111A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38F8966-4CFB-4088-8BF1-9748B247D0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62" name="PlaceHolder 1"/>
          <p:cNvSpPr>
            <a:spLocks noGrp="1"/>
          </p:cNvSpPr>
          <p:nvPr>
            <p:ph type="sldImg"/>
          </p:nvPr>
        </p:nvSpPr>
        <p:spPr>
          <a:xfrm>
            <a:off x="1106640" y="696960"/>
            <a:ext cx="4647960" cy="3486240"/>
          </a:xfrm>
          <a:prstGeom prst="rect">
            <a:avLst/>
          </a:prstGeom>
          <a:ln w="0">
            <a:noFill/>
          </a:ln>
        </p:spPr>
      </p:sp>
      <p:sp>
        <p:nvSpPr>
          <p:cNvPr id="963"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CD-10 is an integral part of meeting the goals and maturity capabilities of the MITA structure.  Business processes will improve when Medicaid Enterprises make the most effective use of the increased detail in ICD-10.  Interoperability and clinical data enable a more client-centric Medicaid program that improves care while managing costs effectiv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0747FCE-9240-46AF-8AA7-0F75626B37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C928EED-F850-4928-A25C-1DD2484978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20" name="PlaceHolder 1"/>
          <p:cNvSpPr>
            <a:spLocks noGrp="1"/>
          </p:cNvSpPr>
          <p:nvPr>
            <p:ph type="sldImg"/>
          </p:nvPr>
        </p:nvSpPr>
        <p:spPr>
          <a:xfrm>
            <a:off x="1106640" y="696960"/>
            <a:ext cx="4647960" cy="3486240"/>
          </a:xfrm>
          <a:prstGeom prst="rect">
            <a:avLst/>
          </a:prstGeom>
          <a:ln w="0">
            <a:noFill/>
          </a:ln>
        </p:spPr>
      </p:sp>
      <p:sp>
        <p:nvSpPr>
          <p:cNvPr id="921"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Segment 4, in which we will focus on how ICD-10 can enable states to make progress toward the MITA goals established for maturity model Levels  4 and 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215B116-7ABB-4A8A-B2BC-6B9A3BBA15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23" name="PlaceHolder 1"/>
          <p:cNvSpPr>
            <a:spLocks noGrp="1"/>
          </p:cNvSpPr>
          <p:nvPr>
            <p:ph type="sldImg"/>
          </p:nvPr>
        </p:nvSpPr>
        <p:spPr>
          <a:xfrm>
            <a:off x="1106640" y="696960"/>
            <a:ext cx="4647960" cy="3486240"/>
          </a:xfrm>
          <a:prstGeom prst="rect">
            <a:avLst/>
          </a:prstGeom>
          <a:ln w="0">
            <a:noFill/>
          </a:ln>
        </p:spPr>
      </p:sp>
      <p:sp>
        <p:nvSpPr>
          <p:cNvPr id="924"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clear that the MITA mission determines to have technology support the business processes that improve program administration for Medicaid.  A significant portion of that support involves the use of standard transactions, interfaces, and terminology that enables Medicaid agencies to communicate effectively with other healthcare partners –  this is what we call “interoperability.”  </a:t>
            </a:r>
            <a:endParaRPr b="0" lang="en-US" sz="1200" spc="-1" strike="noStrike">
              <a:solidFill>
                <a:srgbClr val="000000"/>
              </a:solidFill>
              <a:latin typeface="Calibri"/>
            </a:endParaRPr>
          </a:p>
        </p:txBody>
      </p:sp>
      <p:sp>
        <p:nvSpPr>
          <p:cNvPr id="92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CEF20EC-05C5-4A56-8B15-D5C0F3AFCD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CC8B305-C05C-4DE0-BCF6-873286E1B8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27" name="PlaceHolder 1"/>
          <p:cNvSpPr>
            <a:spLocks noGrp="1"/>
          </p:cNvSpPr>
          <p:nvPr>
            <p:ph type="sldImg"/>
          </p:nvPr>
        </p:nvSpPr>
        <p:spPr>
          <a:xfrm>
            <a:off x="1106640" y="696960"/>
            <a:ext cx="4647960" cy="3486240"/>
          </a:xfrm>
          <a:prstGeom prst="rect">
            <a:avLst/>
          </a:prstGeom>
          <a:ln w="0">
            <a:noFill/>
          </a:ln>
        </p:spPr>
      </p:sp>
      <p:sp>
        <p:nvSpPr>
          <p:cNvPr id="92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CD-10 will be very important to achieving all of these goals.  The next few slides will demonstrate how ICD-10 will impact each of these important MITA goals.</a:t>
            </a:r>
            <a:endParaRPr b="0" lang="en-US" sz="1200" spc="-1" strike="noStrike">
              <a:solidFill>
                <a:srgbClr val="000000"/>
              </a:solidFill>
              <a:latin typeface="Calibri"/>
            </a:endParaRPr>
          </a:p>
        </p:txBody>
      </p:sp>
      <p:sp>
        <p:nvSpPr>
          <p:cNvPr id="92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A647F3A-B706-4AE6-BCB7-B063BDAEC4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5B5B7F5-9BE1-4C7D-92F2-17701C0C94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31" name="PlaceHolder 1"/>
          <p:cNvSpPr>
            <a:spLocks noGrp="1"/>
          </p:cNvSpPr>
          <p:nvPr>
            <p:ph type="sldImg"/>
          </p:nvPr>
        </p:nvSpPr>
        <p:spPr>
          <a:xfrm>
            <a:off x="1106640" y="696960"/>
            <a:ext cx="4647960" cy="3486240"/>
          </a:xfrm>
          <a:prstGeom prst="rect">
            <a:avLst/>
          </a:prstGeom>
          <a:ln w="0">
            <a:noFill/>
          </a:ln>
        </p:spPr>
      </p:sp>
      <p:sp>
        <p:nvSpPr>
          <p:cNvPr id="93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MS has developed a way to measure a Medicaid Enterprise’s progress toward meeting the goals of MITA, called MITA maturity model levels.  These levels demonstrate definable progress over a continuum of 5 – 10 years.  Most states have business processes at Level 1 or Level 2 currently.  Progression to Level 3 requires more automation and the use of standard transactions, MITA standard interfaces, and standard terminology.  At Level 4 we begin to see the use of, and benefits from clinical data, and at Level 5, interoperability at a national and international level will be realized.  ICD-10 will be a critical element of the maturity levels  from Level 3 forward. The clinical content of the ICD-10 code will help us achieve Level  4 improvements. Let us take a look at these levels in more det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DD8A865-6F4D-4CC8-9ADD-BE972ACE83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34" name="PlaceHolder 1"/>
          <p:cNvSpPr>
            <a:spLocks noGrp="1"/>
          </p:cNvSpPr>
          <p:nvPr>
            <p:ph type="sldImg"/>
          </p:nvPr>
        </p:nvSpPr>
        <p:spPr>
          <a:xfrm>
            <a:off x="1106640" y="696960"/>
            <a:ext cx="4647960" cy="3486240"/>
          </a:xfrm>
          <a:prstGeom prst="rect">
            <a:avLst/>
          </a:prstGeom>
          <a:ln w="0">
            <a:noFill/>
          </a:ln>
        </p:spPr>
      </p:sp>
      <p:sp>
        <p:nvSpPr>
          <p:cNvPr id="93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progress toward MITA maturity capabilities begins with Level  3.  Implementation of MITA standard interfaces and standard terminology establishes the groundwork for efficiency and effectiveness of the Medicaid business processes.  ICD-10 will play a very important role in this maturity level.  In Training Segment 7, we will discuss the impact of ICD-10 on all the MITA business areas, but it is sufficient to say that most of the business processes will be touched in some way by the utilization of the detail in ICD-10.  Wherever diagnosis information is shared within the Medicaid Enterprise and its health care partners, ICD-10 will be part of that data exchange.  The more a state sets policy to capture and utilize the detail supplied by ICD-10 coding, the better it will be able to progress through the MITA maturity model lev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E693F94-127C-4D71-9245-8C9D76E99B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9A439A4-003B-4940-B798-960DB4E77F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38" name="PlaceHolder 1"/>
          <p:cNvSpPr>
            <a:spLocks noGrp="1"/>
          </p:cNvSpPr>
          <p:nvPr>
            <p:ph type="sldImg"/>
          </p:nvPr>
        </p:nvSpPr>
        <p:spPr>
          <a:xfrm>
            <a:off x="1106640" y="696960"/>
            <a:ext cx="4647960" cy="3486240"/>
          </a:xfrm>
          <a:prstGeom prst="rect">
            <a:avLst/>
          </a:prstGeom>
          <a:ln w="0">
            <a:noFill/>
          </a:ln>
        </p:spPr>
      </p:sp>
      <p:sp>
        <p:nvSpPr>
          <p:cNvPr id="939"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edicaid operations do not utilize diagnosis information to its fullest extent because ICD-9 has not supported many of the business processes of Medicaid.  The full use of ICD-10 will enable the MMIS to manage all claim types for all kinds of Medicaid Programs, such as mental health, disabilities, etc. that may have previously been managed on separate systems.  This facilitates duplicate checking across claim types and then enables aggregation of data related to specific conditions as they are billed into the professional, institutional, and pharmacy claims.</a:t>
            </a:r>
            <a:endParaRPr b="0" lang="en-US" sz="1200" spc="-1" strike="noStrike">
              <a:solidFill>
                <a:srgbClr val="000000"/>
              </a:solidFill>
              <a:latin typeface="Calibri"/>
            </a:endParaRPr>
          </a:p>
        </p:txBody>
      </p:sp>
      <p:sp>
        <p:nvSpPr>
          <p:cNvPr id="94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1EE461A-8DB3-44DC-B54D-C2366F01CA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701F6C6-EEAA-44C1-90B7-2624910A72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42" name="PlaceHolder 1"/>
          <p:cNvSpPr>
            <a:spLocks noGrp="1"/>
          </p:cNvSpPr>
          <p:nvPr>
            <p:ph type="sldImg"/>
          </p:nvPr>
        </p:nvSpPr>
        <p:spPr>
          <a:xfrm>
            <a:off x="1106640" y="696960"/>
            <a:ext cx="4647960" cy="3486240"/>
          </a:xfrm>
          <a:prstGeom prst="rect">
            <a:avLst/>
          </a:prstGeom>
          <a:ln w="0">
            <a:noFill/>
          </a:ln>
        </p:spPr>
      </p:sp>
      <p:sp>
        <p:nvSpPr>
          <p:cNvPr id="943"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despread and secure access to clinical data will come about as a result of development and access to Electronic Health Records (EHRs).  This clinical information will provide the detail to support ICD-10 diagnosis coding and ICD-10 diagnoses will provide significantly more detail to programs that use the codes to their advantage.  ICD-10 will represent the clinical component of administrative data, such as claims, remittance advice, prior authorization, and program integrity business functions.  While administrative data will not contain all of the clinical data available in an EHR, it will provide the fundamental building blocks for program improvement, measurement of program objectives, and the improvement of health care outcomes.  It will also establish triggers to seek additional information within specific EHR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2E9A5B0-553E-41F2-8976-E79FC9B47E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3E60D04-17A4-46E9-96B2-A2E7CA5654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46" name="PlaceHolder 1"/>
          <p:cNvSpPr>
            <a:spLocks noGrp="1"/>
          </p:cNvSpPr>
          <p:nvPr>
            <p:ph type="sldImg"/>
          </p:nvPr>
        </p:nvSpPr>
        <p:spPr>
          <a:xfrm>
            <a:off x="1106640" y="696960"/>
            <a:ext cx="4647960" cy="3486240"/>
          </a:xfrm>
          <a:prstGeom prst="rect">
            <a:avLst/>
          </a:prstGeom>
          <a:ln w="0">
            <a:noFill/>
          </a:ln>
        </p:spPr>
      </p:sp>
      <p:sp>
        <p:nvSpPr>
          <p:cNvPr id="947"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alth care business is changing rapidly.  New diseases are being recognized and new procedures are developed quickly.  Incorporating ICD-10 fully enables the rapid addressing of these new functions for better management of the Medicaid program and appropriate payment for the procedures.  Flexible business rules enable minimal system changes, but assure that the benefits of the expanded detail will not be lost in crosswalks that offer no improvement from the current 25-year-old code set.  The ability to define more severe or chronic conditions improves the management of care, edits, DRGs, risks to the Medicaid program, and reimbursement.</a:t>
            </a:r>
            <a:endParaRPr b="0" lang="en-US" sz="1200" spc="-1" strike="noStrike">
              <a:solidFill>
                <a:srgbClr val="000000"/>
              </a:solidFill>
              <a:latin typeface="Calibri"/>
            </a:endParaRPr>
          </a:p>
        </p:txBody>
      </p:sp>
      <p:sp>
        <p:nvSpPr>
          <p:cNvPr id="94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FF1D5E3-12ED-4A1A-9BE1-5A65208053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F549F-DC2D-4D53-B4BE-E5B624D543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0"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042BF-7CA2-4B08-8C65-9DDC1A2D5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4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2BAFD8-234D-4146-8BE1-3FB46AC8C4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C4F6EF-F27F-48A7-A976-CB1B82CFCB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54B5A7-CC0F-4DEA-9C45-0B9CFBDDEA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5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2"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3"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0818A9-F6C0-4B19-9876-2FB8B4BC45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5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7"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0945E5-8EE2-4805-9FA9-FDBADDC2BC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5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0"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1"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9D59FF-4905-4D3C-89BA-45C1F98B67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63"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4"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71A072-5127-41D3-BB4E-F92EB5D8D3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6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8"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9"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F3CFF65-4575-44C6-B9B2-4D6D78ABECD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71"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2"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3"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4"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5"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6"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6090349-BB3B-4E27-88F1-EED17CBD4CB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0B14041-7643-49C1-8720-A1BBC8392C3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3D4259-179D-4B5C-A0B4-FD09590A0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83"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E9920BB-038F-40C1-94C7-1B4F595EB67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85"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5BE8375-039E-4851-90C2-499C31B6CBF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8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8"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D8F4EFA-8CFF-4B66-B6EB-6EEE36261A6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0B578B1-46AD-45A7-97FB-BA63B9E8BDB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A7152E5-FC7A-4E78-8B9B-ABAF0715D33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9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3"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48A040A-FE37-47F9-8CD3-A5D44D42CC8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9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8"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3B85608-AC3E-4CD8-9F35-884A96C247D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0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1"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2"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B9906BF-F8AD-4C98-8C72-B4A8699425D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04"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5"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C2E46F7-7A97-40EC-80D0-82B8693FD51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0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9"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0"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5DEF5FB-6FC4-4350-8BA5-919E60A0683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8"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48C63D-6950-44C1-BAD6-903181A562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12"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3"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4"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5"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6"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7"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B0746C2-5F1F-4196-8226-19CFF050A51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C6AD691-AD65-43AD-94DD-15A303F470F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24"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307D1F5-4E28-4F40-B170-06FA0066663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26"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A24C6CA-8F89-4AFD-B1DF-6736CAE1169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28"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329DCA4-41BB-4196-8257-BC0D4B6DBC7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4C077AD-7C39-449A-B67F-F13CC7C66ED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FE9E20C-BA55-471F-BA9D-60FA2C86225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3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31F12E-C7A0-493B-921F-C9C0C55438C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3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9"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7E76027-6463-4123-A0CB-FC5D28FB8CF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4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3"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CE1308-D598-4C46-B776-088A9996E4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237ACD-DA62-4AC7-B9BE-4E6699AA91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45"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6"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2F4EBAF-4087-4748-948B-DF9A52881EF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4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1"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0E1761E-4024-4607-9F05-065950A4520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53"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4"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5"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6"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7"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8"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6A41825-AF1A-47AE-A733-1DAEF1E3120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EC10770-341B-47BD-B3BF-53FEA89A026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65"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D1C36E9-0E38-4771-B4E2-900C39A139C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67"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8A9BFDA-98E7-4FF0-8980-999258F6E3A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69"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0"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80844AA-82FC-4AD0-A8C4-23E535F55D9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9464760-AE0B-432C-991D-55FFE9EB05B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AC6D8A3-95BD-487B-BF42-20352D5B6B1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7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5"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6"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E8EB68C-8210-4E70-8048-6C03708B185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0"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C9849B-CCFB-4172-9141-2EB7BB5325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78"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0"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C2491B7-6219-4A5D-8DA0-02B7C08D121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8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4"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BA436CD-862E-4001-8D9D-84BAEF257D2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86"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7"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CB45375-1EB1-4A79-B64E-598AAE96C92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8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0"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1"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2"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D80EF9B-89CF-47A0-BA45-60269073E93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94"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5"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6"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7"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8"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9"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DCB95EB-481B-47D9-AE37-0453E94CB49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78321C9-9051-4B85-B562-11A7AEB3A37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09"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71E5927-32D4-4B35-B586-F86A0A156C5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11"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EAF1151-BFAD-481C-AA2C-9922A3D89B2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1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ED32F29-9590-4BB0-8362-E5B9829B268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7B29E1C-049B-4AD2-9BBC-6314F6DEEEE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2"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0AE116-480C-4A70-8A8A-4427F24F03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819860D-5393-44C5-8439-6FA6E6F3256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1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FFD10E7-72FF-408E-AD9E-E63CEE51FD2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2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4"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4430C46-92A9-43F8-9726-B2EC063BE2D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2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8"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10674A8-573C-440E-9D95-50C734E5B36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30"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1"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D1D455F-D011-4D3A-8501-E0061F20096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3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6"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DA76FAD-A341-472F-910F-4ABAD8B191F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38"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9"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0"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1"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2"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3"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E6F950D-250A-4A3B-8D23-26D6CBE31B5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D0082D0-B0C1-4089-A547-8FED0D35985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50"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807A9D9-060A-4C07-A8C0-4FE07955217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52"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842DEDB-983B-495E-8A0C-94D39060DEF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F7E615-4CA7-4038-A7F8-6DF46A3741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5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5"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03A1D01-B784-45D5-BEE7-3236412AAA5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813D338-A47A-448C-AB42-7FD3A25DB25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0069572-E1D4-4D75-ACC7-FAE2E9EFEED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5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0"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1"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9F518D5-E9AF-4D43-A32A-94AD64E3B5C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6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5"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07D32D4-19BB-4B49-924C-52628DD4BD5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6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9"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41BEFBD-C37B-4C2E-8D74-775FF105F06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71"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2"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60A8FE6-BA28-4D7D-B6C5-DF2778265F2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7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6"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7"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A5EAA3B-D9F7-453F-88F0-E72949FEDBC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79"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0"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1"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2"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3"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4"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D6B0349-27EA-49C9-B33D-5544D2EE610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B91532E-34C5-43B1-A18C-F14D74488C7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4BA742-8789-4994-9D1A-E2E04847DA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91"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785ED7C-1D2E-4BE6-B2F7-AB04936AD52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93"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670DB45-4CCF-43F5-B678-BAD66BA8BEB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9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6"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6463D55-E77D-4A36-B7EF-C9195DE0590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55BCF1F-12AE-414F-B01E-53EBB0989A0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8"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C775509-2171-4DBB-81F3-F065618360F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0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1"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2"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4198B7B-6A9B-41BE-B2BA-34550DEE994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0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6"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3770339-9437-4107-B976-3363A8A2137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0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0"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E58D5DA-5ED4-4B0B-AAD9-942471B7165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12"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3"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DA8FBA6-5F28-4A44-BB28-55EB5A9CE3B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1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7"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8"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96F7CF9-7F37-4356-A137-28EBBF6D2B6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FD8BA0-6D96-4513-B091-99323D43C5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20"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1"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2"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3"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4"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5"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6367149-0539-48D9-8FC6-A2F516DE44D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8E3D2A1-3330-464A-BEA2-B2749EDE06E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32"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D1CD1C2-E7F4-4719-B499-2F88875B315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34"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87CB32A-426D-476E-8E37-F55D1882CD7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3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7"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13AB1D7-F297-43DF-A7CE-35B5DD6A1A7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B858C39-5C4D-49F0-B081-39AE359BE90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DCBDD84-937D-4723-A6C8-F179893E163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4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2"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3"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2DA6321-9021-45CB-8E02-65BBB812628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4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7"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B6AA012-D606-4582-860C-04246BBF4C2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4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0"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1"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E14E5C6-3B14-47E3-AA2A-F7692509864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9747B-2634-4020-9196-665F58268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53"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4"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71C66CF-0D58-4FC6-AA6C-90E4B0076BD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5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8"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9"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C26CDA1-7CBB-4F38-98AD-0BD54EB5424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61"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2"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3"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4"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5"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6"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35FC659-1269-4FEF-964B-88F9255F4EC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79A5449-AA1B-4299-8CCD-388F9828BD7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73"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B54AE1F-7821-4F2F-91A1-C05D1A4AC88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75"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70ED6E1-1159-4CAD-9F60-8331DD32710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7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8"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6E9DFB4-3464-40B9-BAF3-D4980C55003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BBB838B-CAA2-4196-851C-D650D48F64B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0"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25DF03A-2320-405F-86A5-5AB03B8095A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8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3"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4"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808B1D3-5D06-4058-9E77-C8D32DD88B2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42AA3-443B-49FB-B9C0-A203C45C5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19B17-B279-4010-BD90-8FD439A62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8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8"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1798A6B-B7A9-48F6-B953-AA6D15ED5C5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9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1"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2"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FD6487F-6722-405A-B5FA-E4BCF66E0D3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94"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5"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3E358DE-4C82-4B42-9AE5-F36414836C5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9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9"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0"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8369A0C-80BE-458A-82F5-F17876D0AAD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02"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3"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4"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5"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6"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7"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5483B6C-2EAA-4A12-BC5D-DD45BB5AA21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4DA67697-C318-44B6-BD6D-20C59375D7F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14"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63DF88B-D480-43A5-944E-75966DE917B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16"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4D4CF47-0739-4D9F-BA37-71E4212F249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18"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86133B6-6A6E-44D4-BA12-18567184DC9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350AD35-8048-4F40-92DA-522F5021CA3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788E1-492C-4A6B-AF82-7789195DA9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BCD3859-6E83-43B1-A764-266B054BB54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2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28D8172-C3D5-4D30-95A0-58CC01B086A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2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9"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9C71436-A063-4267-9832-4A63AD6F0BD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3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3"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AB8AD45-2F2A-4491-856A-F177F7A18F5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35"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6"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1E9D0C1-C4B2-4E07-8CE3-E69928C40FC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3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1"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D2D3B03-A3E8-4072-8469-4FB41C2D8038}"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43"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4"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5"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6"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7"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8"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A55656E5-7AAB-40B5-A691-37338B699870}"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53EBBD32-E426-462D-AA34-E472B4DDB4F9}"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58"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3898209-1F7E-47EF-A407-272D1A4AE24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60"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5AB52A9-7B10-4E54-B0CA-2DE6CD1AF6C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1"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67FB49-470B-43FC-9578-3825D1CDDD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6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3"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FF16244-B788-4A09-AC1E-5CFA4335113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CEA621E-1714-4724-8C35-C136F238767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5"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DFBC69C-0AC4-4272-AC9F-02CEB0735AA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6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8"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9"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749303D-D36A-449E-9B5A-B991AD018F4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71"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3"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F8062CA-B02F-4CD8-9A63-F89C4E7CCB8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7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7"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1002311-FDA7-4C1D-ABD1-9274B0F6AF0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79"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0"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908B846-A43C-42DF-A0E1-5C1CAA5FA89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8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4"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5"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C845615F-78D4-4290-9AC3-0E2450FB44A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87"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8"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9"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0"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1"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2"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24DB8EFF-060C-4FB0-93DC-C11D1D9FB77C}"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91DB3C85-F04B-4ED5-8342-78018A213BEB}"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13B8CC-6412-423E-B553-07E5ED9E31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02"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C3739EA-7BB2-42D7-8B2D-E3B2C8DDBF8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04"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269F096-02C6-4FBE-86CD-0530AB41654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0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7"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E9C8591-A5B2-41FD-9DD4-25C24E4BCB1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25A9165-832C-46F8-97CF-F350DEB8D19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9"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58A4032-85DB-470A-A341-20EF8D4391C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1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2"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3"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AECC728-C2BD-41F5-83CB-4BF019DFC90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1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7"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9D14DE0-15CD-4520-BDA5-96BB76B6039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1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0"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1"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5A0FC84-17E2-4013-A275-B8BA2437B02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23"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4"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B11D345-1774-410D-B494-4950A2DEE15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2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8"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9"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C2A0A90B-81B3-4F1B-8C21-511439062225}"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9"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D56173-9753-4BC1-BB6E-391BD5F236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31"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2"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3"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4"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5"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6"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36F694BD-CF63-43B1-A7FF-BAB44E410E88}"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3B16EF-9DEA-4A83-8D4F-1CFF4608AA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1"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34EA32-0D77-4A17-8FF4-06ADA066DF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3"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80F2AA-F937-4BB0-B14A-C34395A926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53E11E-9C9D-40F9-8150-3BA5B7BBCE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B6A501-38D1-48E2-AC58-D4E5BD3AA2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CC931-B80C-4D86-AFC4-765BA5BA1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2E8E10-C5BC-4DC7-A73D-603178CD53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1F196C-35D7-4343-85D8-A191F95AFB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CC4AF1-8E02-4124-83B3-19FE4D8B6B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BACB9E-402B-438C-AD29-E1F7D93FD2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2"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76E43B-AC2A-4DD9-A15B-A170D82331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A63BE7-30C7-4831-9A1A-8256F58A34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20"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80A5FE-B7BC-4065-A716-AE3AAC9A82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DC36B4-1823-4A1E-A43C-A68FB5A1A2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2"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711A4E-D973-4891-9649-3DC4EB3698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4"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1A2747-AE94-4632-95F2-471D18F99B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A3B68-74DF-4FF3-983F-58CC140B9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681367-BFCC-426E-B9FD-4B5EF0D120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9A9177-C14C-409C-9428-4506A27AB1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1E0A58-1705-40FF-B0B2-06AEE545FB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AD57F5-1842-400D-A892-10A8E3D750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589EC3-813E-4611-BE94-1B6CCF840D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7997F4-16C2-418D-8D1E-AF96AC27A5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53"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62CB8A-A70C-4CAF-8D43-D600132997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5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917F33-EEE8-4477-A294-65AEAA58C8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61"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6"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5FCB53-58D2-47F0-9E7D-7EE31CBFF1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9FE748-CB09-43DC-A778-3AF643C0ED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C745E-82EE-4E7A-8D5B-6D5273387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3"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C56B19-5E70-4EFD-9CEA-49B8E8CE71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5"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D4FFD8-72DA-4D5E-9BF5-695F8C96CA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8"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BECA3E-950E-4CA9-9F32-B9DC3C8C06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22A8FC-939F-4454-A50C-AC638F317B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15E069-D591-41B8-ABCE-F3B7F8C123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3"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4"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1CFB5C-0D74-4C20-8A1F-1B74C80E17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25A131-8A4B-44FD-8A81-35653FFABC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2"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0AB46D-C655-456E-83FF-9CC1ADB25F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4"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E39A25-842C-40E0-A4A6-20539CF02D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9"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0"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741257-DD23-4420-BA26-42862EE16A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F8055-2292-4575-8267-D62362052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02"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4"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5"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6"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56CE8E-F49D-4AB7-A7D8-5D0BCE8D22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00D9FF-ADFA-4F1B-BE27-4E50E9ACCE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4"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724227-9CC4-4F04-B3B9-0DF3BF7753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6"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44A04D-CC31-4284-94DD-B75A6E0D6D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8"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F82642-0F1B-41FA-975C-704D9040EA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50E4F4-C29A-4BE2-89CE-8582E6C7D1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A1AE71-D7F2-44DF-838B-C36E28912E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44713A-7F3F-4CDA-A689-48AC42B9CA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317D61-3674-4BB0-8530-BACD66A6BB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E4B701-D43F-4EF5-9B0C-1FAE12EAC9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63892-1333-46C1-8FC9-A2885F17D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5"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CBEC19-BC08-4D48-A487-3358AFB298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1"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08348C-48CB-4A77-8F1C-D15A45E3F7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43"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9FEDFC-F7AE-49B5-9E22-5A5B4F5A54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150A4D1-8B76-4769-858C-E9B59BE113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0"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3185AF-EFFB-4F63-ACB4-48A0D33854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2"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27A1B9-ACA4-4E2C-938B-2A52368DEA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5"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4260B2-D1D9-4059-807D-D483CECA61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9B6E53-E808-4F21-B9E2-D1DE0B920B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DB1ED3-3454-4D4C-B87A-F9203D51BF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0"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1"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B7F89A-8075-4F62-867B-C9B19F4926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65322-18F7-46C8-B42D-96E4DEBC3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7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5"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7F971F-82E6-457F-8D1B-DB1F25A29E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7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9"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F6AFA4-2093-4F00-9C5B-505BCD5268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81"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2"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453D70-C26E-4145-ADD6-ED449092FC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8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6"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7"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AE951B9-0226-48CC-B609-26FDA240B7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89"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0"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1"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4"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67198FF-65A1-44F0-9370-03BB9D07143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785D395-57FD-4238-A01E-C42DB42AB75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01"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452E4D-2E3E-4B16-8B98-E3C50E8A5C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03"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0102DD-62A9-4770-AB4A-433B1470E2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0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6"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EA50D4-18BC-41B4-BA19-70B9131BF5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1A665A-4CD8-40AA-8992-B1FE2F7276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BACEB-91AD-4B7B-9FBD-C6A9461B2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A398FF-EEF6-4D56-BBB6-71FA22A36E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1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1"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2"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3FD228-3BF0-4F05-BE25-56733ECF76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1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6"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2BBE49-C220-4409-B9A7-20DD24B557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1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0"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64554C-8B9A-43B4-A25F-9C5ABE688F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22"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3"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DC3802-4711-47E3-8D5C-F6BAD5C74C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2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7"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8"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A818B9C-0C07-4A76-8E3E-43BE362E660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30"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1"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2"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3"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4"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14C607F-3780-4EDD-92C3-78B0A2BFC7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C017444-09FE-4F91-B464-6EF782B26E5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42"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BD0519-C61F-4A55-BB71-E3914F1C40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44"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87E7FB-D063-40CD-8C3C-3DB87646DA1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1" name="PlaceHolder 2"/>
          <p:cNvSpPr>
            <a:spLocks noGrp="1"/>
          </p:cNvSpPr>
          <p:nvPr>
            <p:ph type="body"/>
          </p:nvPr>
        </p:nvSpPr>
        <p:spPr>
          <a:xfrm>
            <a:off x="457200" y="2286000"/>
            <a:ext cx="8229600" cy="372096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PlaceHolder 3"/>
          <p:cNvSpPr>
            <a:spLocks noGrp="1"/>
          </p:cNvSpPr>
          <p:nvPr>
            <p:ph type="dt" idx="1"/>
          </p:nvPr>
        </p:nvSpPr>
        <p:spPr>
          <a:xfrm>
            <a:off x="7543800" y="6408720"/>
            <a:ext cx="990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015EF-79B7-46CF-9545-90AD7BAAEAE0}" type="datetime">
              <a:rPr b="0" lang="en-US" sz="1000" spc="-1" strike="noStrike">
                <a:solidFill>
                  <a:srgbClr val="000000"/>
                </a:solidFill>
                <a:latin typeface="Verdana"/>
              </a:rPr>
              <a:t>07/29/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657240" y="6400800"/>
            <a:ext cx="388620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4 The MITA Road Map</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8534160" y="6408720"/>
            <a:ext cx="479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17C58-86FE-4069-8887-19F574C81634}"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Text Box 7"/>
          <p:cNvSpPr/>
          <p:nvPr/>
        </p:nvSpPr>
        <p:spPr>
          <a:xfrm>
            <a:off x="0" y="6324480"/>
            <a:ext cx="3657600" cy="33732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CD-10 Is a Big Deal</a:t>
            </a:r>
            <a:endParaRPr b="0" lang="en-US" sz="1600" spc="-1" strike="noStrike">
              <a:solidFill>
                <a:srgbClr val="000000"/>
              </a:solidFill>
              <a:latin typeface="Arial"/>
            </a:endParaRPr>
          </a:p>
        </p:txBody>
      </p:sp>
      <p:pic>
        <p:nvPicPr>
          <p:cNvPr id="6" name="Picture 5" descr="HHS"/>
          <p:cNvPicPr/>
          <p:nvPr/>
        </p:nvPicPr>
        <p:blipFill>
          <a:blip r:embed="rId2"/>
          <a:stretch/>
        </p:blipFill>
        <p:spPr>
          <a:xfrm>
            <a:off x="7772400" y="152280"/>
            <a:ext cx="1066680" cy="1062000"/>
          </a:xfrm>
          <a:prstGeom prst="rect">
            <a:avLst/>
          </a:prstGeom>
          <a:ln w="0">
            <a:noFill/>
          </a:ln>
        </p:spPr>
      </p:pic>
      <p:pic>
        <p:nvPicPr>
          <p:cNvPr id="7" name="Picture 8" descr="CMS_logo"/>
          <p:cNvPicPr/>
          <p:nvPr/>
        </p:nvPicPr>
        <p:blipFill>
          <a:blip r:embed="rId3"/>
          <a:stretch/>
        </p:blipFill>
        <p:spPr>
          <a:xfrm>
            <a:off x="228600" y="228600"/>
            <a:ext cx="1976400" cy="73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9"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E7F19-9861-4C4D-9FF5-DC67126D8B21}"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80"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4 The MITA Road Map</a:t>
            </a:r>
            <a:endParaRPr b="0" lang="en-US" sz="1200" spc="-1" strike="noStrike">
              <a:solidFill>
                <a:srgbClr val="000000"/>
              </a:solidFill>
              <a:latin typeface="Times New Roman"/>
            </a:endParaRPr>
          </a:p>
        </p:txBody>
      </p:sp>
      <p:sp>
        <p:nvSpPr>
          <p:cNvPr id="381"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37502-8BA4-4177-A0D3-E22FBAE11F5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0"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C2D4B-164E-4B5A-81FD-81B6D2D34ED8}"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21"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4 The MITA Road Map</a:t>
            </a:r>
            <a:endParaRPr b="0" lang="en-US" sz="1200" spc="-1" strike="noStrike">
              <a:solidFill>
                <a:srgbClr val="000000"/>
              </a:solidFill>
              <a:latin typeface="Times New Roman"/>
            </a:endParaRPr>
          </a:p>
        </p:txBody>
      </p:sp>
      <p:sp>
        <p:nvSpPr>
          <p:cNvPr id="422"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189AD-6261-43CE-A0D7-72486916BE3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1"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023A3-C204-4FF6-9770-EC0AE52BDED6}"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62"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4 The MITA Road Map</a:t>
            </a:r>
            <a:endParaRPr b="0" lang="en-US" sz="1200" spc="-1" strike="noStrike">
              <a:solidFill>
                <a:srgbClr val="000000"/>
              </a:solidFill>
              <a:latin typeface="Times New Roman"/>
            </a:endParaRPr>
          </a:p>
        </p:txBody>
      </p:sp>
      <p:sp>
        <p:nvSpPr>
          <p:cNvPr id="463"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0BCC0-5CEA-4149-BE3D-58D6019BC66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501" name="PlaceHolder 2"/>
          <p:cNvSpPr>
            <a:spLocks noGrp="1"/>
          </p:cNvSpPr>
          <p:nvPr>
            <p:ph type="body"/>
          </p:nvPr>
        </p:nvSpPr>
        <p:spPr>
          <a:xfrm>
            <a:off x="457200" y="2209320"/>
            <a:ext cx="8229600" cy="388620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502" name="Text Box 5"/>
          <p:cNvSpPr/>
          <p:nvPr/>
        </p:nvSpPr>
        <p:spPr>
          <a:xfrm>
            <a:off x="0" y="6324480"/>
            <a:ext cx="3657600" cy="30708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CD-10: Getting It Done ... Right</a:t>
            </a:r>
            <a:endParaRPr b="0" lang="en-US" sz="1400" spc="-1" strike="noStrike">
              <a:solidFill>
                <a:srgbClr val="000000"/>
              </a:solidFill>
              <a:latin typeface="Arial"/>
            </a:endParaRPr>
          </a:p>
        </p:txBody>
      </p:sp>
      <p:pic>
        <p:nvPicPr>
          <p:cNvPr id="503" name="Picture 8" descr="CMS_logo"/>
          <p:cNvPicPr/>
          <p:nvPr/>
        </p:nvPicPr>
        <p:blipFill>
          <a:blip r:embed="rId2"/>
          <a:stretch/>
        </p:blipFill>
        <p:spPr>
          <a:xfrm>
            <a:off x="152280" y="152280"/>
            <a:ext cx="1976400" cy="735120"/>
          </a:xfrm>
          <a:prstGeom prst="rect">
            <a:avLst/>
          </a:prstGeom>
          <a:ln w="0">
            <a:noFill/>
          </a:ln>
        </p:spPr>
      </p:pic>
      <p:pic>
        <p:nvPicPr>
          <p:cNvPr id="504" name="Picture 5" descr="HHS"/>
          <p:cNvPicPr/>
          <p:nvPr/>
        </p:nvPicPr>
        <p:blipFill>
          <a:blip r:embed="rId3"/>
          <a:stretch/>
        </p:blipFill>
        <p:spPr>
          <a:xfrm>
            <a:off x="8077320" y="152280"/>
            <a:ext cx="685800" cy="682920"/>
          </a:xfrm>
          <a:prstGeom prst="rect">
            <a:avLst/>
          </a:prstGeom>
          <a:ln w="0">
            <a:noFill/>
          </a:ln>
        </p:spPr>
      </p:pic>
      <p:sp>
        <p:nvSpPr>
          <p:cNvPr id="505" name="PlaceHolder 3"/>
          <p:cNvSpPr>
            <a:spLocks noGrp="1"/>
          </p:cNvSpPr>
          <p:nvPr>
            <p:ph type="dt" idx="37"/>
          </p:nvPr>
        </p:nvSpPr>
        <p:spPr>
          <a:xfrm>
            <a:off x="7467480" y="6476760"/>
            <a:ext cx="91440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417A3-0FD2-42CC-9EF1-803267F5D4BE}" type="datetime">
              <a:rPr b="0" lang="en-US" sz="1000" spc="-1" strike="noStrike">
                <a:solidFill>
                  <a:srgbClr val="000000"/>
                </a:solidFill>
                <a:latin typeface="Verdana"/>
              </a:rPr>
              <a:t>07/29/26</a:t>
            </a:fld>
            <a:endParaRPr b="0" lang="en-US" sz="1000" spc="-1" strike="noStrike">
              <a:solidFill>
                <a:srgbClr val="000000"/>
              </a:solidFill>
              <a:latin typeface="Times New Roman"/>
            </a:endParaRPr>
          </a:p>
        </p:txBody>
      </p:sp>
      <p:sp>
        <p:nvSpPr>
          <p:cNvPr id="506" name="PlaceHolder 4"/>
          <p:cNvSpPr>
            <a:spLocks noGrp="1"/>
          </p:cNvSpPr>
          <p:nvPr>
            <p:ph type="ftr" idx="38"/>
          </p:nvPr>
        </p:nvSpPr>
        <p:spPr>
          <a:xfrm>
            <a:off x="4114800" y="6476760"/>
            <a:ext cx="32767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4 The MITA Road Map</a:t>
            </a:r>
            <a:endParaRPr b="0" lang="en-US" sz="1000" spc="-1" strike="noStrike">
              <a:solidFill>
                <a:srgbClr val="000000"/>
              </a:solidFill>
              <a:latin typeface="Times New Roman"/>
            </a:endParaRPr>
          </a:p>
        </p:txBody>
      </p:sp>
      <p:sp>
        <p:nvSpPr>
          <p:cNvPr id="507" name="PlaceHolder 5"/>
          <p:cNvSpPr>
            <a:spLocks noGrp="1"/>
          </p:cNvSpPr>
          <p:nvPr>
            <p:ph type="sldNum" idx="39"/>
          </p:nvPr>
        </p:nvSpPr>
        <p:spPr>
          <a:xfrm>
            <a:off x="8458200" y="6476760"/>
            <a:ext cx="5335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FD0F9-CE92-49B1-B8BB-C2DC3F2D04DC}"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6"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A1414-E210-4B29-BA53-5EBD4EB3E306}"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547"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4 The MITA Road Map</a:t>
            </a:r>
            <a:endParaRPr b="0" lang="en-US" sz="1200" spc="-1" strike="noStrike">
              <a:solidFill>
                <a:srgbClr val="000000"/>
              </a:solidFill>
              <a:latin typeface="Times New Roman"/>
            </a:endParaRPr>
          </a:p>
        </p:txBody>
      </p:sp>
      <p:sp>
        <p:nvSpPr>
          <p:cNvPr id="548"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C0368-00D3-4647-872C-6B079A8C437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7"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8335F-612C-4711-B2EE-3F4D1E850283}"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588"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4 The MITA Road Map</a:t>
            </a:r>
            <a:endParaRPr b="0" lang="en-US" sz="1200" spc="-1" strike="noStrike">
              <a:solidFill>
                <a:srgbClr val="000000"/>
              </a:solidFill>
              <a:latin typeface="Times New Roman"/>
            </a:endParaRPr>
          </a:p>
        </p:txBody>
      </p:sp>
      <p:sp>
        <p:nvSpPr>
          <p:cNvPr id="589"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B818E-564C-41AA-B8D1-572712DDE67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8"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8532D-9C02-4D05-975B-EA85037BD5FB}"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629"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4 The MITA Road Map</a:t>
            </a:r>
            <a:endParaRPr b="0" lang="en-US" sz="1200" spc="-1" strike="noStrike">
              <a:solidFill>
                <a:srgbClr val="000000"/>
              </a:solidFill>
              <a:latin typeface="Times New Roman"/>
            </a:endParaRPr>
          </a:p>
        </p:txBody>
      </p:sp>
      <p:sp>
        <p:nvSpPr>
          <p:cNvPr id="630"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1AC59-5339-41A4-AB0D-E2316FD5F8F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69"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36199-F4F1-4BD5-BA16-6B52F510F87D}"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670"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4 The MITA Road Map</a:t>
            </a:r>
            <a:endParaRPr b="0" lang="en-US" sz="1200" spc="-1" strike="noStrike">
              <a:solidFill>
                <a:srgbClr val="000000"/>
              </a:solidFill>
              <a:latin typeface="Times New Roman"/>
            </a:endParaRPr>
          </a:p>
        </p:txBody>
      </p:sp>
      <p:sp>
        <p:nvSpPr>
          <p:cNvPr id="671"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64FCB-18B1-4F27-B2B4-BCE86614B39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0"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35EDD-78F2-4C63-8E01-EE7773D1221F}"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711"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4 The MITA Road Map</a:t>
            </a:r>
            <a:endParaRPr b="0" lang="en-US" sz="1200" spc="-1" strike="noStrike">
              <a:solidFill>
                <a:srgbClr val="000000"/>
              </a:solidFill>
              <a:latin typeface="Times New Roman"/>
            </a:endParaRPr>
          </a:p>
        </p:txBody>
      </p:sp>
      <p:sp>
        <p:nvSpPr>
          <p:cNvPr id="712"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EEAB0-988E-4E39-8F94-5D8DF69F0DD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Text Box 5"/>
          <p:cNvSpPr/>
          <p:nvPr/>
        </p:nvSpPr>
        <p:spPr>
          <a:xfrm>
            <a:off x="0" y="6324480"/>
            <a:ext cx="3657600" cy="30708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CD-10: Getting It Done ... Right</a:t>
            </a:r>
            <a:endParaRPr b="0" lang="en-US" sz="1400" spc="-1" strike="noStrike">
              <a:solidFill>
                <a:srgbClr val="000000"/>
              </a:solidFill>
              <a:latin typeface="Arial"/>
            </a:endParaRPr>
          </a:p>
        </p:txBody>
      </p:sp>
      <p:pic>
        <p:nvPicPr>
          <p:cNvPr id="750" name="Picture 8" descr="CMS_logo"/>
          <p:cNvPicPr/>
          <p:nvPr/>
        </p:nvPicPr>
        <p:blipFill>
          <a:blip r:embed="rId2"/>
          <a:stretch/>
        </p:blipFill>
        <p:spPr>
          <a:xfrm>
            <a:off x="152280" y="152280"/>
            <a:ext cx="1976400" cy="735120"/>
          </a:xfrm>
          <a:prstGeom prst="rect">
            <a:avLst/>
          </a:prstGeom>
          <a:ln w="0">
            <a:noFill/>
          </a:ln>
        </p:spPr>
      </p:pic>
      <p:pic>
        <p:nvPicPr>
          <p:cNvPr id="751" name="Picture 5" descr="HHS"/>
          <p:cNvPicPr/>
          <p:nvPr/>
        </p:nvPicPr>
        <p:blipFill>
          <a:blip r:embed="rId3"/>
          <a:stretch/>
        </p:blipFill>
        <p:spPr>
          <a:xfrm>
            <a:off x="8077320" y="152280"/>
            <a:ext cx="685800" cy="682920"/>
          </a:xfrm>
          <a:prstGeom prst="rect">
            <a:avLst/>
          </a:prstGeom>
          <a:ln w="0">
            <a:noFill/>
          </a:ln>
        </p:spPr>
      </p:pic>
      <p:sp>
        <p:nvSpPr>
          <p:cNvPr id="75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753" name="PlaceHolder 2"/>
          <p:cNvSpPr>
            <a:spLocks noGrp="1"/>
          </p:cNvSpPr>
          <p:nvPr>
            <p:ph type="body"/>
          </p:nvPr>
        </p:nvSpPr>
        <p:spPr>
          <a:xfrm>
            <a:off x="457200" y="2209320"/>
            <a:ext cx="8229600" cy="388620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754" name="PlaceHolder 3"/>
          <p:cNvSpPr>
            <a:spLocks noGrp="1"/>
          </p:cNvSpPr>
          <p:nvPr>
            <p:ph type="dt" idx="55"/>
          </p:nvPr>
        </p:nvSpPr>
        <p:spPr>
          <a:xfrm>
            <a:off x="7391160" y="6476760"/>
            <a:ext cx="9903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642C2-02E0-4232-B257-0FD373F8EE66}" type="datetime">
              <a:rPr b="0" lang="en-US" sz="1000" spc="-1" strike="noStrike">
                <a:solidFill>
                  <a:srgbClr val="000000"/>
                </a:solidFill>
                <a:latin typeface="Verdana"/>
              </a:rPr>
              <a:t>07/29/26</a:t>
            </a:fld>
            <a:endParaRPr b="0" lang="en-US" sz="1000" spc="-1" strike="noStrike">
              <a:solidFill>
                <a:srgbClr val="000000"/>
              </a:solidFill>
              <a:latin typeface="Times New Roman"/>
            </a:endParaRPr>
          </a:p>
        </p:txBody>
      </p:sp>
      <p:sp>
        <p:nvSpPr>
          <p:cNvPr id="755" name="PlaceHolder 4"/>
          <p:cNvSpPr>
            <a:spLocks noGrp="1"/>
          </p:cNvSpPr>
          <p:nvPr>
            <p:ph type="ftr" idx="56"/>
          </p:nvPr>
        </p:nvSpPr>
        <p:spPr>
          <a:xfrm>
            <a:off x="4114800" y="6476760"/>
            <a:ext cx="31240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4 The MITA Road Map</a:t>
            </a:r>
            <a:endParaRPr b="0" lang="en-US" sz="1000" spc="-1" strike="noStrike">
              <a:solidFill>
                <a:srgbClr val="000000"/>
              </a:solidFill>
              <a:latin typeface="Times New Roman"/>
            </a:endParaRPr>
          </a:p>
        </p:txBody>
      </p:sp>
      <p:sp>
        <p:nvSpPr>
          <p:cNvPr id="756" name="PlaceHolder 5"/>
          <p:cNvSpPr>
            <a:spLocks noGrp="1"/>
          </p:cNvSpPr>
          <p:nvPr>
            <p:ph type="sldNum" idx="57"/>
          </p:nvPr>
        </p:nvSpPr>
        <p:spPr>
          <a:xfrm>
            <a:off x="8458200" y="6476760"/>
            <a:ext cx="5335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22497-62F4-4F60-81AA-6873E4F2226D}"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7D940-8C02-4A3D-8C48-8FA73FD1768B}"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4 The MITA Road Map</a:t>
            </a:r>
            <a:endParaRPr b="0" lang="en-US" sz="1200" spc="-1" strike="noStrike">
              <a:solidFill>
                <a:srgbClr val="000000"/>
              </a:solidFill>
              <a:latin typeface="Times New Roman"/>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1D635-3076-4642-B54A-973252DB1B6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Text Box 5"/>
          <p:cNvSpPr/>
          <p:nvPr/>
        </p:nvSpPr>
        <p:spPr>
          <a:xfrm>
            <a:off x="0" y="6324480"/>
            <a:ext cx="3657600" cy="30708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CD-10: Getting It Done ... Right</a:t>
            </a:r>
            <a:endParaRPr b="0" lang="en-US" sz="1400" spc="-1" strike="noStrike">
              <a:solidFill>
                <a:srgbClr val="000000"/>
              </a:solidFill>
              <a:latin typeface="Arial"/>
            </a:endParaRPr>
          </a:p>
        </p:txBody>
      </p:sp>
      <p:pic>
        <p:nvPicPr>
          <p:cNvPr id="794" name="Picture 8" descr="CMS_logo"/>
          <p:cNvPicPr/>
          <p:nvPr/>
        </p:nvPicPr>
        <p:blipFill>
          <a:blip r:embed="rId2"/>
          <a:stretch/>
        </p:blipFill>
        <p:spPr>
          <a:xfrm>
            <a:off x="152280" y="152280"/>
            <a:ext cx="1976400" cy="735120"/>
          </a:xfrm>
          <a:prstGeom prst="rect">
            <a:avLst/>
          </a:prstGeom>
          <a:ln w="0">
            <a:noFill/>
          </a:ln>
        </p:spPr>
      </p:pic>
      <p:pic>
        <p:nvPicPr>
          <p:cNvPr id="795" name="Picture 5" descr="HHS"/>
          <p:cNvPicPr/>
          <p:nvPr/>
        </p:nvPicPr>
        <p:blipFill>
          <a:blip r:embed="rId3"/>
          <a:stretch/>
        </p:blipFill>
        <p:spPr>
          <a:xfrm>
            <a:off x="8077320" y="152280"/>
            <a:ext cx="685800" cy="682920"/>
          </a:xfrm>
          <a:prstGeom prst="rect">
            <a:avLst/>
          </a:prstGeom>
          <a:ln w="0">
            <a:noFill/>
          </a:ln>
        </p:spPr>
      </p:pic>
      <p:sp>
        <p:nvSpPr>
          <p:cNvPr id="79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797" name="PlaceHolder 2"/>
          <p:cNvSpPr>
            <a:spLocks noGrp="1"/>
          </p:cNvSpPr>
          <p:nvPr>
            <p:ph type="body"/>
          </p:nvPr>
        </p:nvSpPr>
        <p:spPr>
          <a:xfrm>
            <a:off x="457200" y="2209320"/>
            <a:ext cx="8229600" cy="388620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798" name="PlaceHolder 3"/>
          <p:cNvSpPr>
            <a:spLocks noGrp="1"/>
          </p:cNvSpPr>
          <p:nvPr>
            <p:ph type="dt" idx="58"/>
          </p:nvPr>
        </p:nvSpPr>
        <p:spPr>
          <a:xfrm>
            <a:off x="7314840" y="6476760"/>
            <a:ext cx="10666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915CB-8B90-41AA-AF3D-DDD67328FFC0}" type="datetime">
              <a:rPr b="0" lang="en-US" sz="1000" spc="-1" strike="noStrike">
                <a:solidFill>
                  <a:srgbClr val="000000"/>
                </a:solidFill>
                <a:latin typeface="Verdana"/>
              </a:rPr>
              <a:t>07/29/26</a:t>
            </a:fld>
            <a:endParaRPr b="0" lang="en-US" sz="1000" spc="-1" strike="noStrike">
              <a:solidFill>
                <a:srgbClr val="000000"/>
              </a:solidFill>
              <a:latin typeface="Times New Roman"/>
            </a:endParaRPr>
          </a:p>
        </p:txBody>
      </p:sp>
      <p:sp>
        <p:nvSpPr>
          <p:cNvPr id="799" name="PlaceHolder 4"/>
          <p:cNvSpPr>
            <a:spLocks noGrp="1"/>
          </p:cNvSpPr>
          <p:nvPr>
            <p:ph type="ftr" idx="59"/>
          </p:nvPr>
        </p:nvSpPr>
        <p:spPr>
          <a:xfrm>
            <a:off x="4343400" y="6476760"/>
            <a:ext cx="2743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4 The MITA Road Map</a:t>
            </a:r>
            <a:endParaRPr b="0" lang="en-US" sz="1000" spc="-1" strike="noStrike">
              <a:solidFill>
                <a:srgbClr val="000000"/>
              </a:solidFill>
              <a:latin typeface="Times New Roman"/>
            </a:endParaRPr>
          </a:p>
        </p:txBody>
      </p:sp>
      <p:sp>
        <p:nvSpPr>
          <p:cNvPr id="800" name="PlaceHolder 5"/>
          <p:cNvSpPr>
            <a:spLocks noGrp="1"/>
          </p:cNvSpPr>
          <p:nvPr>
            <p:ph type="sldNum" idx="60"/>
          </p:nvPr>
        </p:nvSpPr>
        <p:spPr>
          <a:xfrm>
            <a:off x="8458200" y="6476760"/>
            <a:ext cx="5335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21482-0F15-41BD-9C1A-D5D4D1CC2200}"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D7AA5-B2B9-44F6-9874-97ACF9FECE4F}"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4 The MITA Road Map</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B6C18-7D07-4D92-A61F-2779460D39E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24C78-2F93-4882-B0A4-86ACB49F906E}"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4 The MITA Road Map</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9A73A-A737-4241-AB6B-8000DD822AD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0755E-1A55-417E-BD8E-25981D606047}"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17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4 The MITA Road Map</a:t>
            </a:r>
            <a:endParaRPr b="0" lang="en-US" sz="1200" spc="-1" strike="noStrike">
              <a:solidFill>
                <a:srgbClr val="000000"/>
              </a:solidFill>
              <a:latin typeface="Times New Roman"/>
            </a:endParaRPr>
          </a:p>
        </p:txBody>
      </p:sp>
      <p:sp>
        <p:nvSpPr>
          <p:cNvPr id="17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DE349-F0A3-4AEA-961A-486A4797071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0"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E679A-0D5B-4925-A6FA-7F1098A0AF10}"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21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4 The MITA Road Map</a:t>
            </a:r>
            <a:endParaRPr b="0" lang="en-US" sz="1200" spc="-1" strike="noStrike">
              <a:solidFill>
                <a:srgbClr val="000000"/>
              </a:solidFill>
              <a:latin typeface="Times New Roman"/>
            </a:endParaRPr>
          </a:p>
        </p:txBody>
      </p:sp>
      <p:sp>
        <p:nvSpPr>
          <p:cNvPr id="212"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32FE6-AB8A-48D5-84A7-9D73BF82B70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WordArt 2"/>
          <p:cNvSpPr txBox="1"/>
          <p:nvPr/>
        </p:nvSpPr>
        <p:spPr>
          <a:xfrm rot="2157600">
            <a:off x="1700280" y="2819160"/>
            <a:ext cx="6046560" cy="220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e6e6e6"/>
                    </a:gs>
                    <a:gs pos="100000">
                      <a:srgbClr val="ffffff"/>
                    </a:gs>
                  </a:gsLst>
                  <a:lin ang="1080000"/>
                </a:gradFill>
                <a:effectLst>
                  <a:outerShdw dist="40186" dir="4303641" blurRad="0" rotWithShape="0">
                    <a:srgbClr val="4d4d4d">
                      <a:alpha val="80000"/>
                    </a:srgbClr>
                  </a:outerShdw>
                </a:effectLst>
                <a:latin typeface="Arial Black"/>
              </a:rPr>
              <a:t>DRAFT</a:t>
            </a:r>
            <a:endParaRPr b="0" lang="en-US" sz="2800" spc="1" strike="noStrike">
              <a:ln w="0">
                <a:noFill/>
              </a:ln>
              <a:gradFill rotWithShape="0">
                <a:gsLst>
                  <a:gs pos="0">
                    <a:srgbClr val="e6e6e6"/>
                  </a:gs>
                  <a:gs pos="100000">
                    <a:srgbClr val="ffffff"/>
                  </a:gs>
                </a:gsLst>
                <a:lin ang="1080000"/>
              </a:gradFill>
              <a:effectLst>
                <a:outerShdw dist="40186" dir="4303641" blurRad="0" rotWithShape="0">
                  <a:srgbClr val="4d4d4d">
                    <a:alpha val="80000"/>
                  </a:srgbClr>
                </a:outerShdw>
              </a:effectLst>
              <a:latin typeface="Arial Black"/>
              <a:ea typeface="Arial Black"/>
            </a:endParaRPr>
          </a:p>
        </p:txBody>
      </p:sp>
      <p:sp>
        <p:nvSpPr>
          <p:cNvPr id="25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251" name="PlaceHolder 2"/>
          <p:cNvSpPr>
            <a:spLocks noGrp="1"/>
          </p:cNvSpPr>
          <p:nvPr>
            <p:ph type="body"/>
          </p:nvPr>
        </p:nvSpPr>
        <p:spPr>
          <a:xfrm>
            <a:off x="457200" y="2285640"/>
            <a:ext cx="8229600" cy="388620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52" name="Text Box 5"/>
          <p:cNvSpPr/>
          <p:nvPr/>
        </p:nvSpPr>
        <p:spPr>
          <a:xfrm>
            <a:off x="0" y="6324480"/>
            <a:ext cx="3657600" cy="33732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CD-10 Is a Big Deal</a:t>
            </a:r>
            <a:endParaRPr b="0" lang="en-US" sz="1600" spc="-1" strike="noStrike">
              <a:solidFill>
                <a:srgbClr val="000000"/>
              </a:solidFill>
              <a:latin typeface="Arial"/>
            </a:endParaRPr>
          </a:p>
        </p:txBody>
      </p:sp>
      <p:pic>
        <p:nvPicPr>
          <p:cNvPr id="253" name="Picture 8" descr="CMS_logo"/>
          <p:cNvPicPr/>
          <p:nvPr/>
        </p:nvPicPr>
        <p:blipFill>
          <a:blip r:embed="rId2"/>
          <a:stretch/>
        </p:blipFill>
        <p:spPr>
          <a:xfrm>
            <a:off x="228600" y="304920"/>
            <a:ext cx="1976400" cy="734760"/>
          </a:xfrm>
          <a:prstGeom prst="rect">
            <a:avLst/>
          </a:prstGeom>
          <a:ln w="0">
            <a:noFill/>
          </a:ln>
        </p:spPr>
      </p:pic>
      <p:pic>
        <p:nvPicPr>
          <p:cNvPr id="254" name="Picture 5" descr="HHS"/>
          <p:cNvPicPr/>
          <p:nvPr/>
        </p:nvPicPr>
        <p:blipFill>
          <a:blip r:embed="rId3"/>
          <a:stretch/>
        </p:blipFill>
        <p:spPr>
          <a:xfrm>
            <a:off x="7772400" y="152280"/>
            <a:ext cx="1066680" cy="1062000"/>
          </a:xfrm>
          <a:prstGeom prst="rect">
            <a:avLst/>
          </a:prstGeom>
          <a:ln w="0">
            <a:noFill/>
          </a:ln>
        </p:spPr>
      </p:pic>
      <p:sp>
        <p:nvSpPr>
          <p:cNvPr id="255" name="PlaceHolder 3"/>
          <p:cNvSpPr>
            <a:spLocks noGrp="1"/>
          </p:cNvSpPr>
          <p:nvPr>
            <p:ph type="dt" idx="19"/>
          </p:nvPr>
        </p:nvSpPr>
        <p:spPr>
          <a:xfrm>
            <a:off x="7543800" y="6400440"/>
            <a:ext cx="914400" cy="320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4EAE3-BDA2-4DF5-A135-DEB724DD6E1A}" type="datetime">
              <a:rPr b="0" lang="en-US" sz="1000" spc="-1" strike="noStrike">
                <a:solidFill>
                  <a:srgbClr val="000000"/>
                </a:solidFill>
                <a:latin typeface="Verdana"/>
              </a:rPr>
              <a:t>07/29/26</a:t>
            </a:fld>
            <a:endParaRPr b="0" lang="en-US" sz="1000" spc="-1" strike="noStrike">
              <a:solidFill>
                <a:srgbClr val="000000"/>
              </a:solidFill>
              <a:latin typeface="Times New Roman"/>
            </a:endParaRPr>
          </a:p>
        </p:txBody>
      </p:sp>
      <p:sp>
        <p:nvSpPr>
          <p:cNvPr id="256" name="PlaceHolder 4"/>
          <p:cNvSpPr>
            <a:spLocks noGrp="1"/>
          </p:cNvSpPr>
          <p:nvPr>
            <p:ph type="ftr" idx="20"/>
          </p:nvPr>
        </p:nvSpPr>
        <p:spPr>
          <a:xfrm>
            <a:off x="4267080" y="6400440"/>
            <a:ext cx="32767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4 The MITA Road Map</a:t>
            </a:r>
            <a:endParaRPr b="0" lang="en-US" sz="1000" spc="-1" strike="noStrike">
              <a:solidFill>
                <a:srgbClr val="000000"/>
              </a:solidFill>
              <a:latin typeface="Times New Roman"/>
            </a:endParaRPr>
          </a:p>
        </p:txBody>
      </p:sp>
      <p:sp>
        <p:nvSpPr>
          <p:cNvPr id="257" name="PlaceHolder 5"/>
          <p:cNvSpPr>
            <a:spLocks noGrp="1"/>
          </p:cNvSpPr>
          <p:nvPr>
            <p:ph type="sldNum" idx="21"/>
          </p:nvPr>
        </p:nvSpPr>
        <p:spPr>
          <a:xfrm>
            <a:off x="8458200" y="6400440"/>
            <a:ext cx="5335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AE3FF-0011-460E-A736-E00A5B0F7468}"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pic>
        <p:nvPicPr>
          <p:cNvPr id="258" name="Picture 8" descr="CMS_logo"/>
          <p:cNvPicPr/>
          <p:nvPr/>
        </p:nvPicPr>
        <p:blipFill>
          <a:blip r:embed="rId4"/>
          <a:stretch/>
        </p:blipFill>
        <p:spPr>
          <a:xfrm>
            <a:off x="228600" y="228600"/>
            <a:ext cx="1976400" cy="73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CD88C-5F40-4D10-8B8B-E32393F04EB3}"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4 The MITA Road Map</a:t>
            </a:r>
            <a:endParaRPr b="0" lang="en-US" sz="1200" spc="-1" strike="noStrike">
              <a:solidFill>
                <a:srgbClr val="000000"/>
              </a:solidFill>
              <a:latin typeface="Times New Roman"/>
            </a:endParaRPr>
          </a:p>
        </p:txBody>
      </p:sp>
      <p:sp>
        <p:nvSpPr>
          <p:cNvPr id="29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DFB2E-89D2-4D2F-BA27-CF5572307E1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CE758-3370-44F7-9EB9-6B1E83BD2E91}"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3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4 The MITA Road Map</a:t>
            </a:r>
            <a:endParaRPr b="0" lang="en-US" sz="1200" spc="-1" strike="noStrike">
              <a:solidFill>
                <a:srgbClr val="000000"/>
              </a:solidFill>
              <a:latin typeface="Times New Roman"/>
            </a:endParaRPr>
          </a:p>
        </p:txBody>
      </p:sp>
      <p:sp>
        <p:nvSpPr>
          <p:cNvPr id="34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302DB-DC1D-4F15-8936-F4D4D36AA60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2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45A56-8643-4E70-977D-BB7321CA1EC3}"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845" name="Footer Placeholder 2"/>
          <p:cNvSpPr/>
          <p:nvPr/>
        </p:nvSpPr>
        <p:spPr>
          <a:xfrm>
            <a:off x="4343400" y="6477120"/>
            <a:ext cx="2743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4 The MITA Road Map</a:t>
            </a:r>
            <a:endParaRPr b="0" lang="en-US" sz="1000" spc="-1" strike="noStrike">
              <a:solidFill>
                <a:srgbClr val="000000"/>
              </a:solidFill>
              <a:latin typeface="Arial"/>
            </a:endParaRPr>
          </a:p>
        </p:txBody>
      </p:sp>
      <p:sp>
        <p:nvSpPr>
          <p:cNvPr id="846"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A56E7-DAD5-40DB-811F-D2C4B5228AB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847" name="PlaceHolder 1"/>
          <p:cNvSpPr>
            <a:spLocks noGrp="1"/>
          </p:cNvSpPr>
          <p:nvPr>
            <p:ph type="subTitle"/>
          </p:nvPr>
        </p:nvSpPr>
        <p:spPr>
          <a:xfrm>
            <a:off x="4571640" y="4114440"/>
            <a:ext cx="4343400" cy="1523880"/>
          </a:xfrm>
          <a:prstGeom prst="rect">
            <a:avLst/>
          </a:prstGeom>
          <a:noFill/>
          <a:ln w="0">
            <a:noFill/>
          </a:ln>
        </p:spPr>
        <p:txBody>
          <a:bodyPr lIns="45720" rIns="457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0504d"/>
                </a:solidFill>
                <a:latin typeface="Verdana"/>
              </a:rPr>
              <a:t>Training Segment 4</a:t>
            </a:r>
            <a:r>
              <a:rPr b="0" lang="en-US" sz="2300" spc="-1" strike="noStrike">
                <a:solidFill>
                  <a:srgbClr val="c0504d"/>
                </a:solidFill>
                <a:latin typeface="Verdana"/>
              </a:rPr>
              <a:t> </a:t>
            </a:r>
            <a:r>
              <a:rPr b="0" lang="en-US" sz="2100" spc="-1" strike="noStrike">
                <a:solidFill>
                  <a:srgbClr val="c0504d"/>
                </a:solidFill>
                <a:latin typeface="Verdana"/>
              </a:rPr>
              <a:t>Further Movement along the MITA Road Map - Use of Clinical Data &amp; Interoperability</a:t>
            </a:r>
            <a:endParaRPr b="0" lang="en-US" sz="2100" spc="-1" strike="noStrike">
              <a:solidFill>
                <a:srgbClr val="000000"/>
              </a:solidFill>
              <a:latin typeface="Verdana"/>
            </a:endParaRPr>
          </a:p>
        </p:txBody>
      </p:sp>
      <p:sp>
        <p:nvSpPr>
          <p:cNvPr id="848"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C5841-A0F5-4B69-B382-9184DA81651A}"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pic>
        <p:nvPicPr>
          <p:cNvPr id="849" name="Title 2" descr=""/>
          <p:cNvPicPr/>
          <p:nvPr/>
        </p:nvPicPr>
        <p:blipFill>
          <a:blip r:embed="rId1"/>
          <a:stretch/>
        </p:blipFill>
        <p:spPr>
          <a:xfrm>
            <a:off x="4191120" y="520560"/>
            <a:ext cx="4572000" cy="2908440"/>
          </a:xfrm>
          <a:prstGeom prst="rect">
            <a:avLst/>
          </a:prstGeom>
          <a:ln w="0">
            <a:noFill/>
          </a:ln>
        </p:spPr>
      </p:pic>
      <p:sp>
        <p:nvSpPr>
          <p:cNvPr id="850" name="Rectangle 3"/>
          <p:cNvSpPr/>
          <p:nvPr/>
        </p:nvSpPr>
        <p:spPr>
          <a:xfrm>
            <a:off x="4572000" y="2819520"/>
            <a:ext cx="380988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Informational Series on ICD-10 Planning and Assessment for State Medicaid Agencies</a:t>
            </a:r>
            <a:endParaRPr b="0" lang="en-US" sz="1600" spc="-1" strike="noStrike">
              <a:solidFill>
                <a:srgbClr val="000000"/>
              </a:solidFill>
              <a:latin typeface="Arial"/>
            </a:endParaRPr>
          </a:p>
        </p:txBody>
      </p:sp>
      <p:sp>
        <p:nvSpPr>
          <p:cNvPr id="851" name="Text Box 9"/>
          <p:cNvSpPr/>
          <p:nvPr/>
        </p:nvSpPr>
        <p:spPr>
          <a:xfrm rot="4124400">
            <a:off x="2999880" y="-879120"/>
            <a:ext cx="459000" cy="366840"/>
          </a:xfrm>
          <a:prstGeom prst="rect">
            <a:avLst/>
          </a:prstGeom>
          <a:noFill/>
          <a:ln w="0">
            <a:noFill/>
          </a:ln>
        </p:spPr>
        <p:style>
          <a:lnRef idx="0"/>
          <a:fillRef idx="0"/>
          <a:effectRef idx="0"/>
          <a:fontRef idx="minor"/>
        </p:style>
        <p:txBody>
          <a:bodyPr lIns="90000" rIns="90000" tIns="46800" bIns="46800" anchor="t" vert="eaVert" rot="10800000">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Text Box 10"/>
          <p:cNvSpPr/>
          <p:nvPr/>
        </p:nvSpPr>
        <p:spPr>
          <a:xfrm rot="5400000">
            <a:off x="4379760" y="-1331640"/>
            <a:ext cx="459000" cy="366840"/>
          </a:xfrm>
          <a:prstGeom prst="rect">
            <a:avLst/>
          </a:prstGeom>
          <a:noFill/>
          <a:ln w="0">
            <a:noFill/>
          </a:ln>
        </p:spPr>
        <p:style>
          <a:lnRef idx="0"/>
          <a:fillRef idx="0"/>
          <a:effectRef idx="0"/>
          <a:fontRef idx="minor"/>
        </p:style>
        <p:txBody>
          <a:bodyPr lIns="90000" rIns="90000" tIns="46800" bIns="46800" anchor="t" vert="eaVert" rot="10800000">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16"/>
          <p:cNvSpPr/>
          <p:nvPr/>
        </p:nvSpPr>
        <p:spPr>
          <a:xfrm>
            <a:off x="3962520" y="0"/>
            <a:ext cx="228600" cy="6858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Content Placeholder 1"/>
          <p:cNvSpPr/>
          <p:nvPr/>
        </p:nvSpPr>
        <p:spPr>
          <a:xfrm>
            <a:off x="228600" y="1295280"/>
            <a:ext cx="3733920" cy="4953240"/>
          </a:xfrm>
          <a:prstGeom prst="rect">
            <a:avLst/>
          </a:prstGeom>
          <a:noFill/>
          <a:ln w="0">
            <a:noFill/>
          </a:ln>
        </p:spPr>
        <p:style>
          <a:lnRef idx="0"/>
          <a:fillRef idx="0"/>
          <a:effectRef idx="0"/>
          <a:fontRef idx="minor"/>
        </p:style>
        <p:txBody>
          <a:bodyPr lIns="90000" rIns="90000" tIns="46800" bIns="46800" anchor="t">
            <a:noAutofit/>
          </a:bodyPr>
          <a:p>
            <a:pPr marL="496800" indent="-380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rPr>
              <a:t>	</a:t>
            </a:r>
            <a:r>
              <a:rPr b="1" i="1" lang="en-US" sz="1000" spc="-1" strike="noStrike">
                <a:solidFill>
                  <a:srgbClr val="000000"/>
                </a:solidFill>
                <a:latin typeface="Verdana"/>
              </a:rPr>
              <a:t>A Series of Topics on ICD-10 for State Medicaid Agencies</a:t>
            </a:r>
            <a:r>
              <a:rPr b="0" lang="en-US" sz="1000" spc="-1" strike="noStrike">
                <a:solidFill>
                  <a:srgbClr val="000000"/>
                </a:solidFill>
                <a:latin typeface="Verdana"/>
              </a:rPr>
              <a:t>:</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hat is ICD-10?</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gulatory Requirement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enefits of Using ICD-10</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c0504d"/>
                </a:solidFill>
                <a:uFillTx/>
                <a:latin typeface="Verdana"/>
              </a:rPr>
              <a:t>Further Movement along the MITA Road Map - Use of Clinical Data and Interoperability</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ffective Implementation of ICD-10 </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tential Programmatic and Technical Problem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mpact on MITA Business Process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orming the Implementation Team</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MIS Funding Opportuniti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ducation and Training Process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rtner and Vendor Consideration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onitoring Progress and Post Compliance Date Action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Date Placeholder 3"/>
          <p:cNvSpPr/>
          <p:nvPr/>
        </p:nvSpPr>
        <p:spPr>
          <a:xfrm>
            <a:off x="73915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F928D-22A0-4553-8BC7-E09FE9E6B633}"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896" name="Footer Placeholder 4"/>
          <p:cNvSpPr/>
          <p:nvPr/>
        </p:nvSpPr>
        <p:spPr>
          <a:xfrm>
            <a:off x="4114800" y="6477120"/>
            <a:ext cx="31240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4 The MITA Road Map</a:t>
            </a:r>
            <a:endParaRPr b="0" lang="en-US" sz="1000" spc="-1" strike="noStrike">
              <a:solidFill>
                <a:srgbClr val="000000"/>
              </a:solidFill>
              <a:latin typeface="Arial"/>
            </a:endParaRPr>
          </a:p>
        </p:txBody>
      </p:sp>
      <p:sp>
        <p:nvSpPr>
          <p:cNvPr id="897"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EDAF9-051B-4D3E-BC1E-F5F6691CA48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898" name="PlaceHolder 1"/>
          <p:cNvSpPr>
            <a:spLocks noGrp="1"/>
          </p:cNvSpPr>
          <p:nvPr>
            <p:ph/>
          </p:nvPr>
        </p:nvSpPr>
        <p:spPr>
          <a:xfrm>
            <a:off x="457200" y="1905120"/>
            <a:ext cx="8229600" cy="3720960"/>
          </a:xfrm>
          <a:prstGeom prst="rect">
            <a:avLst/>
          </a:prstGeom>
          <a:noFill/>
          <a:ln w="0">
            <a:noFill/>
          </a:ln>
        </p:spPr>
        <p:txBody>
          <a:bodyPr anchor="t">
            <a:normAutofit/>
          </a:bodyPr>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ational and international interoperability</a:t>
            </a:r>
            <a:endParaRPr b="0" lang="en-US" sz="2200" spc="-1" strike="noStrike">
              <a:solidFill>
                <a:srgbClr val="000000"/>
              </a:solidFill>
              <a:latin typeface="Verdana"/>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cus on fine tuning programs</a:t>
            </a:r>
            <a:endParaRPr b="0" lang="en-US" sz="2200" spc="-1" strike="noStrike">
              <a:solidFill>
                <a:srgbClr val="000000"/>
              </a:solidFill>
              <a:latin typeface="Verdana"/>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izing program management, planning, and evaluation</a:t>
            </a:r>
            <a:endParaRPr b="0" lang="en-US" sz="2200" spc="-1" strike="noStrike">
              <a:solidFill>
                <a:srgbClr val="000000"/>
              </a:solidFill>
              <a:latin typeface="Verdana"/>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turns full cycle to MITA Mission:</a:t>
            </a:r>
            <a:endParaRPr b="0" lang="en-US" sz="2200" spc="-1" strike="noStrike">
              <a:solidFill>
                <a:srgbClr val="000000"/>
              </a:solidFill>
              <a:latin typeface="Verdana"/>
            </a:endParaRPr>
          </a:p>
          <a:p>
            <a:pPr lvl="1" marL="620640" indent="-228600">
              <a:lnSpc>
                <a:spcPct val="9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establish a national framework of enabling technologies and processes that support improved program administration for the Medicaid enterprise and for stakeholders dedicated to improving health care outcomes and administrative procedures for Medicaid beneficiaries</a:t>
            </a:r>
            <a:endParaRPr b="0" lang="en-US" sz="2200" spc="-1" strike="noStrike">
              <a:solidFill>
                <a:srgbClr val="000000"/>
              </a:solidFill>
              <a:latin typeface="Verdana"/>
            </a:endParaRPr>
          </a:p>
        </p:txBody>
      </p:sp>
      <p:sp>
        <p:nvSpPr>
          <p:cNvPr id="899" name="TextBox 6"/>
          <p:cNvSpPr/>
          <p:nvPr/>
        </p:nvSpPr>
        <p:spPr>
          <a:xfrm>
            <a:off x="380880" y="1092240"/>
            <a:ext cx="8305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Verdana"/>
              </a:rPr>
              <a:t>MITA Maturity Model Level 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F1816-9907-43FF-B85A-F46FD3DA4416}"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901" name="Footer Placeholder 2"/>
          <p:cNvSpPr/>
          <p:nvPr/>
        </p:nvSpPr>
        <p:spPr>
          <a:xfrm>
            <a:off x="4343400" y="6477120"/>
            <a:ext cx="2743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4 The MITA Road Map</a:t>
            </a:r>
            <a:endParaRPr b="0" lang="en-US" sz="1000" spc="-1" strike="noStrike">
              <a:solidFill>
                <a:srgbClr val="000000"/>
              </a:solidFill>
              <a:latin typeface="Arial"/>
            </a:endParaRPr>
          </a:p>
        </p:txBody>
      </p:sp>
      <p:sp>
        <p:nvSpPr>
          <p:cNvPr id="902"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06433-0CF1-489B-A186-8553022A8EA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903" name=""/>
          <p:cNvSpPr txBox="1"/>
          <p:nvPr/>
        </p:nvSpPr>
        <p:spPr>
          <a:xfrm>
            <a:off x="457200" y="2019240"/>
            <a:ext cx="8229600" cy="323856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t Level 5, ICD-10 will be the language spoken by all health plans and all provider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munication via claims, prior authorizations, care management, and coordination of benefits will use the increased detail in ICD-10 to make communications more effective</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ystems within each state and between states must be able to communicate using the same standard terminology</a:t>
            </a:r>
            <a:endParaRPr b="0" lang="en-US" sz="2200" spc="-1" strike="noStrike">
              <a:solidFill>
                <a:srgbClr val="000000"/>
              </a:solidFill>
              <a:latin typeface="Verdana"/>
            </a:endParaRPr>
          </a:p>
        </p:txBody>
      </p:sp>
      <p:sp>
        <p:nvSpPr>
          <p:cNvPr id="904" name="Rectangle 6"/>
          <p:cNvSpPr/>
          <p:nvPr/>
        </p:nvSpPr>
        <p:spPr>
          <a:xfrm>
            <a:off x="914400" y="990720"/>
            <a:ext cx="69343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Verdana"/>
              </a:rPr>
              <a:t>Integration and Interoperabili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Date Placeholder 3"/>
          <p:cNvSpPr/>
          <p:nvPr/>
        </p:nvSpPr>
        <p:spPr>
          <a:xfrm>
            <a:off x="73915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28A56-62E3-4D0C-9DAC-CB2D4ACB9E87}"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906" name="Footer Placeholder 4"/>
          <p:cNvSpPr/>
          <p:nvPr/>
        </p:nvSpPr>
        <p:spPr>
          <a:xfrm>
            <a:off x="4114800" y="6477120"/>
            <a:ext cx="31240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4 The MITA Road Map</a:t>
            </a:r>
            <a:endParaRPr b="0" lang="en-US" sz="1000" spc="-1" strike="noStrike">
              <a:solidFill>
                <a:srgbClr val="000000"/>
              </a:solidFill>
              <a:latin typeface="Arial"/>
            </a:endParaRPr>
          </a:p>
        </p:txBody>
      </p:sp>
      <p:sp>
        <p:nvSpPr>
          <p:cNvPr id="907"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16F65-064F-4DD5-ACAC-53F52A7ACB9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908" name="PlaceHolder 1"/>
          <p:cNvSpPr>
            <a:spLocks noGrp="1"/>
          </p:cNvSpPr>
          <p:nvPr>
            <p:ph/>
          </p:nvPr>
        </p:nvSpPr>
        <p:spPr>
          <a:xfrm>
            <a:off x="457200" y="2209680"/>
            <a:ext cx="8229600" cy="318312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t Levels 4 and 5, ICD-10 codes supply more detailed and accurate data for use by health plans, providers, and other partners (worker’s comp, liability, etc.)</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ull utilization of the ICD-10 code set assures that data is readily available in its submitted forma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creased specificity within the codes makes diagnoses far more accurate than previous code structures</a:t>
            </a:r>
            <a:endParaRPr b="0" lang="en-US" sz="2200" spc="-1" strike="noStrike">
              <a:solidFill>
                <a:srgbClr val="000000"/>
              </a:solidFill>
              <a:latin typeface="Verdana"/>
            </a:endParaRPr>
          </a:p>
        </p:txBody>
      </p:sp>
      <p:sp>
        <p:nvSpPr>
          <p:cNvPr id="909" name="TextBox 6"/>
          <p:cNvSpPr/>
          <p:nvPr/>
        </p:nvSpPr>
        <p:spPr>
          <a:xfrm>
            <a:off x="380880" y="115092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Verdana"/>
              </a:rPr>
              <a:t>Data that Is Timely, Accurate, Usable, and Easily Accessi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39786-9884-45BC-BB2F-B04A5A4BE16D}"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911" name="Footer Placeholder 2"/>
          <p:cNvSpPr/>
          <p:nvPr/>
        </p:nvSpPr>
        <p:spPr>
          <a:xfrm>
            <a:off x="4343400" y="6477120"/>
            <a:ext cx="2743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4 The MITA Road Map</a:t>
            </a:r>
            <a:endParaRPr b="0" lang="en-US" sz="1000" spc="-1" strike="noStrike">
              <a:solidFill>
                <a:srgbClr val="000000"/>
              </a:solidFill>
              <a:latin typeface="Arial"/>
            </a:endParaRPr>
          </a:p>
        </p:txBody>
      </p:sp>
      <p:sp>
        <p:nvSpPr>
          <p:cNvPr id="912"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3D385-0A3B-4E8B-A126-B618C113BB4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913" name=""/>
          <p:cNvSpPr txBox="1"/>
          <p:nvPr/>
        </p:nvSpPr>
        <p:spPr>
          <a:xfrm>
            <a:off x="457200" y="1981080"/>
            <a:ext cx="8229600" cy="289584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CD-10 is an integral part of meeting the goals and maturity capabilities of the MITA structure.</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usiness processes will improve when Medicaid Enterprises make the most effective use of the increased detail in ICD-10</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teroperability and clinical data enable a more client-centric Medicaid program that improves care while managing costs effectively</a:t>
            </a:r>
            <a:endParaRPr b="0" lang="en-US" sz="2200" spc="-1" strike="noStrike">
              <a:solidFill>
                <a:srgbClr val="000000"/>
              </a:solidFill>
              <a:latin typeface="Verdana"/>
            </a:endParaRPr>
          </a:p>
        </p:txBody>
      </p:sp>
      <p:sp>
        <p:nvSpPr>
          <p:cNvPr id="914" name="Rectangle 6"/>
          <p:cNvSpPr/>
          <p:nvPr/>
        </p:nvSpPr>
        <p:spPr>
          <a:xfrm>
            <a:off x="2971800" y="914400"/>
            <a:ext cx="3429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Verdana"/>
              </a:rPr>
              <a:t>Summar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Date Placeholder 3"/>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CC685-97E6-41F8-873C-956A9B2A24AA}"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856" name="Footer Placeholder 4"/>
          <p:cNvSpPr/>
          <p:nvPr/>
        </p:nvSpPr>
        <p:spPr>
          <a:xfrm>
            <a:off x="4114800" y="6477120"/>
            <a:ext cx="31240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4 The MITA Road Map</a:t>
            </a:r>
            <a:endParaRPr b="0" lang="en-US" sz="1000" spc="-1" strike="noStrike">
              <a:solidFill>
                <a:srgbClr val="000000"/>
              </a:solidFill>
              <a:latin typeface="Arial"/>
            </a:endParaRPr>
          </a:p>
        </p:txBody>
      </p:sp>
      <p:sp>
        <p:nvSpPr>
          <p:cNvPr id="857"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5D807-4571-4039-9032-7CCF925E03C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858" name="Rectangle 6"/>
          <p:cNvSpPr/>
          <p:nvPr/>
        </p:nvSpPr>
        <p:spPr>
          <a:xfrm>
            <a:off x="457200" y="2550960"/>
            <a:ext cx="8229600" cy="175428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monstrate relationship between MITA Framework and ICD-10</a:t>
            </a:r>
            <a:endParaRPr b="0" lang="en-US" sz="22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de examples of benefits of ICD-10 for MITA business processes at Maturity Levels 4 and 5</a:t>
            </a:r>
            <a:endParaRPr b="0" lang="en-US" sz="2200" spc="-1" strike="noStrike">
              <a:solidFill>
                <a:srgbClr val="000000"/>
              </a:solidFill>
              <a:latin typeface="Arial"/>
            </a:endParaRPr>
          </a:p>
        </p:txBody>
      </p:sp>
      <p:sp>
        <p:nvSpPr>
          <p:cNvPr id="859" name="TextBox 8"/>
          <p:cNvSpPr/>
          <p:nvPr/>
        </p:nvSpPr>
        <p:spPr>
          <a:xfrm>
            <a:off x="380880" y="130320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Verdana"/>
              </a:rPr>
              <a:t>Segment 4 – Moving along the MITA Road Ma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Verdana"/>
              </a:rPr>
              <a:t>Objectives of this Seg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C9B95-75EF-4380-9C16-9C0559665298}"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861" name="Footer Placeholder 2"/>
          <p:cNvSpPr/>
          <p:nvPr/>
        </p:nvSpPr>
        <p:spPr>
          <a:xfrm>
            <a:off x="4343400" y="6477120"/>
            <a:ext cx="2743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4 The MITA Road Map</a:t>
            </a:r>
            <a:endParaRPr b="0" lang="en-US" sz="1000" spc="-1" strike="noStrike">
              <a:solidFill>
                <a:srgbClr val="000000"/>
              </a:solidFill>
              <a:latin typeface="Arial"/>
            </a:endParaRPr>
          </a:p>
        </p:txBody>
      </p:sp>
      <p:sp>
        <p:nvSpPr>
          <p:cNvPr id="862"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E3172-4EA4-4631-A132-A6847555674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863" name=""/>
          <p:cNvSpPr txBox="1"/>
          <p:nvPr/>
        </p:nvSpPr>
        <p:spPr>
          <a:xfrm>
            <a:off x="457200" y="2209680"/>
            <a:ext cx="8229600" cy="198144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stablish a national framework of enabling technologies and processes that support improved program administration for the Medicaid enterprise using the ICD-10 code</a:t>
            </a:r>
            <a:endParaRPr b="0" lang="en-US" sz="2200" spc="-1" strike="noStrike">
              <a:solidFill>
                <a:srgbClr val="000000"/>
              </a:solidFill>
              <a:latin typeface="Verdana"/>
            </a:endParaRPr>
          </a:p>
        </p:txBody>
      </p:sp>
      <p:sp>
        <p:nvSpPr>
          <p:cNvPr id="864" name="TextBox 6"/>
          <p:cNvSpPr/>
          <p:nvPr/>
        </p:nvSpPr>
        <p:spPr>
          <a:xfrm>
            <a:off x="263520" y="1295280"/>
            <a:ext cx="8305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The MITA Miss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8741C-7191-430A-9AC3-7BE27DBF65F5}"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866" name="Footer Placeholder 2"/>
          <p:cNvSpPr/>
          <p:nvPr/>
        </p:nvSpPr>
        <p:spPr>
          <a:xfrm>
            <a:off x="4343400" y="6477120"/>
            <a:ext cx="2743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4 The MITA Road Map</a:t>
            </a:r>
            <a:endParaRPr b="0" lang="en-US" sz="1000" spc="-1" strike="noStrike">
              <a:solidFill>
                <a:srgbClr val="000000"/>
              </a:solidFill>
              <a:latin typeface="Arial"/>
            </a:endParaRPr>
          </a:p>
        </p:txBody>
      </p:sp>
      <p:sp>
        <p:nvSpPr>
          <p:cNvPr id="867"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3ADDB-EF76-457F-B3F0-B298F48F714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868" name=""/>
          <p:cNvSpPr txBox="1"/>
          <p:nvPr/>
        </p:nvSpPr>
        <p:spPr>
          <a:xfrm>
            <a:off x="457200" y="1599840"/>
            <a:ext cx="8229600" cy="441972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evelop seamless and integrated systems that communicate effectively to achieve common Medicaid goals through interoperability and common standards</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mote an environment that supports flexibility, adaptability, and rapid response to changes in programs and technology</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mote an enterprise view that supports enabling technologies that are aligned with Medicaid business processes</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vide data that is timely, accurate, usable, and easily accessible in order to support analysis and decision making for health care management and program administration</a:t>
            </a:r>
            <a:endParaRPr b="0" lang="en-US" sz="2100" spc="-1" strike="noStrike">
              <a:solidFill>
                <a:srgbClr val="000000"/>
              </a:solidFill>
              <a:latin typeface="Verdana"/>
            </a:endParaRPr>
          </a:p>
        </p:txBody>
      </p:sp>
      <p:sp>
        <p:nvSpPr>
          <p:cNvPr id="869" name="Rectangle 6"/>
          <p:cNvSpPr/>
          <p:nvPr/>
        </p:nvSpPr>
        <p:spPr>
          <a:xfrm>
            <a:off x="457200" y="914400"/>
            <a:ext cx="82296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MITA Goa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Date Placeholder 3"/>
          <p:cNvSpPr/>
          <p:nvPr/>
        </p:nvSpPr>
        <p:spPr>
          <a:xfrm>
            <a:off x="73915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2F03E-1B98-434B-AE83-AC6DDDF403C6}"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871" name="Footer Placeholder 4"/>
          <p:cNvSpPr/>
          <p:nvPr/>
        </p:nvSpPr>
        <p:spPr>
          <a:xfrm>
            <a:off x="4114800" y="6477120"/>
            <a:ext cx="31240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4 The MITA Road Map</a:t>
            </a:r>
            <a:endParaRPr b="0" lang="en-US" sz="1000" spc="-1" strike="noStrike">
              <a:solidFill>
                <a:srgbClr val="000000"/>
              </a:solidFill>
              <a:latin typeface="Arial"/>
            </a:endParaRPr>
          </a:p>
        </p:txBody>
      </p:sp>
      <p:sp>
        <p:nvSpPr>
          <p:cNvPr id="872"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B117A-F117-486F-95DE-07002A42CA5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graphicFrame>
        <p:nvGraphicFramePr>
          <p:cNvPr id="873" name=""/>
          <p:cNvGraphicFramePr/>
          <p:nvPr/>
        </p:nvGraphicFramePr>
        <p:xfrm>
          <a:off x="457200" y="2133720"/>
          <a:ext cx="8229600" cy="3565440"/>
        </p:xfrm>
        <a:graphic>
          <a:graphicData uri="http://schemas.openxmlformats.org/drawingml/2006/table">
            <a:tbl>
              <a:tblPr/>
              <a:tblGrid>
                <a:gridCol w="1646280"/>
                <a:gridCol w="1646280"/>
                <a:gridCol w="1644480"/>
                <a:gridCol w="1646280"/>
                <a:gridCol w="1646280"/>
              </a:tblGrid>
              <a:tr h="49536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vel 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ff"/>
                    </a:solid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vel 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ff"/>
                    </a:solid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vel 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ff"/>
                    </a:solid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vel 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ff"/>
                    </a:solid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vel 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ff"/>
                    </a:solidFill>
                  </a:tcPr>
                </a:tc>
              </a:tr>
              <a:tr h="1969920">
                <a:tc>
                  <a:txBody>
                    <a:bodyPr lIns="90000" rIns="90000" tIns="46800" bIns="46800" anchor="t">
                      <a:noAutofit/>
                    </a:bodyPr>
                    <a:p>
                      <a:pPr marL="119160" indent="-11916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mplies with State &amp; Federal Law</a:t>
                      </a:r>
                      <a:endParaRPr b="0" lang="en-US" sz="1000" spc="-1" strike="noStrike">
                        <a:solidFill>
                          <a:srgbClr val="000000"/>
                        </a:solidFill>
                        <a:latin typeface="Arial"/>
                      </a:endParaRPr>
                    </a:p>
                    <a:p>
                      <a:pPr marL="119160" indent="-11916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ostly manual</a:t>
                      </a:r>
                      <a:endParaRPr b="0" lang="en-US" sz="1000" spc="-1" strike="noStrike">
                        <a:solidFill>
                          <a:srgbClr val="000000"/>
                        </a:solidFill>
                        <a:latin typeface="Arial"/>
                      </a:endParaRPr>
                    </a:p>
                    <a:p>
                      <a:pPr marL="119160" indent="-11916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ses State standards</a:t>
                      </a:r>
                      <a:endParaRPr b="0" lang="en-US" sz="1000" spc="-1" strike="noStrike">
                        <a:solidFill>
                          <a:srgbClr val="000000"/>
                        </a:solidFill>
                        <a:latin typeface="Arial"/>
                      </a:endParaRPr>
                    </a:p>
                    <a:p>
                      <a:pPr marL="119160" indent="-11916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o interoperability</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9160" indent="-11916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mproves beyond compliance</a:t>
                      </a:r>
                      <a:endParaRPr b="0" lang="en-US" sz="1000" spc="-1" strike="noStrike">
                        <a:solidFill>
                          <a:srgbClr val="000000"/>
                        </a:solidFill>
                        <a:latin typeface="Arial"/>
                      </a:endParaRPr>
                    </a:p>
                    <a:p>
                      <a:pPr marL="119160" indent="-11916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ostly automated</a:t>
                      </a:r>
                      <a:endParaRPr b="0" lang="en-US" sz="1000" spc="-1" strike="noStrike">
                        <a:solidFill>
                          <a:srgbClr val="000000"/>
                        </a:solidFill>
                        <a:latin typeface="Arial"/>
                      </a:endParaRPr>
                    </a:p>
                    <a:p>
                      <a:pPr marL="119160" indent="-11916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ses blend of national &amp; state standards</a:t>
                      </a:r>
                      <a:endParaRPr b="0" lang="en-US" sz="1000" spc="-1" strike="noStrike">
                        <a:solidFill>
                          <a:srgbClr val="000000"/>
                        </a:solidFill>
                        <a:latin typeface="Arial"/>
                      </a:endParaRPr>
                    </a:p>
                    <a:p>
                      <a:pPr marL="119160" indent="-11916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imited interoperabi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9160" indent="-11916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llaboration with other State agencies</a:t>
                      </a:r>
                      <a:endParaRPr b="0" lang="en-US" sz="1000" spc="-1" strike="noStrike">
                        <a:solidFill>
                          <a:srgbClr val="000000"/>
                        </a:solidFill>
                        <a:latin typeface="Arial"/>
                      </a:endParaRPr>
                    </a:p>
                    <a:p>
                      <a:pPr marL="119160" indent="-11916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ses MITA standard interfaces</a:t>
                      </a:r>
                      <a:endParaRPr b="0" lang="en-US" sz="1000" spc="-1" strike="noStrike">
                        <a:solidFill>
                          <a:srgbClr val="000000"/>
                        </a:solidFill>
                        <a:latin typeface="Arial"/>
                      </a:endParaRPr>
                    </a:p>
                    <a:p>
                      <a:pPr marL="119160" indent="-11916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mproved interoperabi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9160" indent="-11916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ses clinical data to improve operation and outcome of the business process</a:t>
                      </a:r>
                      <a:endParaRPr b="0" lang="en-US" sz="1000" spc="-1" strike="noStrike">
                        <a:solidFill>
                          <a:srgbClr val="000000"/>
                        </a:solidFill>
                        <a:latin typeface="Arial"/>
                      </a:endParaRPr>
                    </a:p>
                    <a:p>
                      <a:pPr marL="119160" indent="-11916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roperability for providers, agency, memb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9160" indent="-11916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roperable nationally</a:t>
                      </a:r>
                      <a:endParaRPr b="0" lang="en-US" sz="1000" spc="-1" strike="noStrike">
                        <a:solidFill>
                          <a:srgbClr val="000000"/>
                        </a:solidFill>
                        <a:latin typeface="Arial"/>
                      </a:endParaRPr>
                    </a:p>
                    <a:p>
                      <a:pPr marL="119160" indent="-11916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nforms with NHI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0016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ses ICD-9</a:t>
                      </a:r>
                      <a:endParaRPr b="0" lang="en-US" sz="1000" spc="-1" strike="noStrike">
                        <a:solidFill>
                          <a:srgbClr val="000000"/>
                        </a:solidFill>
                        <a:latin typeface="Arial"/>
                      </a:endParaRPr>
                    </a:p>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rvention required to validate and make use of D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ses ICD-9</a:t>
                      </a:r>
                      <a:endParaRPr b="0" lang="en-US" sz="1000" spc="-1" strike="noStrike">
                        <a:solidFill>
                          <a:srgbClr val="000000"/>
                        </a:solidFill>
                        <a:latin typeface="Arial"/>
                      </a:endParaRPr>
                    </a:p>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mation improves validation and use of Dx cod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ses ICD-9 or 10</a:t>
                      </a:r>
                      <a:endParaRPr b="0" lang="en-US" sz="10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ITA standard interfaces incorporate ICD-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ses ICD-10 in administrative transactions and clinical recor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CD-10 and clinical data available electronically, nationwid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74" name="TextBox 6"/>
          <p:cNvSpPr/>
          <p:nvPr/>
        </p:nvSpPr>
        <p:spPr>
          <a:xfrm>
            <a:off x="380880" y="950760"/>
            <a:ext cx="8305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Verdana"/>
              </a:rPr>
              <a:t>MITA Maturity Model Levels 1-5</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Verdana"/>
              </a:rPr>
              <a:t>And Use of ICS-10 Co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Date Placeholder 3"/>
          <p:cNvSpPr/>
          <p:nvPr/>
        </p:nvSpPr>
        <p:spPr>
          <a:xfrm>
            <a:off x="73915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8EFB4-818F-4DBF-9306-39F7C8F6645C}"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876" name="Footer Placeholder 4"/>
          <p:cNvSpPr/>
          <p:nvPr/>
        </p:nvSpPr>
        <p:spPr>
          <a:xfrm>
            <a:off x="4114800" y="6477120"/>
            <a:ext cx="31240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4 The MITA Road Map</a:t>
            </a:r>
            <a:endParaRPr b="0" lang="en-US" sz="1000" spc="-1" strike="noStrike">
              <a:solidFill>
                <a:srgbClr val="000000"/>
              </a:solidFill>
              <a:latin typeface="Arial"/>
            </a:endParaRPr>
          </a:p>
        </p:txBody>
      </p:sp>
      <p:sp>
        <p:nvSpPr>
          <p:cNvPr id="877"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39893-A994-410A-8FCA-836CBE222D1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878" name="PlaceHolder 1"/>
          <p:cNvSpPr>
            <a:spLocks noGrp="1"/>
          </p:cNvSpPr>
          <p:nvPr>
            <p:ph/>
          </p:nvPr>
        </p:nvSpPr>
        <p:spPr>
          <a:xfrm>
            <a:off x="457200" y="1904760"/>
            <a:ext cx="8229600" cy="380988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opts national standard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hared business servic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andardized data exchanges using MITA standard interfac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ordination and collaboration with other state agenci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mation to improve the cost effectiveness of health care service delivery</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corporate use of ICD-10 in MITA business processes to strengthen Enterprise View</a:t>
            </a:r>
            <a:endParaRPr b="0" lang="en-US" sz="2200" spc="-1" strike="noStrike">
              <a:solidFill>
                <a:srgbClr val="000000"/>
              </a:solidFill>
              <a:latin typeface="Verdana"/>
            </a:endParaRPr>
          </a:p>
        </p:txBody>
      </p:sp>
      <p:sp>
        <p:nvSpPr>
          <p:cNvPr id="879" name="TextBox 6"/>
          <p:cNvSpPr/>
          <p:nvPr/>
        </p:nvSpPr>
        <p:spPr>
          <a:xfrm>
            <a:off x="380880" y="1168560"/>
            <a:ext cx="8305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Verdana"/>
              </a:rPr>
              <a:t>MITA Maturity Model Level 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5836A-B0B4-4269-8CF4-7FBD7A62EBE6}"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881" name="Footer Placeholder 2"/>
          <p:cNvSpPr/>
          <p:nvPr/>
        </p:nvSpPr>
        <p:spPr>
          <a:xfrm>
            <a:off x="4343400" y="6477120"/>
            <a:ext cx="2743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4 The MITA Road Map</a:t>
            </a:r>
            <a:endParaRPr b="0" lang="en-US" sz="1000" spc="-1" strike="noStrike">
              <a:solidFill>
                <a:srgbClr val="000000"/>
              </a:solidFill>
              <a:latin typeface="Arial"/>
            </a:endParaRPr>
          </a:p>
        </p:txBody>
      </p:sp>
      <p:sp>
        <p:nvSpPr>
          <p:cNvPr id="882"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7A34A-96AA-41A3-BC91-F15DC12FF9C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883" name=""/>
          <p:cNvSpPr txBox="1"/>
          <p:nvPr/>
        </p:nvSpPr>
        <p:spPr>
          <a:xfrm>
            <a:off x="457200" y="2209680"/>
            <a:ext cx="8229600" cy="327672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t Level 3, ICD-10 should be incorporated into every business process and system that uses diagnosis and hospital procedure cod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CD-10 provides better detail for programs (mental health, disabilities, and outpatient care) so data from separate systems can be integrated into the MMIS accurately</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agnoses are required on all claim type transactions to protect program integrity against duplicate bills</a:t>
            </a:r>
            <a:endParaRPr b="0" lang="en-US" sz="2200" spc="-1" strike="noStrike">
              <a:solidFill>
                <a:srgbClr val="000000"/>
              </a:solidFill>
              <a:latin typeface="Verdana"/>
            </a:endParaRPr>
          </a:p>
        </p:txBody>
      </p:sp>
      <p:sp>
        <p:nvSpPr>
          <p:cNvPr id="884" name="Rectangle 6"/>
          <p:cNvSpPr/>
          <p:nvPr/>
        </p:nvSpPr>
        <p:spPr>
          <a:xfrm>
            <a:off x="914400" y="1219320"/>
            <a:ext cx="6858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Verdana"/>
              </a:rPr>
              <a:t>Enterprise View for Support of Medicaid Business Proces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Date Placeholder 3"/>
          <p:cNvSpPr/>
          <p:nvPr/>
        </p:nvSpPr>
        <p:spPr>
          <a:xfrm>
            <a:off x="73915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57724-C052-4690-BB96-B70E245FD084}"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886" name="Footer Placeholder 4"/>
          <p:cNvSpPr/>
          <p:nvPr/>
        </p:nvSpPr>
        <p:spPr>
          <a:xfrm>
            <a:off x="4114800" y="6477120"/>
            <a:ext cx="31240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4 The MITA Road Map</a:t>
            </a:r>
            <a:endParaRPr b="0" lang="en-US" sz="1000" spc="-1" strike="noStrike">
              <a:solidFill>
                <a:srgbClr val="000000"/>
              </a:solidFill>
              <a:latin typeface="Arial"/>
            </a:endParaRPr>
          </a:p>
        </p:txBody>
      </p:sp>
      <p:sp>
        <p:nvSpPr>
          <p:cNvPr id="887"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B58EA-B36B-40CC-BF32-FC540617D7F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888" name="PlaceHolder 1"/>
          <p:cNvSpPr>
            <a:spLocks noGrp="1"/>
          </p:cNvSpPr>
          <p:nvPr>
            <p:ph/>
          </p:nvPr>
        </p:nvSpPr>
        <p:spPr>
          <a:xfrm>
            <a:off x="457200" y="1866960"/>
            <a:ext cx="8229600" cy="312408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despread and secure access to clinical data</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prove health care outcom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mpower beneficiary and provider stakeholder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 quantitative objectiv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cus on program improvemen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corporate use of ICD-10 in MITA business processes to achieve Level 4 goals</a:t>
            </a:r>
            <a:endParaRPr b="0" lang="en-US" sz="2200" spc="-1" strike="noStrike">
              <a:solidFill>
                <a:srgbClr val="000000"/>
              </a:solidFill>
              <a:latin typeface="Verdana"/>
            </a:endParaRPr>
          </a:p>
        </p:txBody>
      </p:sp>
      <p:sp>
        <p:nvSpPr>
          <p:cNvPr id="889" name="TextBox 6"/>
          <p:cNvSpPr/>
          <p:nvPr/>
        </p:nvSpPr>
        <p:spPr>
          <a:xfrm>
            <a:off x="380880" y="1168560"/>
            <a:ext cx="8305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Verdana"/>
              </a:rPr>
              <a:t>MITA Maturity Model Level 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48E52-4EF5-46FB-AC91-A1E0ECA38A7F}"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891" name="Footer Placeholder 2"/>
          <p:cNvSpPr/>
          <p:nvPr/>
        </p:nvSpPr>
        <p:spPr>
          <a:xfrm>
            <a:off x="4343400" y="6477120"/>
            <a:ext cx="2743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4 The MITA Road Map</a:t>
            </a:r>
            <a:endParaRPr b="0" lang="en-US" sz="1000" spc="-1" strike="noStrike">
              <a:solidFill>
                <a:srgbClr val="000000"/>
              </a:solidFill>
              <a:latin typeface="Arial"/>
            </a:endParaRPr>
          </a:p>
        </p:txBody>
      </p:sp>
      <p:sp>
        <p:nvSpPr>
          <p:cNvPr id="892"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DB860-4624-452C-B334-A3B77F50B6F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893" name=""/>
          <p:cNvSpPr txBox="1"/>
          <p:nvPr/>
        </p:nvSpPr>
        <p:spPr>
          <a:xfrm>
            <a:off x="457200" y="2209320"/>
            <a:ext cx="8229600" cy="358164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t Level 4, use of ICD-10 codes will help design and improve programs, benefit plans, care management, and payment function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w ICD-10 codes can be adopted with business process rules and basic system chang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CD-10 codes define the severity of illness to enable better management and appropriate payment process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amples: Edits, DRGs, Disease/Care Management, etc.</a:t>
            </a:r>
            <a:endParaRPr b="0" lang="en-US" sz="2200" spc="-1" strike="noStrike">
              <a:solidFill>
                <a:srgbClr val="000000"/>
              </a:solidFill>
              <a:latin typeface="Verdana"/>
            </a:endParaRPr>
          </a:p>
        </p:txBody>
      </p:sp>
      <p:sp>
        <p:nvSpPr>
          <p:cNvPr id="894" name="Rectangle 6"/>
          <p:cNvSpPr/>
          <p:nvPr/>
        </p:nvSpPr>
        <p:spPr>
          <a:xfrm>
            <a:off x="990720" y="1219320"/>
            <a:ext cx="678168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Verdana"/>
              </a:rPr>
              <a:t>Flexibility, Adaptability, and Rapid Response to Ch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3T23:03:16Z</dcterms:created>
  <dc:creator>snachimson</dc:creator>
  <dc:description/>
  <dc:language>en-US</dc:language>
  <cp:lastModifiedBy>Trish Bunch</cp:lastModifiedBy>
  <dcterms:modified xsi:type="dcterms:W3CDTF">2009-11-03T20:18:32Z</dcterms:modified>
  <cp:revision>119</cp:revision>
  <dc:subject/>
  <dc:title>ICD-10 Plannng and Assess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0">
    <vt:lpwstr>Collateral Materials</vt:lpwstr>
  </property>
  <property fmtid="{D5CDD505-2E9C-101B-9397-08002B2CF9AE}" pid="3" name="Owner">
    <vt:lpwstr>10</vt:lpwstr>
  </property>
  <property fmtid="{D5CDD505-2E9C-101B-9397-08002B2CF9AE}" pid="4" name="Status">
    <vt:lpwstr>Draft</vt:lpwstr>
  </property>
</Properties>
</file>