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commentAuthors.xml><?xml version="1.0" encoding="utf-8"?>
<p:cmAuthorLst xmlns:p="http://schemas.openxmlformats.org/presentationml/2006/main">
  <p:cmAuthor id="0" name="snachimson" initials="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Relationship Id="rId18" Type="http://schemas.openxmlformats.org/officeDocument/2006/relationships/commentAuthors" Target="commentAuthors.xml"/>
</Relationships>
</file>

<file path=ppt/comments/comment10.xml><?xml version="1.0" encoding="utf-8"?>
<p:cmLst xmlns:p="http://schemas.openxmlformats.org/presentationml/2006/main">
  <p:cm authorId="0" dt="2009-09-29T14:18:01.352000000" idx="1">
    <p:pos x="10" y="10"/>
    <p:text>Include information about ICD-10 withing the context of overall system design.</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E700-0B0D-4636-972F-8ACC7B737875}"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52302-8B88-4E1F-B268-6D8FF74E25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5AD1-776A-4F60-8E74-4010757BC780}"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15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EB54F30-BE3A-4AD6-8A96-64930CAA51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444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12 Training Segments in the entire program.</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FBB5F54-A1AB-4574-9C7F-0484D1523C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5805-628C-4530-A93E-81D2805CB4A4}"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will need to submit two types of Advanced Planning Documents (APDs) for their ICD-10 implementation project.  The first submittal should be a Planning APD, which will be reviewed by the CMS Regional Office.  The second type of APD is the Implementation AP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al Offices have a set number of days to review and pass judgment on the APDs.  States should be aware that the ICD-10 implementation will be required in all states, so many APDs are expected to be submitted.</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8D0CD-7EF1-46D5-8476-E3DB2BEE66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D96F-CA66-4CC8-AC2B-567F0B8D2BB2}"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length of the approval process and the CMS Regional Office workload, we recommend the following dates for submittal of AP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ing APDs should be submitted 60 days prior to initiating planning activ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ementation APDs should be submitted 60 days prior to initiating implementation activ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b050"/>
                </a:solidFill>
                <a:latin typeface="Calibri"/>
              </a:rPr>
              <a:t>States may wish to work with their regional office in reviewing APD drafts prior to submission of the state’s official APD request.  This may facilitate improved timeliness of the review and decision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B0F22-FA02-456F-AFDA-29AFA1AC6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B5E3-7295-4F9D-9CCB-A6DDF240A211}"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remember that not all of the costs of the ICD-10 implementation project will be matched at the enhanced level of 90 percent.  States should review the rules and discuss them with Regional Office staff, so they can effectively plan their budgets for this project.   Submit APDs with enough time to allow you to meet the ICD-10 compliance deadline.</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8FF8-C460-4288-903C-428439884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0F68-DE34-42CC-967C-75245E68950C}"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161"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B4CBCF4-A148-4F0F-80EE-AFD0D0D815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444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gment will focus on how the State Medicaid Agency can monitor its implementation process, determine if there are any issues, and stay on a path to timely compliance.  We will also discuss some ICD-10 activities that will take place after the compliance dat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88FF6-0D33-4154-9EA6-7A9ECF9790FD}"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165" name="PlaceHolder 1"/>
          <p:cNvSpPr>
            <a:spLocks noGrp="1"/>
          </p:cNvSpPr>
          <p:nvPr>
            <p:ph type="sldImg"/>
          </p:nvPr>
        </p:nvSpPr>
        <p:spPr>
          <a:xfrm>
            <a:off x="1066680" y="685800"/>
            <a:ext cx="4572000" cy="3429000"/>
          </a:xfrm>
          <a:prstGeom prst="rect">
            <a:avLst/>
          </a:prstGeom>
          <a:ln w="0">
            <a:noFill/>
          </a:ln>
        </p:spPr>
      </p:sp>
      <p:sp>
        <p:nvSpPr>
          <p:cNvPr id="166" name="PlaceHolder 2"/>
          <p:cNvSpPr>
            <a:spLocks noGrp="1"/>
          </p:cNvSpPr>
          <p:nvPr>
            <p:ph type="body"/>
          </p:nvPr>
        </p:nvSpPr>
        <p:spPr>
          <a:xfrm>
            <a:off x="304920" y="4190760"/>
            <a:ext cx="6248160" cy="4800600"/>
          </a:xfrm>
          <a:prstGeom prst="rect">
            <a:avLst/>
          </a:prstGeom>
          <a:noFill/>
          <a:ln w="0">
            <a:noFill/>
          </a:ln>
        </p:spPr>
        <p:txBody>
          <a:bodyPr anchor="t">
            <a:noAutofit/>
          </a:bodyPr>
          <a:p>
            <a:pPr indent="0">
              <a:lnSpc>
                <a:spcPct val="120000"/>
              </a:lnSpc>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the rules from the State Medicaid Manual regarding MMIS project costs.  Note that 90 percent  federal financial participation (FFP) is only available for the direct cost of design, development, implementation, and enhancement of the MMIS.  Personnel  costs for these tasks are also matched at 90 percent.  </a:t>
            </a:r>
            <a:endParaRPr b="0" lang="en-US" sz="10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D8D3-B146-4A51-B056-1FEBF43CF4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6926-0170-4CC0-9289-544E0F57ACF4}"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169" name="PlaceHolder 1"/>
          <p:cNvSpPr>
            <a:spLocks noGrp="1"/>
          </p:cNvSpPr>
          <p:nvPr>
            <p:ph type="sldImg"/>
          </p:nvPr>
        </p:nvSpPr>
        <p:spPr>
          <a:xfrm>
            <a:off x="1066680" y="685800"/>
            <a:ext cx="4572000" cy="3429000"/>
          </a:xfrm>
          <a:prstGeom prst="rect">
            <a:avLst/>
          </a:prstGeom>
          <a:ln w="0">
            <a:noFill/>
          </a:ln>
        </p:spPr>
      </p:sp>
      <p:sp>
        <p:nvSpPr>
          <p:cNvPr id="170" name="PlaceHolder 2"/>
          <p:cNvSpPr>
            <a:spLocks noGrp="1"/>
          </p:cNvSpPr>
          <p:nvPr>
            <p:ph type="body"/>
          </p:nvPr>
        </p:nvSpPr>
        <p:spPr>
          <a:xfrm>
            <a:off x="304920" y="4190760"/>
            <a:ext cx="6248160" cy="4800600"/>
          </a:xfrm>
          <a:prstGeom prst="rect">
            <a:avLst/>
          </a:prstGeom>
          <a:noFill/>
          <a:ln w="0">
            <a:noFill/>
          </a:ln>
        </p:spPr>
        <p:txBody>
          <a:bodyPr anchor="t">
            <a:noAutofit/>
          </a:bodyPr>
          <a:p>
            <a:pPr indent="0">
              <a:lnSpc>
                <a:spcPct val="120000"/>
              </a:lnSpc>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ining costs are matched at different levels  depending on the staff being trained.  For staff directly engaged in the operation of the MMIS, training costs are matched at 75 percent FFP.  For training of other staff ,  including the state project management team assigned for design, development, and implementation (DDI)  and work related to Medicaid policy and procedures, costs are matched at 50 percent.</a:t>
            </a:r>
            <a:endParaRPr b="0" lang="en-US" sz="10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4B38-245F-4352-AC69-C0AA3766B3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8083-C102-466E-901D-A923C049B6C2}"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ritical to understand that program management costs are not reimbursable at enhanced FFP rates unless they are directly related to claims processing or information retreival.</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ABE1-19C6-45A0-8441-066B1ECACA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B664-39DE-470A-9307-6751D39FCB53}"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to reiterate that this implementation project is not, and should not be thought of, as an IT project.  As we have previously shown, the transition to ICD-10 affects a wide range of business areas in the Medicaid program.  While the IT work is a necessary component, it should be thought of as supporting the business transition to ICD-10.  The list of business areas affected is not all-inclusive, but you can see that it reaches throughout the organization.  Critical business decisions on how ICD-10 will be implemented must be made in these areas as the project progresses, so that IT system changes can be made to support the business areas.  Because of this, much of the work involved in ICD-10 implementation may not be matched at 90 percent, as it would not be </a:t>
            </a:r>
            <a:r>
              <a:rPr b="0" lang="en-US" sz="1200" spc="-1" strike="noStrike" u="sng">
                <a:solidFill>
                  <a:srgbClr val="000000"/>
                </a:solidFill>
                <a:uFillTx/>
                <a:latin typeface="Calibri"/>
              </a:rPr>
              <a:t>directly attributable</a:t>
            </a:r>
            <a:r>
              <a:rPr b="0" lang="en-US" sz="1200" spc="-1" strike="noStrike">
                <a:solidFill>
                  <a:srgbClr val="000000"/>
                </a:solidFill>
                <a:latin typeface="Calibri"/>
              </a:rPr>
              <a:t> to the Medicaid program for the design, development, implementation (DDI), and enhancement of the MMIS.  However, the work involved in DDI should be matched at 90 percent.</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560D-E181-493F-9423-62C4197CD9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BC4EC-08DA-4FC3-B0C0-1675D551C2AE}"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how matching rates will be applied to ICD-10 implementation activities.  These are only examples, and specific approval for any enhanced matching will rest with the CMS Regional Off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analysis of coverage edits in the MMIS and how they may change based on ICD-10 codes,  the policy work involved will only be matched at 50 percent, while the system design, development, and implementation work will be matched at 90 percent.</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C601-96F9-481E-9CC0-8C2E614BA5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D69BF-B6D4-4BC9-8ECF-2E63B827B30C}"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ining costs will differ depending on the staff being trained.  For those staff directly engaged in MMIS operation, FFP would be 75 percent.  For the project management team, policy, and other administrative staff, FFP would be 50 perc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both internal and external testing of the new MMIS ICD-10 functionality, FFP would be 90 percen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45E6-F45C-48B0-9E0F-7F991A8DB3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Date Placeholder 2"/>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0F4E-30C5-4911-BFD1-E09E96B5C706}"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there are three categories of costs that will be incurred in the ICD-10 implementation, each with its own set of matching rules.  Most of the costs that are attributable to MMIS system changes are going to be matched at 90 percent.  However, there are restrictions on certain costs – training and other non-MMIS costs, such as buying new computers, and costs for revising Medicaid policy.  These costs will be matched at less than 90 percent.</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31AE-4346-4F71-9C99-D909F7E6D3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DF4E8-C5C6-4ACA-9BA1-09F484BC7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78A02-1141-4673-9E38-01D62FDE1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8845B-AE41-4CD9-9D4C-86F97C23B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B5A1F-D8C1-4884-9DEF-1CEE402DC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3A6B1-256F-4D11-BF1A-CD3BADA9CE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CEB38-288A-475F-AC5A-830A15517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5EA13-65D0-4CE7-8740-6B4750B82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7EA79-0997-4375-B63A-070A57906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39EB3-A337-4631-A840-49E59FEB9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F6F99-3B6D-4EA4-AC1F-A551B007F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8F473-C1EB-4C15-847F-5813DEAFE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E88C4-CE0A-4EEB-A9AC-8A31844CE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17AD1-22FD-400D-A9FB-6E1A286D0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167C9-7C3E-4EED-B4DA-3C3003555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D90DC-2DB7-4CAF-A9D3-F09E9A438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B09130-48C0-4A14-80E5-18F1A04155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E64A0-B5B5-4451-9A86-D01CE746AE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5E5F2-A42B-42A9-9284-2A1048E67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53526-FD26-475D-A721-4AE35ECED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CB8BB-CFA5-480C-96E1-D6ACB88D6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7A4E2-537E-4122-A44E-F1D6FE97F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3F6AA-E743-466A-895B-862C4D5D6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2190D-FB4C-4E7D-98EA-1A86E42CD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319DD-D4BB-46BA-B534-E504A94CA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1"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3" name="Picture 8" descr="CMS_logo"/>
          <p:cNvPicPr/>
          <p:nvPr/>
        </p:nvPicPr>
        <p:blipFill>
          <a:blip r:embed="rId2"/>
          <a:stretch/>
        </p:blipFill>
        <p:spPr>
          <a:xfrm>
            <a:off x="152280" y="152280"/>
            <a:ext cx="1976400" cy="735120"/>
          </a:xfrm>
          <a:prstGeom prst="rect">
            <a:avLst/>
          </a:prstGeom>
          <a:ln w="0">
            <a:noFill/>
          </a:ln>
        </p:spPr>
      </p:pic>
      <p:pic>
        <p:nvPicPr>
          <p:cNvPr id="4" name="Picture 5" descr="HHS"/>
          <p:cNvPicPr/>
          <p:nvPr/>
        </p:nvPicPr>
        <p:blipFill>
          <a:blip r:embed="rId3"/>
          <a:stretch/>
        </p:blipFill>
        <p:spPr>
          <a:xfrm>
            <a:off x="8077320" y="152280"/>
            <a:ext cx="685800" cy="682920"/>
          </a:xfrm>
          <a:prstGeom prst="rect">
            <a:avLst/>
          </a:prstGeom>
          <a:ln w="0">
            <a:noFill/>
          </a:ln>
        </p:spPr>
      </p:pic>
      <p:sp>
        <p:nvSpPr>
          <p:cNvPr id="5" name="PlaceHolder 3"/>
          <p:cNvSpPr>
            <a:spLocks noGrp="1"/>
          </p:cNvSpPr>
          <p:nvPr>
            <p:ph type="dt" idx="1"/>
          </p:nvPr>
        </p:nvSpPr>
        <p:spPr>
          <a:xfrm>
            <a:off x="7391520" y="6381360"/>
            <a:ext cx="12189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84087-D622-4D5F-918D-B96D2D945D33}"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6" name="PlaceHolder 4"/>
          <p:cNvSpPr>
            <a:spLocks noGrp="1"/>
          </p:cNvSpPr>
          <p:nvPr>
            <p:ph type="ftr" idx="2"/>
          </p:nvPr>
        </p:nvSpPr>
        <p:spPr>
          <a:xfrm>
            <a:off x="4267080" y="63813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7" name="PlaceHolder 5"/>
          <p:cNvSpPr>
            <a:spLocks noGrp="1"/>
          </p:cNvSpPr>
          <p:nvPr>
            <p:ph type="sldNum" idx="3"/>
          </p:nvPr>
        </p:nvSpPr>
        <p:spPr>
          <a:xfrm>
            <a:off x="8305560" y="6381360"/>
            <a:ext cx="6858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6D93-E3F6-4CCF-8F38-E6D5CA1D81D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5BC1-3FD8-4038-A036-052FAA7D8150}" type="datetime">
              <a:rPr b="0" lang="en-US" sz="1200" spc="-1" strike="noStrike">
                <a:solidFill>
                  <a:srgbClr val="898989"/>
                </a:solidFill>
                <a:latin typeface="Arial"/>
              </a:rPr>
              <a:t>07/29/26</a:t>
            </a:fld>
            <a:r>
              <a:rPr b="0" lang="en-US" sz="1200" spc="-1" strike="noStrike">
                <a:solidFill>
                  <a:srgbClr val="898989"/>
                </a:solidFill>
                <a:latin typeface="Arial"/>
              </a:rPr>
              <a:t>9/14/2009</a:t>
            </a:r>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9 - MMIS Funding OpportunitiesSegment 11 - Partner and Vendor Considerations</a:t>
            </a:r>
            <a:endParaRPr b="0" lang="en-US" sz="12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31D4-EBFC-4AB8-8805-790948C419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14FD5-0469-46FD-9A17-1F48D7850441}"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93"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94"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EFB6-CFBF-418B-A63A-45B4A68E381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95" name="Rectangle 3"/>
          <p:cNvSpPr/>
          <p:nvPr/>
        </p:nvSpPr>
        <p:spPr>
          <a:xfrm>
            <a:off x="4419720" y="4191120"/>
            <a:ext cx="4495680" cy="144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Verdana"/>
              </a:rPr>
              <a:t>Training Segment 9</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0504d"/>
                </a:solidFill>
                <a:latin typeface="Verdana"/>
              </a:rPr>
              <a:t>MMIS Funding Opportunities</a:t>
            </a:r>
            <a:endParaRPr b="0" lang="en-US" sz="2300" spc="-1" strike="noStrike">
              <a:solidFill>
                <a:srgbClr val="000000"/>
              </a:solidFill>
              <a:latin typeface="Arial"/>
            </a:endParaRPr>
          </a:p>
        </p:txBody>
      </p:sp>
      <p:sp>
        <p:nvSpPr>
          <p:cNvPr id="96" name="Rectangle 3"/>
          <p:cNvSpPr/>
          <p:nvPr/>
        </p:nvSpPr>
        <p:spPr>
          <a:xfrm>
            <a:off x="4572000" y="2895480"/>
            <a:ext cx="380988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97" name="Rectangle 6"/>
          <p:cNvSpPr/>
          <p:nvPr/>
        </p:nvSpPr>
        <p:spPr>
          <a:xfrm>
            <a:off x="403848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Content Placeholder 1"/>
          <p:cNvSpPr/>
          <p:nvPr/>
        </p:nvSpPr>
        <p:spPr>
          <a:xfrm>
            <a:off x="22860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ae4845"/>
                </a:solidFill>
                <a:uFillTx/>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ing Progress and Post Compliance Date Actions</a:t>
            </a:r>
            <a:endParaRPr b="0" lang="en-US" sz="1000" spc="-1" strike="noStrike">
              <a:solidFill>
                <a:srgbClr val="000000"/>
              </a:solidFill>
              <a:latin typeface="Arial"/>
            </a:endParaRPr>
          </a:p>
        </p:txBody>
      </p:sp>
      <p:sp>
        <p:nvSpPr>
          <p:cNvPr id="99" name="TextBox 9"/>
          <p:cNvSpPr/>
          <p:nvPr/>
        </p:nvSpPr>
        <p:spPr>
          <a:xfrm>
            <a:off x="4495680" y="114156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ICD-10</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lanning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1A5F9-7AED-41C4-88C5-EC0F799FFBE6}"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41"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142"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22C53-66FA-4EC7-8541-C3810D0048D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43" name=""/>
          <p:cNvSpPr txBox="1"/>
          <p:nvPr/>
        </p:nvSpPr>
        <p:spPr>
          <a:xfrm>
            <a:off x="457200" y="17521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are two types of APDs that may be submitted:</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ning APD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ation APDs</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lanning APD is not required if a state has already done a requirements analysis</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must be submitted to the CMS Regional Office for approval before work can begin</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MS has  60 days to review and make a determination on the APDs</a:t>
            </a:r>
            <a:endParaRPr b="0" lang="en-US" sz="2000" spc="-1" strike="noStrike">
              <a:solidFill>
                <a:srgbClr val="000000"/>
              </a:solidFill>
              <a:latin typeface="Verdana"/>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4" name="Text Box 5"/>
          <p:cNvSpPr/>
          <p:nvPr/>
        </p:nvSpPr>
        <p:spPr>
          <a:xfrm>
            <a:off x="380880" y="1066680"/>
            <a:ext cx="8382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Timing of AP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2420D-0F8B-4889-9096-DA7970BE0C40}"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46"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147"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7CCFD-2BF3-4F36-8136-53FA1D5A5E5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48" name=""/>
          <p:cNvSpPr txBox="1"/>
          <p:nvPr/>
        </p:nvSpPr>
        <p:spPr>
          <a:xfrm>
            <a:off x="457200" y="1676160"/>
            <a:ext cx="8229600" cy="20574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nning APD -  60 days prior to initiating planning activitie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ementation APD - 60 days prior to initiating implementation activitie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Text Box 5"/>
          <p:cNvSpPr/>
          <p:nvPr/>
        </p:nvSpPr>
        <p:spPr>
          <a:xfrm>
            <a:off x="380880" y="1066680"/>
            <a:ext cx="8382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Recommended Submittal Tim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08ED-86AE-4B5B-8B9D-250A835207FE}"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51"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152"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AC06-6774-4905-AE3D-F1FE79B68C8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3" name=""/>
          <p:cNvSpPr txBox="1"/>
          <p:nvPr/>
        </p:nvSpPr>
        <p:spPr>
          <a:xfrm>
            <a:off x="457200" y="17521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all ICD-10 implementation costs will be matched at 90%</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s should review rules (SMM 11276.11) and determine what matching rates apply to each of their activities</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at the ICD-10 compliance deadline and plan for APD submission to allow you to comfortably meet that deadline</a:t>
            </a:r>
            <a:endParaRPr b="0" lang="en-US" sz="2000" spc="-1" strike="noStrike">
              <a:solidFill>
                <a:srgbClr val="000000"/>
              </a:solidFill>
              <a:latin typeface="Verdana"/>
            </a:endParaRPr>
          </a:p>
        </p:txBody>
      </p:sp>
      <p:sp>
        <p:nvSpPr>
          <p:cNvPr id="154" name="Text Box 5"/>
          <p:cNvSpPr/>
          <p:nvPr/>
        </p:nvSpPr>
        <p:spPr>
          <a:xfrm>
            <a:off x="380880" y="1066680"/>
            <a:ext cx="8382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umma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3F25D-8A98-47B3-B794-207A843E8494}"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01"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102"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CB1BE-A7DD-480C-BD23-27CA8786ECF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3" name="PlaceHolder 1"/>
          <p:cNvSpPr>
            <a:spLocks noGrp="1"/>
          </p:cNvSpPr>
          <p:nvPr>
            <p:ph/>
          </p:nvPr>
        </p:nvSpPr>
        <p:spPr>
          <a:xfrm>
            <a:off x="457200" y="2513160"/>
            <a:ext cx="8229600" cy="18316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rules for MMIS funding</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y rules to ICD-10 Implementation Project</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 timing of APD submission</a:t>
            </a:r>
            <a:endParaRPr b="0" lang="en-US" sz="2400" spc="-1" strike="noStrike">
              <a:solidFill>
                <a:srgbClr val="000000"/>
              </a:solidFill>
              <a:latin typeface="Verdana"/>
            </a:endParaRPr>
          </a:p>
        </p:txBody>
      </p:sp>
      <p:sp>
        <p:nvSpPr>
          <p:cNvPr id="104" name="Text Box 5"/>
          <p:cNvSpPr/>
          <p:nvPr/>
        </p:nvSpPr>
        <p:spPr>
          <a:xfrm>
            <a:off x="457200" y="1143000"/>
            <a:ext cx="830592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egment 9 – MMIS Funding Opportunities</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Objectives of this Seg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37C6E-1099-478F-8946-3468B40963B0}"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06"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107"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2FCAB-DAD6-4D94-A52E-443C6399C45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8" name=""/>
          <p:cNvSpPr txBox="1"/>
          <p:nvPr/>
        </p:nvSpPr>
        <p:spPr>
          <a:xfrm>
            <a:off x="457200" y="1726920"/>
            <a:ext cx="8229600" cy="3606840"/>
          </a:xfrm>
          <a:prstGeom prst="rect">
            <a:avLst/>
          </a:prstGeom>
          <a:noFill/>
          <a:ln w="0">
            <a:noFill/>
          </a:ln>
        </p:spPr>
        <p:txBody>
          <a:bodyPr anchor="t">
            <a:normAutofit fontScale="98000"/>
          </a:bodyPr>
          <a:p>
            <a:pPr marL="357480" indent="-250200">
              <a:lnSpc>
                <a:spcPts val="2200"/>
              </a:lnSpc>
              <a:spcBef>
                <a:spcPts val="99"/>
              </a:spcBef>
              <a:spcAft>
                <a:spcPts val="2999"/>
              </a:spcAft>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0 percent FFP is available for costs </a:t>
            </a:r>
            <a:r>
              <a:rPr b="0" lang="en-US" sz="1800" spc="-1" strike="noStrike" u="sng">
                <a:solidFill>
                  <a:srgbClr val="000000"/>
                </a:solidFill>
                <a:uFillTx/>
                <a:latin typeface="Verdana"/>
              </a:rPr>
              <a:t>directly attributable</a:t>
            </a:r>
            <a:r>
              <a:rPr b="0" lang="en-US" sz="1800" spc="-1" strike="noStrike">
                <a:solidFill>
                  <a:srgbClr val="000000"/>
                </a:solidFill>
                <a:latin typeface="Verdana"/>
              </a:rPr>
              <a:t> to the Medicaid program for the design, development, implementation (DDI), and enhancement of the MMIS</a:t>
            </a:r>
            <a:endParaRPr b="0" lang="en-US" sz="1800" spc="-1" strike="noStrike">
              <a:solidFill>
                <a:srgbClr val="000000"/>
              </a:solidFill>
              <a:latin typeface="Verdana"/>
            </a:endParaRPr>
          </a:p>
          <a:p>
            <a:pPr marL="357480" indent="-250200">
              <a:lnSpc>
                <a:spcPts val="2200"/>
              </a:lnSpc>
              <a:spcBef>
                <a:spcPts val="99"/>
              </a:spcBef>
              <a:spcAft>
                <a:spcPts val="2999"/>
              </a:spcAft>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luded are resources for systems requirements analysis, design definition, programming, unit and integration testing, conversion, hardware/software necessary for DDI, and supplies for the above</a:t>
            </a:r>
            <a:endParaRPr b="0" lang="en-US" sz="1800" spc="-1" strike="noStrike">
              <a:solidFill>
                <a:srgbClr val="000000"/>
              </a:solidFill>
              <a:latin typeface="Verdana"/>
            </a:endParaRPr>
          </a:p>
          <a:p>
            <a:pPr marL="357480" indent="-250200">
              <a:lnSpc>
                <a:spcPts val="2200"/>
              </a:lnSpc>
              <a:spcBef>
                <a:spcPts val="99"/>
              </a:spcBef>
              <a:spcAft>
                <a:spcPts val="2999"/>
              </a:spcAft>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se and other </a:t>
            </a:r>
            <a:r>
              <a:rPr b="0" lang="en-US" sz="1800" spc="-1" strike="noStrike" u="sng">
                <a:solidFill>
                  <a:srgbClr val="000000"/>
                </a:solidFill>
                <a:uFillTx/>
                <a:latin typeface="Verdana"/>
              </a:rPr>
              <a:t>direct costs,</a:t>
            </a:r>
            <a:r>
              <a:rPr b="0" lang="en-US" sz="1800" spc="-1" strike="noStrike">
                <a:solidFill>
                  <a:srgbClr val="000000"/>
                </a:solidFill>
                <a:latin typeface="Verdana"/>
              </a:rPr>
              <a:t> including personnel costs of the state project management team specifically assigned for the development and installation effort, are matched at 90 percent federal financial participation (FFP)</a:t>
            </a:r>
            <a:endParaRPr b="0" lang="en-US" sz="1800" spc="-1" strike="noStrike">
              <a:solidFill>
                <a:srgbClr val="000000"/>
              </a:solidFill>
              <a:latin typeface="Verdana"/>
            </a:endParaRPr>
          </a:p>
        </p:txBody>
      </p:sp>
      <p:sp>
        <p:nvSpPr>
          <p:cNvPr id="109" name="Text Box 5"/>
          <p:cNvSpPr/>
          <p:nvPr/>
        </p:nvSpPr>
        <p:spPr>
          <a:xfrm>
            <a:off x="228600" y="1143000"/>
            <a:ext cx="83818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MM 11276 – Allowable MMIS Project Cos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8EF9-296E-4410-B56B-0F2B770E3B81}"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11"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112"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FB349-D681-451F-BBE8-519DFCD44DE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3" name=""/>
          <p:cNvSpPr txBox="1"/>
          <p:nvPr/>
        </p:nvSpPr>
        <p:spPr>
          <a:xfrm>
            <a:off x="457200" y="1828440"/>
            <a:ext cx="8229600" cy="3505320"/>
          </a:xfrm>
          <a:prstGeom prst="rect">
            <a:avLst/>
          </a:prstGeom>
          <a:noFill/>
          <a:ln w="0">
            <a:noFill/>
          </a:ln>
        </p:spPr>
        <p:txBody>
          <a:bodyPr anchor="t">
            <a:normAutofit/>
          </a:bodyPr>
          <a:p>
            <a:pPr marL="365040" indent="-255600">
              <a:spcBef>
                <a:spcPts val="400"/>
              </a:spcBef>
              <a:spcAft>
                <a:spcPts val="2999"/>
              </a:spcAft>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raining of personnel </a:t>
            </a:r>
            <a:r>
              <a:rPr b="0" lang="en-US" sz="1800" spc="-1" strike="noStrike" u="sng">
                <a:solidFill>
                  <a:srgbClr val="000000"/>
                </a:solidFill>
                <a:uFillTx/>
                <a:latin typeface="Verdana"/>
              </a:rPr>
              <a:t>directly engaged in the operation</a:t>
            </a:r>
            <a:r>
              <a:rPr b="0" lang="en-US" sz="1800" spc="-1" strike="noStrike">
                <a:solidFill>
                  <a:srgbClr val="000000"/>
                </a:solidFill>
                <a:latin typeface="Verdana"/>
              </a:rPr>
              <a:t> of an MMIS are matched at 75 percent FFP</a:t>
            </a:r>
            <a:endParaRPr b="0" lang="en-US" sz="1800" spc="-1" strike="noStrike">
              <a:solidFill>
                <a:srgbClr val="000000"/>
              </a:solidFill>
              <a:latin typeface="Verdana"/>
            </a:endParaRPr>
          </a:p>
          <a:p>
            <a:pPr marL="365040" indent="-255600">
              <a:spcBef>
                <a:spcPts val="400"/>
              </a:spcBef>
              <a:spcAft>
                <a:spcPts val="2999"/>
              </a:spcAft>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sts of training the state project management team specifically assigned for the development and installation effort are matched at 50 percent FFP</a:t>
            </a:r>
            <a:endParaRPr b="0" lang="en-US" sz="1800" spc="-1" strike="noStrike">
              <a:solidFill>
                <a:srgbClr val="000000"/>
              </a:solidFill>
              <a:latin typeface="Verdana"/>
            </a:endParaRPr>
          </a:p>
          <a:p>
            <a:pPr marL="365040" indent="-255600">
              <a:spcBef>
                <a:spcPts val="400"/>
              </a:spcBef>
              <a:spcAft>
                <a:spcPts val="2999"/>
              </a:spcAft>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ther administrative activities, including training of personnel engaged in the design, development, or implementation (DDI) of an MMIS and work related to Medicaid policy and procedures, are matched at 50 percent</a:t>
            </a:r>
            <a:endParaRPr b="0" lang="en-US" sz="1800" spc="-1" strike="noStrike">
              <a:solidFill>
                <a:srgbClr val="000000"/>
              </a:solidFill>
              <a:latin typeface="Verdana"/>
            </a:endParaRPr>
          </a:p>
        </p:txBody>
      </p:sp>
      <p:sp>
        <p:nvSpPr>
          <p:cNvPr id="114" name="Text Box 5"/>
          <p:cNvSpPr/>
          <p:nvPr/>
        </p:nvSpPr>
        <p:spPr>
          <a:xfrm>
            <a:off x="380880" y="1143000"/>
            <a:ext cx="8382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MM 11276 – Allowable MMIS Project Cos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0645-23DB-4DAC-AECE-6589FC35A533}"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16"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117"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A8625-BBA8-4E16-8CFC-0A6FEBC8D2F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8" name=""/>
          <p:cNvSpPr txBox="1"/>
          <p:nvPr/>
        </p:nvSpPr>
        <p:spPr>
          <a:xfrm>
            <a:off x="457200" y="1904760"/>
            <a:ext cx="8229600" cy="20574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s of program management required to operate a Medicaid program are </a:t>
            </a:r>
            <a:r>
              <a:rPr b="0" lang="en-US" sz="2400" spc="-1" strike="noStrike" u="sng">
                <a:solidFill>
                  <a:srgbClr val="000000"/>
                </a:solidFill>
                <a:uFillTx/>
                <a:latin typeface="Verdana"/>
              </a:rPr>
              <a:t>not reimbursable at the enhanced MMIS FFP</a:t>
            </a:r>
            <a:r>
              <a:rPr b="0" lang="en-US" sz="2400" spc="-1" strike="noStrike">
                <a:solidFill>
                  <a:srgbClr val="000000"/>
                </a:solidFill>
                <a:latin typeface="Verdana"/>
              </a:rPr>
              <a:t> rates unless directly related to claims processing or information retrieval</a:t>
            </a:r>
            <a:endParaRPr b="0" lang="en-US" sz="2400" spc="-1" strike="noStrike">
              <a:solidFill>
                <a:srgbClr val="000000"/>
              </a:solidFill>
              <a:latin typeface="Verdana"/>
            </a:endParaRPr>
          </a:p>
        </p:txBody>
      </p:sp>
      <p:sp>
        <p:nvSpPr>
          <p:cNvPr id="119" name="Text Box 5"/>
          <p:cNvSpPr/>
          <p:nvPr/>
        </p:nvSpPr>
        <p:spPr>
          <a:xfrm>
            <a:off x="380880" y="1143000"/>
            <a:ext cx="8382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MM 11276 – Allowable MMIS Project Cos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4FCF2-1B07-417E-AD70-3088F7522F56}"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21"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122"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F7E78-7488-40C4-ADDD-0FE6365369D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3" name=""/>
          <p:cNvSpPr txBox="1"/>
          <p:nvPr/>
        </p:nvSpPr>
        <p:spPr>
          <a:xfrm>
            <a:off x="457200" y="1980720"/>
            <a:ext cx="8229600" cy="39625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CD-10 Implementation is not just an IT project</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CD-10 Implementation affects a wide range of business area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nefit coverage</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yment policies</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r relations</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aims processing</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tistical trending</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aud and Abuse</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udget estimation</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ality measurement</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ver programs and case management</a:t>
            </a:r>
            <a:endParaRPr b="0" lang="en-US" sz="1800" spc="-1" strike="noStrike">
              <a:solidFill>
                <a:srgbClr val="000000"/>
              </a:solidFill>
              <a:latin typeface="Verdana"/>
            </a:endParaRPr>
          </a:p>
        </p:txBody>
      </p:sp>
      <p:sp>
        <p:nvSpPr>
          <p:cNvPr id="124" name="Text Box 5"/>
          <p:cNvSpPr/>
          <p:nvPr/>
        </p:nvSpPr>
        <p:spPr>
          <a:xfrm>
            <a:off x="380880" y="914400"/>
            <a:ext cx="83822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Application of Rules to ICD-10 Implementation Projec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28E52-FE26-445C-8641-84335A9D0FC2}"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26"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127"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2BF1-6E5E-4359-917C-78BB128D42E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8" name=""/>
          <p:cNvSpPr txBox="1"/>
          <p:nvPr/>
        </p:nvSpPr>
        <p:spPr>
          <a:xfrm>
            <a:off x="457200" y="1752120"/>
            <a:ext cx="8229600" cy="34290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viewing and changing coverage edits for ICD-10</a:t>
            </a:r>
            <a:endParaRPr b="0" lang="en-US" sz="23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CD-10 coverage edits for the claims processing system to implement program policies (e.g., a limitation of a service) is allowable at 90 percent FFP for system design, development, and implementation, as these are directly attributable to MMIS </a:t>
            </a:r>
            <a:endParaRPr b="0" lang="en-US" sz="1800" spc="-1" strike="noStrike">
              <a:solidFill>
                <a:srgbClr val="000000"/>
              </a:solidFill>
              <a:latin typeface="Verdana"/>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cost of the program management staff that developed the policy is allowable </a:t>
            </a:r>
            <a:r>
              <a:rPr b="0" lang="en-US" sz="1800" spc="-1" strike="noStrike" u="sng">
                <a:solidFill>
                  <a:srgbClr val="000000"/>
                </a:solidFill>
                <a:uFillTx/>
                <a:latin typeface="Verdana"/>
              </a:rPr>
              <a:t>only at the regular 50 percent rate, as these are administrative activities</a:t>
            </a:r>
            <a:endParaRPr b="0" lang="en-US" sz="1800" spc="-1" strike="noStrike">
              <a:solidFill>
                <a:srgbClr val="000000"/>
              </a:solidFill>
              <a:latin typeface="Verdana"/>
            </a:endParaRPr>
          </a:p>
        </p:txBody>
      </p:sp>
      <p:sp>
        <p:nvSpPr>
          <p:cNvPr id="129" name="Text Box 5"/>
          <p:cNvSpPr/>
          <p:nvPr/>
        </p:nvSpPr>
        <p:spPr>
          <a:xfrm>
            <a:off x="380880" y="1066680"/>
            <a:ext cx="8382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Examples of Matching Fun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6A733-71D1-4A86-B74C-B25C458E20B2}"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31"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132"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DA63-35FC-4A00-AC3B-786DEE083EC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3" name=""/>
          <p:cNvSpPr txBox="1"/>
          <p:nvPr/>
        </p:nvSpPr>
        <p:spPr>
          <a:xfrm>
            <a:off x="304920" y="1828800"/>
            <a:ext cx="8229600" cy="32767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CD-10 Training</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personnel directly engaged in MMIS operation, FFP would be 75% (per SMM 11276.11)</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project management team, FFP would be 50%</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policy and other administrative staff, FFP would be 50%</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Cost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internal testing and trading partner testing of the MMIS system enhancements for ICD-10, FFP would be 90%</a:t>
            </a:r>
            <a:endParaRPr b="0" lang="en-US" sz="1800" spc="-1" strike="noStrike">
              <a:solidFill>
                <a:srgbClr val="000000"/>
              </a:solidFill>
              <a:latin typeface="Verdana"/>
            </a:endParaRPr>
          </a:p>
        </p:txBody>
      </p:sp>
      <p:sp>
        <p:nvSpPr>
          <p:cNvPr id="134" name="Text Box 5"/>
          <p:cNvSpPr/>
          <p:nvPr/>
        </p:nvSpPr>
        <p:spPr>
          <a:xfrm>
            <a:off x="380880" y="1066680"/>
            <a:ext cx="8382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Examples of Matching Fun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1"/>
          <p:cNvSpPr/>
          <p:nvPr/>
        </p:nvSpPr>
        <p:spPr>
          <a:xfrm>
            <a:off x="7391520" y="6381720"/>
            <a:ext cx="12189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1CE2-D6CA-40E4-9195-AA136260DC77}"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36" name="Footer Placeholder 2"/>
          <p:cNvSpPr/>
          <p:nvPr/>
        </p:nvSpPr>
        <p:spPr>
          <a:xfrm>
            <a:off x="4267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9 - MMIS Funding Opportunities</a:t>
            </a:r>
            <a:endParaRPr b="0" lang="en-US" sz="1000" spc="-1" strike="noStrike">
              <a:solidFill>
                <a:srgbClr val="000000"/>
              </a:solidFill>
              <a:latin typeface="Arial"/>
            </a:endParaRPr>
          </a:p>
        </p:txBody>
      </p:sp>
      <p:sp>
        <p:nvSpPr>
          <p:cNvPr id="137" name="Slide Number Placeholder 3"/>
          <p:cNvSpPr/>
          <p:nvPr/>
        </p:nvSpPr>
        <p:spPr>
          <a:xfrm>
            <a:off x="830592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07FD-2F22-4D9D-B0DE-C7DF1D54E9A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8" name=""/>
          <p:cNvSpPr txBox="1"/>
          <p:nvPr/>
        </p:nvSpPr>
        <p:spPr>
          <a:xfrm>
            <a:off x="457200" y="1752120"/>
            <a:ext cx="8229600" cy="312444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costs associated with the </a:t>
            </a:r>
            <a:r>
              <a:rPr b="1" lang="en-US" sz="2000" spc="-1" strike="noStrike">
                <a:solidFill>
                  <a:srgbClr val="000000"/>
                </a:solidFill>
                <a:latin typeface="Verdana"/>
              </a:rPr>
              <a:t>MMIS system changes </a:t>
            </a:r>
            <a:r>
              <a:rPr b="0" lang="en-US" sz="2000" spc="-1" strike="noStrike">
                <a:solidFill>
                  <a:srgbClr val="000000"/>
                </a:solidFill>
                <a:latin typeface="Verdana"/>
              </a:rPr>
              <a:t>are going to be 90% matched</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rtain costs are restricted (such as training and other non-MMIS costs, such as buying new computers for the SMA staff who may need a stronger/faster PC  to do ICD-10 work) </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sts for revising Medicaid policy and training of Medicaid staff around ICD-10 that are not related to MMIS system remediation may be included, but will be matched at 50%.</a:t>
            </a:r>
            <a:endParaRPr b="0" lang="en-US" sz="2000" spc="-1" strike="noStrike">
              <a:solidFill>
                <a:srgbClr val="000000"/>
              </a:solidFill>
              <a:latin typeface="Verdana"/>
            </a:endParaRPr>
          </a:p>
        </p:txBody>
      </p:sp>
      <p:sp>
        <p:nvSpPr>
          <p:cNvPr id="139" name="Text Box 5"/>
          <p:cNvSpPr/>
          <p:nvPr/>
        </p:nvSpPr>
        <p:spPr>
          <a:xfrm>
            <a:off x="380880" y="1066680"/>
            <a:ext cx="8382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General Guide for Fund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Sherry Scott</cp:lastModifiedBy>
  <dcterms:modified xsi:type="dcterms:W3CDTF">2009-10-29T15:48:57Z</dcterms:modified>
  <cp:revision>462</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10</vt:lpwstr>
  </property>
  <property fmtid="{D5CDD505-2E9C-101B-9397-08002B2CF9AE}" pid="4" name="Status">
    <vt:lpwstr>Draft</vt:lpwstr>
  </property>
</Properties>
</file>