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9"/>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53"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20"/>
          </p:nvPr>
        </p:nvSpPr>
        <p:spPr>
          <a:xfrm>
            <a:off x="-360" y="882972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21"/>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155393-CB8A-4C07-B2CB-B277AC98A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60B91B5-4F79-4A07-9AB1-F49630514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06640" y="696960"/>
            <a:ext cx="464796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7B02DB-68F3-4F8E-9EA5-E16D20BD4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6640" y="696960"/>
            <a:ext cx="464796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best way to deal with trading partners?  Early communication and cooperation is an excellent start.  Make sure they understand what you will be doing.   And, especially for your trading partners with which you exchange the most transactions, try to understand what they are doing to implement ICD-10.  Testing will be critical to determine how well your systems will work with ICD-10, and you must test with each of your trading partners.  Set up schedules so you can coordinate testing.  You will not be able to test with everyone at the same time.   Make sure you have well-thought-out testing scenarios, and a separate test system for this.</a:t>
            </a:r>
            <a:endParaRPr b="0" lang="en-US" sz="1200" spc="-1" strike="noStrike">
              <a:solidFill>
                <a:srgbClr val="000000"/>
              </a:solidFill>
              <a:latin typeface="Calibri"/>
            </a:endParaRPr>
          </a:p>
        </p:txBody>
      </p:sp>
      <p:sp>
        <p:nvSpPr>
          <p:cNvPr id="3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9DA05B-352F-4774-A77F-C7C0786C2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06640" y="696960"/>
            <a:ext cx="4647960" cy="3486240"/>
          </a:xfrm>
          <a:prstGeom prst="rect">
            <a:avLst/>
          </a:prstGeom>
          <a:ln w="0">
            <a:noFill/>
          </a:ln>
        </p:spPr>
      </p:sp>
      <p:sp>
        <p:nvSpPr>
          <p:cNvPr id="3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ill probably be trading partners who will not be ready to exchange ICD-10 codes by the compliance date.  You must have processes in place to handle those situations.  Prior planning is essential.  How will you handle those  –  Do you simply not transact business until the trading partner is ready to use ICD-10 codes?  This will be an important policy and business decision.</a:t>
            </a:r>
            <a:endParaRPr b="0" lang="en-US" sz="1200" spc="-1" strike="noStrike">
              <a:solidFill>
                <a:srgbClr val="000000"/>
              </a:solidFill>
              <a:latin typeface="Calibri"/>
            </a:endParaRPr>
          </a:p>
        </p:txBody>
      </p:sp>
      <p:sp>
        <p:nvSpPr>
          <p:cNvPr id="3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827118-5172-4D29-9B1D-D5D42C8B9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A4C201-8B5D-486F-B81B-28067DD23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06640" y="696960"/>
            <a:ext cx="4647960" cy="3486240"/>
          </a:xfrm>
          <a:prstGeom prst="rect">
            <a:avLst/>
          </a:prstGeom>
          <a:ln w="0">
            <a:noFill/>
          </a:ln>
        </p:spPr>
      </p:sp>
      <p:sp>
        <p:nvSpPr>
          <p:cNvPr id="35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vendors and trading partners are an essential part of your ICD-10 implementation plan.  Contact them and make them aware of your implementation schedule.  Get commitments from them for delivery of their ICD-10 products. Vendors should make commitments to follow your implementation sched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ing with trading partners is the only way to determine if your ICD-10 implementation was successful, so schedule that testing to allow enough time to make necessary system corrections.</a:t>
            </a:r>
            <a:endParaRPr b="0" lang="en-US" sz="1200" spc="-1" strike="noStrike">
              <a:solidFill>
                <a:srgbClr val="000000"/>
              </a:solidFill>
              <a:latin typeface="Calibri"/>
            </a:endParaRPr>
          </a:p>
        </p:txBody>
      </p:sp>
      <p:sp>
        <p:nvSpPr>
          <p:cNvPr id="3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31007F-63D2-480B-BC18-2A2979C88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0ECEF0-0FEC-455A-850C-B6E45BAFC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6640" y="696960"/>
            <a:ext cx="4647960" cy="3486240"/>
          </a:xfrm>
          <a:prstGeom prst="rect">
            <a:avLst/>
          </a:prstGeom>
          <a:ln w="0">
            <a:noFill/>
          </a:ln>
        </p:spPr>
      </p:sp>
      <p:sp>
        <p:nvSpPr>
          <p:cNvPr id="3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focus on what roles trading partners and vendors play in the implementation of ICD-10, and how best to manage your business activities with them during the ICD-10 implementation proces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6640" y="696960"/>
            <a:ext cx="4647960" cy="3486240"/>
          </a:xfrm>
          <a:prstGeom prst="rect">
            <a:avLst/>
          </a:prstGeom>
          <a:ln w="0">
            <a:noFill/>
          </a:ln>
        </p:spPr>
      </p:sp>
      <p:sp>
        <p:nvSpPr>
          <p:cNvPr id="32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ng partners are those entities with which the Medicaid Agency exchanges administrative transactions, that will be using the ICD-10 codes.  These entities include providers, other health plans (for coordination of benefits), clearinghouses, managed care plans, and possibly other state agencies.  As we transition to ICD-10 codes, these trading partners will also be transitioning and will be facing the same challenges and opportunities as the Medicaid program.</a:t>
            </a:r>
            <a:endParaRPr b="0" lang="en-US" sz="1200" spc="-1" strike="noStrike">
              <a:solidFill>
                <a:srgbClr val="000000"/>
              </a:solidFill>
              <a:latin typeface="Calibri"/>
            </a:endParaRPr>
          </a:p>
        </p:txBody>
      </p:sp>
      <p:sp>
        <p:nvSpPr>
          <p:cNvPr id="3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7D3243-7AA2-4A79-9E58-C233FAB98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6640" y="696960"/>
            <a:ext cx="4647960" cy="3486240"/>
          </a:xfrm>
          <a:prstGeom prst="rect">
            <a:avLst/>
          </a:prstGeom>
          <a:ln w="0">
            <a:noFill/>
          </a:ln>
        </p:spPr>
      </p:sp>
      <p:sp>
        <p:nvSpPr>
          <p:cNvPr id="3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dors are companies with whom the Medicaid agency will contract to provide services.  Some common examples of vendors are fiscal agents, utilization review agencies, actuaries, data warehouses, and clearinghouses.  Not all state agencies contract with each of these vendors, but when they do, these services are essential to the functioning of the Medicaid program.  It will be critical to ensure that these functions will continue to operate during and after the ICD-10 transition.</a:t>
            </a:r>
            <a:endParaRPr b="0" lang="en-US" sz="1200" spc="-1" strike="noStrike">
              <a:solidFill>
                <a:srgbClr val="000000"/>
              </a:solidFill>
              <a:latin typeface="Calibri"/>
            </a:endParaRPr>
          </a:p>
        </p:txBody>
      </p:sp>
      <p:sp>
        <p:nvSpPr>
          <p:cNvPr id="3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025DB5-71DE-411E-892D-046880431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06640" y="696960"/>
            <a:ext cx="4647960" cy="3486240"/>
          </a:xfrm>
          <a:prstGeom prst="rect">
            <a:avLst/>
          </a:prstGeom>
          <a:ln w="0">
            <a:noFill/>
          </a:ln>
        </p:spPr>
      </p:sp>
      <p:sp>
        <p:nvSpPr>
          <p:cNvPr id="33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t important to consider these “outside” entities in our ICD-10 implementation?  Remember that it is not just state Medicaid agencies going through the ICD-10 process.  All HIPAA-covered entities (plans, clearinghouses, and providers doing electronic transactions) must transition to ICD-10 on transactions for services on and after Oct 1, 2013.  So, almost all the entities in the health care industry will be impacted.  Each of your trading partners will be doing their own ICD-10 implementation on their schedule.  And it is expected that vendors will be overwhelmed because almost all of their customers will be doing this transition at the same time and will need the same support.</a:t>
            </a:r>
            <a:endParaRPr b="0" lang="en-US" sz="1200" spc="-1" strike="noStrike">
              <a:solidFill>
                <a:srgbClr val="000000"/>
              </a:solidFill>
              <a:latin typeface="Calibri"/>
            </a:endParaRPr>
          </a:p>
        </p:txBody>
      </p:sp>
      <p:sp>
        <p:nvSpPr>
          <p:cNvPr id="3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2BBDE7-D8B5-4196-BBA0-5CB3594AE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06640" y="696960"/>
            <a:ext cx="4647960" cy="3486240"/>
          </a:xfrm>
          <a:prstGeom prst="rect">
            <a:avLst/>
          </a:prstGeom>
          <a:ln w="0">
            <a:noFill/>
          </a:ln>
        </p:spPr>
      </p:sp>
      <p:sp>
        <p:nvSpPr>
          <p:cNvPr id="3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should Medicaid agencies be dealing with these entities in their implementation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or vendors.  Make sure you know who all of your vendors are.  It would be useful to create an inventory to keep track of how each of your vendors will be impacted by your implementation process.  For those that are impacted, look at your implementation plan to see what the impact is, and when you may need the vendor’s support or upgraded product.  Make sure each of your vendors understands ICD-10, the need for transitioning, and that the vendor is able to support you.  Discuss specifically your business needs from that vendor.  Do not wait for them to come to you with their plans.</a:t>
            </a:r>
            <a:endParaRPr b="0" lang="en-US" sz="1200" spc="-1" strike="noStrike">
              <a:solidFill>
                <a:srgbClr val="000000"/>
              </a:solidFill>
              <a:latin typeface="Calibri"/>
            </a:endParaRPr>
          </a:p>
        </p:txBody>
      </p:sp>
      <p:sp>
        <p:nvSpPr>
          <p:cNvPr id="3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98860B-DF10-45B3-AE8D-B8CAFB86D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06640" y="696960"/>
            <a:ext cx="4647960" cy="3486240"/>
          </a:xfrm>
          <a:prstGeom prst="rect">
            <a:avLst/>
          </a:prstGeom>
          <a:ln w="0">
            <a:noFill/>
          </a:ln>
        </p:spPr>
      </p:sp>
      <p:sp>
        <p:nvSpPr>
          <p:cNvPr id="33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it appears that the vendor will not be able to support your business needs, you will have some decisions to make.  What can the vendor do for you, and will it be enough?  Will you need a revised contract, another vendor, or can some of the work be done in-house?  It is better to find this out and plan for it early in the process, rather than to be unpleasantly surprised.  Remember that vendors will be dealing with all of their customers on these issues at about the same time, so their resources may be stretched th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best as you can, get a commitment from the vendor on when their products and/or services will be delivered.  Get periodic updates from the vendor so that you know progress is occurring.  And, if there are delays, recognize that your implementation plan may be affected, so adjust your plan as necessary.</a:t>
            </a:r>
            <a:endParaRPr b="0" lang="en-US" sz="1200" spc="-1" strike="noStrike">
              <a:solidFill>
                <a:srgbClr val="000000"/>
              </a:solidFill>
              <a:latin typeface="Calibri"/>
            </a:endParaRPr>
          </a:p>
        </p:txBody>
      </p:sp>
      <p:sp>
        <p:nvSpPr>
          <p:cNvPr id="3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4512AE-B65C-4003-973E-F82D66282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06640" y="696960"/>
            <a:ext cx="4647960" cy="3486240"/>
          </a:xfrm>
          <a:prstGeom prst="rect">
            <a:avLst/>
          </a:prstGeom>
          <a:ln w="0">
            <a:noFill/>
          </a:ln>
        </p:spPr>
      </p:sp>
      <p:sp>
        <p:nvSpPr>
          <p:cNvPr id="34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consider yourself compliant with the regulation by being able to accept and send transactions with ICD-10 codes.  However, your implementation project cannot be considered successful by just that measure alone. </a:t>
            </a:r>
            <a:endParaRPr b="0" lang="en-US" sz="1200" spc="-1" strike="noStrike">
              <a:solidFill>
                <a:srgbClr val="000000"/>
              </a:solidFill>
              <a:latin typeface="Calibri"/>
            </a:endParaRPr>
          </a:p>
        </p:txBody>
      </p:sp>
      <p:sp>
        <p:nvSpPr>
          <p:cNvPr id="3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F48418-DC23-4927-90DB-5C4855874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06640" y="696960"/>
            <a:ext cx="4647960" cy="3486240"/>
          </a:xfrm>
          <a:prstGeom prst="rect">
            <a:avLst/>
          </a:prstGeom>
          <a:ln w="0">
            <a:noFill/>
          </a:ln>
        </p:spPr>
      </p:sp>
      <p:sp>
        <p:nvSpPr>
          <p:cNvPr id="3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not consider that you have a successful ICD-10 implementation until you are confident that you can exchange and accurately process transactions with each of your trading partners.  Consider how many trading partners you have – that is a lot of exchanges to test and verify. Build in sufficient time to test.  Remember that you will still be exchanging ICD-9 codes for services prior to Oct 1, 2013.  It will be important to test and verify that you have that capability with your trading partners.</a:t>
            </a:r>
            <a:endParaRPr b="0" lang="en-US" sz="1200" spc="-1" strike="noStrike">
              <a:solidFill>
                <a:srgbClr val="000000"/>
              </a:solidFill>
              <a:latin typeface="Calibri"/>
            </a:endParaRPr>
          </a:p>
        </p:txBody>
      </p:sp>
      <p:sp>
        <p:nvSpPr>
          <p:cNvPr id="3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64EAE0-92B2-42C5-A732-8F24064A1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C5300-8270-425E-939C-29E64D142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D1D07-B3FE-4C29-8813-E422BE4B0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87DD0-2BE4-438A-A754-18EE7E750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7EDF8-C472-4592-9703-C62DCDFA8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4D934-FC2E-459B-820E-EF516FB27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B32CB-CDFD-4BE7-930B-F0985F5BA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C9CC9-4A07-4C1A-8C81-D6292B6DC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4E2EE-8057-4453-AF3C-C63C7C758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AA709-C2BA-4B63-ADD0-9A49CBC2D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304EE-54E1-42FA-8D4C-4165ADEEB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7D991-E4FC-4D4F-9DE5-8F500B777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525AF-E5C2-437C-BF42-586FB11AB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2D6FC-F50B-429D-AD21-BE32F3803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ABC22-EE3D-4398-AD0C-5EC796464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58455-5084-4FF8-B7AB-0A1BDAF49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C2B9F-5EA7-4B8C-9DF3-CA811F139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96F93-0F48-4559-8FB9-3ECBC20CE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1A35BA-44A2-4472-A257-443B600EC9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9B464-00E4-4186-AA82-5636BF417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E6246-7093-49B7-9755-567597DD0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1CE8E-F947-46F4-95F9-E49D1C44C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EC1DB4-5F1E-4C36-AD27-541D6D5E20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5427-BCF4-4632-A8DC-FC64F652A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602C4-37C7-4FE5-BE9A-7E123E70E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63BAE-3AB0-47B7-857D-2E9C821EF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DDA41-B60F-4701-960A-E43270D11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53D50-004B-4679-B835-72CC5C7A3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B8B96-8FBC-475D-B5CC-21179A0DB1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BDED8C-7C9B-4452-AB00-B0DA931F6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AA3A16-DB95-41D1-9E88-0073413158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32C734-B91C-4F54-B3C7-B879E1CCAD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718D2-8496-4E2E-AE8A-F7B273AF2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9CE96-71C9-4E57-8193-A4280A23C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429D3-6364-40C2-A05D-8F00AC70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5FD4E-AC41-478E-B6D6-FB1E25F80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28174-EA6B-444C-A82D-E3EDDEE6C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DA7CF-21BB-49E0-99EC-237620373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F6AD1-AAD7-4AD7-893C-9B0C8609C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6DE07-C79F-4CBD-9BC2-4FD4A8FCA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F5CB4-0E86-45D0-947B-83E7DE857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F7828-BCF0-4BB0-8A1F-496AE2934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4E8F87-CF31-4F88-806B-9755FF6CD3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DAACF-4B4D-4FE2-A8E2-D9BED1E551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09A90A-DA7F-4582-BB66-501B886AE8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52408-B433-4C2C-8254-C0E799E8E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68653-CA09-4ED5-B4A1-D74FF1044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0EE14-5F58-433D-9343-C4AD9E188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7E4F3F-B2A9-4746-AF04-4819C6EF3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82A6F-541B-4396-8B38-1B23C487F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D3C9F-0A37-4FA9-A386-8ACDCA4A2B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3D982-A84A-437F-8CB7-DB6691ABF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8BEFE-8B83-47E8-9EC7-EF2913D1B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8A735C-862A-44C6-AACC-2DE742A66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ED4EB-0941-4C98-9774-2BD7A1FD8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69B7D6-6905-4483-94FD-02D7AB5469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4389-F3CA-4B1D-ABF2-30BEE8AE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6FEE21-87D3-480A-9854-FDF6B73789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BAC193-1FDC-4B1A-8CCD-DC17FC763B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9DAE7-D8F7-4230-ADE0-EB56A23D9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35CA60-1BC7-430F-89CA-B8ECC2A8B3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06F84-57AE-4857-8200-CD8DF4D3D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B45D38-0A23-4224-93CB-643BEABDD7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3477C9-FFBE-4806-ACA1-2430575FA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3134E-0CD6-46B4-9A17-FBDB5CB711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262EB-D116-46E4-A471-EBB460E69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B961E-8BD6-49F3-94E5-A84A6D49A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4A32-B0BE-43D5-B4BC-7DAB4CDAC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F11CF-5899-4607-B659-DE08D40ED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810DA8-2EFA-4472-A767-C07FB5F7D6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4506FE-2495-4E2D-AA01-6F6982E68A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6286-1E18-4223-96B0-9EB1976D6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BF8C-0BEA-4D0F-A55A-00CED76C5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6" name="PlaceHolder 4"/>
          <p:cNvSpPr>
            <a:spLocks noGrp="1"/>
          </p:cNvSpPr>
          <p:nvPr>
            <p:ph type="ftr" idx="2"/>
          </p:nvPr>
        </p:nvSpPr>
        <p:spPr>
          <a:xfrm>
            <a:off x="4191120" y="647676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CDE5-37AE-4698-BB6C-43965EABDB0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BEA7-F444-4B72-A9C9-11CA7FAAD8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18CA-508A-4BCF-B76B-E15188D2DC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4EED-CFAA-4B11-BE8A-BB55B48455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B195-FCD5-4054-9006-68E2A33403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1 - Partner and Vendor Considerations</a:t>
            </a:r>
            <a:endParaRPr b="0" lang="en-US" sz="12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D98B-A9E5-4854-BC32-842775D0F6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57"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58"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547B-E740-4FAE-A342-3198E72FF42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9" name="Rectangle 3"/>
          <p:cNvSpPr/>
          <p:nvPr/>
        </p:nvSpPr>
        <p:spPr>
          <a:xfrm>
            <a:off x="4419720" y="4191120"/>
            <a:ext cx="45720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1</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Partner and Vendor Considerations</a:t>
            </a:r>
            <a:endParaRPr b="0" lang="en-US" sz="2600" spc="-1" strike="noStrike">
              <a:solidFill>
                <a:srgbClr val="000000"/>
              </a:solidFill>
              <a:latin typeface="Arial"/>
            </a:endParaRPr>
          </a:p>
        </p:txBody>
      </p:sp>
      <p:sp>
        <p:nvSpPr>
          <p:cNvPr id="260"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261"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263" name="TextBox 10"/>
          <p:cNvSpPr/>
          <p:nvPr/>
        </p:nvSpPr>
        <p:spPr>
          <a:xfrm>
            <a:off x="4495680" y="98892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82880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 trading partner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gin communications earl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them informed of your progr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derstand their implementation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ke sure they understand your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up testing schedul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testing scenario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ordinate so that you do not overburden your testing resourc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0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0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0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A305-2FEF-430E-9506-F7ECC601B2E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8"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2209680"/>
            <a:ext cx="8229600" cy="2362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what you will do with trading partners who are not ready to exchange ICD-10 codes by the compliance date</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ill your system accommodate those?</a:t>
            </a:r>
            <a:endParaRPr b="0" lang="en-US" sz="2400" spc="-1" strike="noStrike">
              <a:solidFill>
                <a:srgbClr val="000000"/>
              </a:solidFill>
              <a:latin typeface="Verdana"/>
            </a:endParaRPr>
          </a:p>
        </p:txBody>
      </p:sp>
      <p:sp>
        <p:nvSpPr>
          <p:cNvPr id="31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1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1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465A-1330-49BA-8126-D36F1544A0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Text Box 5"/>
          <p:cNvSpPr/>
          <p:nvPr/>
        </p:nvSpPr>
        <p:spPr>
          <a:xfrm>
            <a:off x="380880" y="141588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1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1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30A1-6BF1-4816-9EF0-4A1B3AD6D50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7"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s and trading partners are essential to a successful ICD-10 implement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rly planning and communication are necessary for succ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s should be engaged early and should make commitments to follow your implementation schedu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ing trading partner testing will be critical</a:t>
            </a:r>
            <a:endParaRPr b="0" lang="en-US" sz="2200" spc="-1" strike="noStrike">
              <a:solidFill>
                <a:srgbClr val="000000"/>
              </a:solidFill>
              <a:latin typeface="Verdana"/>
            </a:endParaRPr>
          </a:p>
        </p:txBody>
      </p:sp>
      <p:sp>
        <p:nvSpPr>
          <p:cNvPr id="318"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6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6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E802-B882-41F7-8D35-326C12BD8B1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7" name="PlaceHolder 1"/>
          <p:cNvSpPr>
            <a:spLocks noGrp="1"/>
          </p:cNvSpPr>
          <p:nvPr>
            <p:ph/>
          </p:nvPr>
        </p:nvSpPr>
        <p:spPr>
          <a:xfrm>
            <a:off x="457200" y="2819520"/>
            <a:ext cx="8229600" cy="1831680"/>
          </a:xfrm>
          <a:prstGeom prst="rect">
            <a:avLst/>
          </a:prstGeom>
          <a:noFill/>
          <a:ln w="0">
            <a:noFill/>
          </a:ln>
        </p:spPr>
        <p:txBody>
          <a:bodyPr anchor="t">
            <a:normAutofit fontScale="86000"/>
          </a:bodyPr>
          <a:p>
            <a:pPr marL="313920" indent="-219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role of trading partners in the ICD-10 Implementation Process</a:t>
            </a:r>
            <a:endParaRPr b="0" lang="en-US" sz="2200" spc="-1" strike="noStrike">
              <a:solidFill>
                <a:srgbClr val="000000"/>
              </a:solidFill>
              <a:latin typeface="Verdana"/>
            </a:endParaRPr>
          </a:p>
          <a:p>
            <a:pPr marL="313920" indent="-219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role of vendors in the ICD-10 Implementation Process</a:t>
            </a:r>
            <a:endParaRPr b="0" lang="en-US" sz="2200" spc="-1" strike="noStrike">
              <a:solidFill>
                <a:srgbClr val="000000"/>
              </a:solidFill>
              <a:latin typeface="Verdana"/>
            </a:endParaRPr>
          </a:p>
          <a:p>
            <a:pPr marL="313920" indent="-219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guidance on how to manage your relationships with these entities during the Implementation</a:t>
            </a:r>
            <a:endParaRPr b="0" lang="en-US" sz="2200" spc="-1" strike="noStrike">
              <a:solidFill>
                <a:srgbClr val="000000"/>
              </a:solidFill>
              <a:latin typeface="Verdana"/>
            </a:endParaRPr>
          </a:p>
        </p:txBody>
      </p:sp>
      <p:sp>
        <p:nvSpPr>
          <p:cNvPr id="268"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11 – Partner and Vendor Consideration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904760"/>
            <a:ext cx="8229600" cy="3352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entity with which a State Medicaid agency will exchange transaction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other health pla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ringhous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caid managed care pla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 state agencies</a:t>
            </a:r>
            <a:endParaRPr b="0" lang="en-US" sz="2200" spc="-1" strike="noStrike">
              <a:solidFill>
                <a:srgbClr val="000000"/>
              </a:solidFill>
              <a:latin typeface="Verdana"/>
            </a:endParaRPr>
          </a:p>
        </p:txBody>
      </p:sp>
      <p:sp>
        <p:nvSpPr>
          <p:cNvPr id="270"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71"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7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026C-244C-4158-B2D3-66A926D2266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Is a Trading Partn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82880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business that is contracted to provide services to the State Medicaid Agency </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scal agent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tilization review agenc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r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warehous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ringhouse</a:t>
            </a:r>
            <a:endParaRPr b="0" lang="en-US" sz="2200" spc="-1" strike="noStrike">
              <a:solidFill>
                <a:srgbClr val="000000"/>
              </a:solidFill>
              <a:latin typeface="Verdana"/>
            </a:endParaRPr>
          </a:p>
        </p:txBody>
      </p:sp>
      <p:sp>
        <p:nvSpPr>
          <p:cNvPr id="27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7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7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8C31-633B-442A-910E-ED9DD681849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Is a Ven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all that all HIPAA covered entities must begin using ICD-10 for services on and after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eryone in the health care industry is impac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trading partners will be busy doing ICD-10 implement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s will be dealing with all of their customers on this issue at roughly the same time</a:t>
            </a:r>
            <a:endParaRPr b="0" lang="en-US" sz="2200" spc="-1" strike="noStrike">
              <a:solidFill>
                <a:srgbClr val="000000"/>
              </a:solidFill>
              <a:latin typeface="Verdana"/>
            </a:endParaRPr>
          </a:p>
        </p:txBody>
      </p:sp>
      <p:sp>
        <p:nvSpPr>
          <p:cNvPr id="28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8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8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B6A4-2931-4A58-808B-349202D20FE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y Do We Need to Focus on The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752480"/>
            <a:ext cx="8229600" cy="4267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vendor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inventory of your vendor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which vendors you will need in your implementation proces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your implementation plan, determine the timing of your vendor support need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each vendor understands and can support the ICD-10 transi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your business needs in the implementation process with each vendor</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at how each vendor relates to each other and your agency’s plans, and educate them on your plans</a:t>
            </a:r>
            <a:endParaRPr b="0" lang="en-US" sz="2000" spc="-1" strike="noStrike">
              <a:solidFill>
                <a:srgbClr val="000000"/>
              </a:solidFill>
              <a:latin typeface="Verdana"/>
            </a:endParaRPr>
          </a:p>
        </p:txBody>
      </p:sp>
      <p:sp>
        <p:nvSpPr>
          <p:cNvPr id="28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8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8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34B9-AE05-401C-B844-0E6A7ADDB0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vendor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needs can’t be met, determine alternativ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member, vendors will be dealing with all of their customers on these issues at about the same tim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a commitment on when products/services will be delivered</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periodic updates from your vendors on their progr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delays occur, make sure that you adjust your plans as well </a:t>
            </a:r>
            <a:endParaRPr b="0" lang="en-US" sz="2200" spc="-1" strike="noStrike">
              <a:solidFill>
                <a:srgbClr val="000000"/>
              </a:solidFill>
              <a:latin typeface="Verdana"/>
            </a:endParaRPr>
          </a:p>
        </p:txBody>
      </p:sp>
      <p:sp>
        <p:nvSpPr>
          <p:cNvPr id="29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9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9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DB50-24B1-4F4A-8504-9668B3AF509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209320"/>
            <a:ext cx="8229600" cy="2971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ulatory compliance can be obtained by being able to accept and send ICD-10 codes on transaction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a successful implementation is far more than tha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296"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29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8D58-6FAA-4D5D-864E-3124D51D465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Text Box 5"/>
          <p:cNvSpPr/>
          <p:nvPr/>
        </p:nvSpPr>
        <p:spPr>
          <a:xfrm>
            <a:off x="380880" y="164448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905120"/>
            <a:ext cx="8229600" cy="4038480"/>
          </a:xfrm>
          <a:prstGeom prst="rect">
            <a:avLst/>
          </a:prstGeom>
          <a:noFill/>
          <a:ln w="0">
            <a:noFill/>
          </a:ln>
        </p:spPr>
        <p:txBody>
          <a:bodyPr anchor="t">
            <a:normAutofit/>
          </a:bodyPr>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member that your implementation project cannot be considered successful until you can exchange and process transactions correctly with each of your trading partner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at means testing your entire business process end-to-end with trading partners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st to make sure that your system can still accurately process ICD-9 codes for services prior to Oct 1, 2013</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ild in sufficient time to accomplish all of this testing </a:t>
            </a:r>
            <a:endParaRPr b="0" lang="en-US" sz="2200" spc="-1" strike="noStrike">
              <a:solidFill>
                <a:srgbClr val="000000"/>
              </a:solidFill>
              <a:latin typeface="Verdana"/>
            </a:endParaRPr>
          </a:p>
        </p:txBody>
      </p:sp>
      <p:sp>
        <p:nvSpPr>
          <p:cNvPr id="300" name="Date Placeholder 3"/>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14/2009</a:t>
            </a:r>
            <a:endParaRPr b="0" lang="en-US" sz="1000" spc="-1" strike="noStrike">
              <a:solidFill>
                <a:srgbClr val="000000"/>
              </a:solidFill>
              <a:latin typeface="Arial"/>
            </a:endParaRPr>
          </a:p>
        </p:txBody>
      </p:sp>
      <p:sp>
        <p:nvSpPr>
          <p:cNvPr id="301" name="Footer Placeholder 4"/>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1 - Partner and Vendor Considerations</a:t>
            </a:r>
            <a:endParaRPr b="0" lang="en-US" sz="1000" spc="-1" strike="noStrike">
              <a:solidFill>
                <a:srgbClr val="000000"/>
              </a:solidFill>
              <a:latin typeface="Arial"/>
            </a:endParaRPr>
          </a:p>
        </p:txBody>
      </p:sp>
      <p:sp>
        <p:nvSpPr>
          <p:cNvPr id="30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09AE-5E5C-436C-960A-4F1CD96279F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Text Box 5"/>
          <p:cNvSpPr/>
          <p:nvPr/>
        </p:nvSpPr>
        <p:spPr>
          <a:xfrm>
            <a:off x="380880" y="1143000"/>
            <a:ext cx="815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hould Medicaid Agencies Be Do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6:03:10Z</dcterms:modified>
  <cp:revision>454</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