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3"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044" name="PlaceHolder 2"/>
          <p:cNvSpPr>
            <a:spLocks noGrp="1"/>
          </p:cNvSpPr>
          <p:nvPr>
            <p:ph type="dt" idx="76"/>
          </p:nvPr>
        </p:nvSpPr>
        <p:spPr>
          <a:xfrm>
            <a:off x="3884400" y="0"/>
            <a:ext cx="29718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45" name="PlaceHolder 3"/>
          <p:cNvSpPr>
            <a:spLocks noGrp="1"/>
          </p:cNvSpPr>
          <p:nvPr>
            <p:ph type="sldImg"/>
          </p:nvPr>
        </p:nvSpPr>
        <p:spPr>
          <a:xfrm>
            <a:off x="1106280" y="696960"/>
            <a:ext cx="464796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move the slide</a:t>
            </a:r>
            <a:endParaRPr b="1" lang="en-US" sz="4100" spc="-1" strike="noStrike">
              <a:solidFill>
                <a:srgbClr val="1f497d"/>
              </a:solidFill>
              <a:latin typeface="Verdana"/>
            </a:endParaRPr>
          </a:p>
        </p:txBody>
      </p:sp>
      <p:sp>
        <p:nvSpPr>
          <p:cNvPr id="1046"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7" name="PlaceHolder 5"/>
          <p:cNvSpPr>
            <a:spLocks noGrp="1"/>
          </p:cNvSpPr>
          <p:nvPr>
            <p:ph type="ftr" idx="77"/>
          </p:nvPr>
        </p:nvSpPr>
        <p:spPr>
          <a:xfrm>
            <a:off x="-360" y="8829720"/>
            <a:ext cx="29718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048" name="PlaceHolder 6"/>
          <p:cNvSpPr>
            <a:spLocks noGrp="1"/>
          </p:cNvSpPr>
          <p:nvPr>
            <p:ph type="sldNum" idx="78"/>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90767DC-66F6-438A-99B0-A2BC0E2EED1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06640" y="696960"/>
            <a:ext cx="4647960" cy="3486240"/>
          </a:xfrm>
          <a:prstGeom prst="rect">
            <a:avLst/>
          </a:prstGeom>
          <a:ln w="0">
            <a:noFill/>
          </a:ln>
        </p:spPr>
      </p:sp>
      <p:sp>
        <p:nvSpPr>
          <p:cNvPr id="112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move from ICD-9 to ICD-10 is a significant change for State Medicaid Agencies.   It will take considerable effort for Medicaid, and every health plan and provider in the country, to successfully accomplish the transition.  However, there are considerable benefits to using the new code se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ve prepared a series of training sessions especially for State Medicaid agencies which provide key information about the ICD-10 code set, how to use it, how to benefit from it, and what the implementation steps are.  We hope to provide the information you need to effectively implement and to benefit from this major change to the coding of health care in the United Stat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12 Training Segments in the entire program.</a:t>
            </a:r>
            <a:endParaRPr b="0" lang="en-US" sz="1000" spc="-1" strike="noStrike">
              <a:solidFill>
                <a:srgbClr val="000000"/>
              </a:solidFill>
              <a:latin typeface="Calibri"/>
            </a:endParaRPr>
          </a:p>
        </p:txBody>
      </p:sp>
      <p:sp>
        <p:nvSpPr>
          <p:cNvPr id="11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B952011-5BA0-4B2F-B00E-33D11F358E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6640" y="696960"/>
            <a:ext cx="464796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is an ongoing effort to expand the use of electronic health records by providers.  EHRs will be used to document the care that patients receive, and this documentation will be used to support the diagnoses that are submitted on claims.  It is expected that EHRs will contain the tools necessary to link documentation to ICD-10 codes.  Conversely, state agencies should be able to “reach back” to provider EHRs to get the documentation used to support these codes.  And, with the more specific ICD-10 codes, state agencies will be able to ask more specific questions for documentation, cutting down on administrative burdens.</a:t>
            </a:r>
            <a:endParaRPr b="0" lang="en-US" sz="1000" spc="-1" strike="noStrike">
              <a:solidFill>
                <a:srgbClr val="000000"/>
              </a:solidFill>
              <a:latin typeface="Calibri"/>
            </a:endParaRPr>
          </a:p>
        </p:txBody>
      </p:sp>
      <p:sp>
        <p:nvSpPr>
          <p:cNvPr id="115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3B2D2B6-E7F7-4662-8E69-DFFE9C63B2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6640" y="696960"/>
            <a:ext cx="464796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y for performance and provider quality measurement are key drivers in today’s health care world.  Many of the measures used for these efforts are based on specific diagnoses.  With ICD-10, we have an opportunity to develop more targeted and more accurate quality measures, since we have better diagnosis information.  This gives us the opportunity to improve quality measurement and pay for performance, which should lead to  better quality health care for Medicaid beneficiaries.</a:t>
            </a:r>
            <a:endParaRPr b="0" lang="en-US" sz="1000" spc="-1" strike="noStrike">
              <a:solidFill>
                <a:srgbClr val="000000"/>
              </a:solidFill>
              <a:latin typeface="Calibri"/>
            </a:endParaRPr>
          </a:p>
        </p:txBody>
      </p:sp>
      <p:sp>
        <p:nvSpPr>
          <p:cNvPr id="115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DAB7FE1-59DA-4B74-A3C5-0EC2ECEB39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6640" y="696960"/>
            <a:ext cx="464796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rom the beneficiary perspective, we can also use the improved information on claims data.  Agencies can use the more specific diagnosis information to determine if beneficiaries are getting the right care at the right time.  Measuring the severity of patient conditions also enables agencies to see if there are improvements in a patient’s health.   Comparisons can be made among providers, among treatment patterns, and between Medicaid populations and other populations.</a:t>
            </a:r>
            <a:endParaRPr b="0" lang="en-US" sz="1000" spc="-1" strike="noStrike">
              <a:solidFill>
                <a:srgbClr val="000000"/>
              </a:solidFill>
              <a:latin typeface="Calibri"/>
            </a:endParaRPr>
          </a:p>
        </p:txBody>
      </p:sp>
      <p:sp>
        <p:nvSpPr>
          <p:cNvPr id="11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3430D50-1D00-4EFA-90D4-90B67306E1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6640" y="696960"/>
            <a:ext cx="464796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et’s now consider a longer-term opportunity – Using the better information provided on claims for strategic planning.  This is another chance to start making some data-based decisions for major program changes.  Revised benefit packages, caseload trends, changing provider mixes, etc. , are all decisions that can be looked at and possibly supported by data that is being routinely collected on claims.</a:t>
            </a:r>
            <a:endParaRPr b="0" lang="en-US" sz="1000" spc="-1" strike="noStrike">
              <a:solidFill>
                <a:srgbClr val="000000"/>
              </a:solidFill>
              <a:latin typeface="Calibri"/>
            </a:endParaRPr>
          </a:p>
        </p:txBody>
      </p:sp>
      <p:sp>
        <p:nvSpPr>
          <p:cNvPr id="11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3659D9F-978A-442D-B61B-D469EEA3C1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06640" y="696960"/>
            <a:ext cx="4647960" cy="3486240"/>
          </a:xfrm>
          <a:prstGeom prst="rect">
            <a:avLst/>
          </a:prstGeom>
          <a:ln w="0">
            <a:noFill/>
          </a:ln>
        </p:spPr>
      </p:sp>
      <p:sp>
        <p:nvSpPr>
          <p:cNvPr id="116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summary, ICD-10 provides better information on diagnoses and inpatient hospital procedures.  This data is routinely collected on claims and can be used to improve many of the functions of state Medicaid programs.</a:t>
            </a:r>
            <a:endParaRPr b="0" lang="en-US" sz="1000" spc="-1" strike="noStrike">
              <a:solidFill>
                <a:srgbClr val="000000"/>
              </a:solidFill>
              <a:latin typeface="Calibri"/>
            </a:endParaRPr>
          </a:p>
        </p:txBody>
      </p:sp>
      <p:sp>
        <p:nvSpPr>
          <p:cNvPr id="11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A1D5696-0494-4234-9F4C-734D9F5001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06640" y="696960"/>
            <a:ext cx="4647960" cy="3486240"/>
          </a:xfrm>
          <a:prstGeom prst="rect">
            <a:avLst/>
          </a:prstGeom>
          <a:ln w="0">
            <a:noFill/>
          </a:ln>
        </p:spPr>
      </p:sp>
      <p:sp>
        <p:nvSpPr>
          <p:cNvPr id="112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segment will explain the total benefits of using the ICD-10 code set to enhance all areas of the Medicaid Enterprise.</a:t>
            </a:r>
            <a:endParaRPr b="0" lang="en-US" sz="10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6640" y="696960"/>
            <a:ext cx="464796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y are we making the switch from ICD-9 codes to ICD-10 codes?  Frankly, we have been using ICD-9 codes for over 25 years.  The code set has not been able to keep up with the changes in medicine, with some of the newer conditions, and with the newer ways of treating patients.  The ICD-10 diagnosis code set has been designed to capture much more specific information  on the patient’s diagnosis.  The procedure code set will enable hospitals to record much more specific information on procedures performed and devices used.</a:t>
            </a:r>
            <a:endParaRPr b="0" lang="en-US" sz="1000" spc="-1" strike="noStrike">
              <a:solidFill>
                <a:srgbClr val="000000"/>
              </a:solidFill>
              <a:latin typeface="Calibri"/>
            </a:endParaRPr>
          </a:p>
        </p:txBody>
      </p:sp>
      <p:sp>
        <p:nvSpPr>
          <p:cNvPr id="113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0B22E25-422F-4C67-B64E-0ABB6C097A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6640" y="696960"/>
            <a:ext cx="4647960" cy="3486240"/>
          </a:xfrm>
          <a:prstGeom prst="rect">
            <a:avLst/>
          </a:prstGeom>
          <a:ln w="0">
            <a:noFill/>
          </a:ln>
        </p:spPr>
      </p:sp>
      <p:sp>
        <p:nvSpPr>
          <p:cNvPr id="113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ause this information will be captured on claims and submitted to State Medicaid Agencies, the agencies have an opportunity to use better information for decisions on what to cover, how much to pay, and how a beneficiary’s health can be better managed.  This may be accomplished without collecting any more data from providers.  This presents a significant opportunity to upgrade your current data analysis capabilities and apply results in a variety of area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3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00D9178-D44A-45CD-B4F3-3773D7AF5D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6640" y="696960"/>
            <a:ext cx="4647960" cy="3486240"/>
          </a:xfrm>
          <a:prstGeom prst="rect">
            <a:avLst/>
          </a:prstGeom>
          <a:ln w="0">
            <a:noFill/>
          </a:ln>
        </p:spPr>
      </p:sp>
      <p:sp>
        <p:nvSpPr>
          <p:cNvPr id="113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benefits of using the ICD-10 code set cover a wide range of applications and impact many areas. </a:t>
            </a:r>
            <a:endParaRPr b="0" lang="en-US" sz="1000" spc="-1" strike="noStrike">
              <a:solidFill>
                <a:srgbClr val="000000"/>
              </a:solidFill>
              <a:latin typeface="Calibri"/>
            </a:endParaRPr>
          </a:p>
        </p:txBody>
      </p:sp>
      <p:sp>
        <p:nvSpPr>
          <p:cNvPr id="113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679C3DC-C08B-4DA4-8A76-B5EDE78C32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6640" y="696960"/>
            <a:ext cx="464796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irst, and perhaps the most important area, is improving the care management of beneficiaries, especially in targeted areas.  First, there are improved opportunities to identify candidates for care management, as the diagnoses will be more specific.  Second, you will have the ability to track the severity of conditions and measure a patient’s progress if their disease becomes less severe.  You can take the opportunity to identify more specific disease clusters and design both educational programs and new care management programs for beneficiaries.</a:t>
            </a:r>
            <a:endParaRPr b="0" lang="en-US" sz="1000" spc="-1" strike="noStrike">
              <a:solidFill>
                <a:srgbClr val="000000"/>
              </a:solidFill>
              <a:latin typeface="Calibri"/>
            </a:endParaRPr>
          </a:p>
        </p:txBody>
      </p:sp>
      <p:sp>
        <p:nvSpPr>
          <p:cNvPr id="113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3805D94-9B7A-40F8-8EDD-07DC3B9A66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6640" y="696960"/>
            <a:ext cx="464796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CD-10 codes could provide an opportunity for more efficient care and processing of claim payments.  With the more specific information on diagnoses, analyses may be able to identify those procedures that are more effective and cost-efficient in severe cases, and not necessary in less severe cases, enabling the savings of Medicaid dollars.   On the administrative side, the codes provide more information on the claim.  There should be less need to request additional information from providers to make payment decisions, so administrative savings can be achieved.</a:t>
            </a:r>
            <a:endParaRPr b="0" lang="en-US" sz="1000" spc="-1" strike="noStrike">
              <a:solidFill>
                <a:srgbClr val="000000"/>
              </a:solidFill>
              <a:latin typeface="Calibri"/>
            </a:endParaRPr>
          </a:p>
        </p:txBody>
      </p:sp>
      <p:sp>
        <p:nvSpPr>
          <p:cNvPr id="11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0A410BD-EA05-453B-92AD-4488B2DFBE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6640" y="696960"/>
            <a:ext cx="464796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ile there are federal requirements to cover medical care, states still have some flexibility in determining when care is medically necessary and should be covered, and how much to pay for certain types of patients.  Starting  as soon as possible (even today!), State Medicaid Agencies should begin reviewing their coverage and payment policies to determine how they may be able to be modified to take advantage of the better information in ICD-10 codes (more specifics, severity indications).  Policies can be modified to identify more specific conditions and use that information to adjust coverage and payment.  This should result in more accurate payments based on the difficulty in treating the patient’s conditions.</a:t>
            </a:r>
            <a:endParaRPr b="0" lang="en-US" sz="1000" spc="-1" strike="noStrike">
              <a:solidFill>
                <a:srgbClr val="000000"/>
              </a:solidFill>
              <a:latin typeface="Calibri"/>
            </a:endParaRPr>
          </a:p>
        </p:txBody>
      </p:sp>
      <p:sp>
        <p:nvSpPr>
          <p:cNvPr id="11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9155DC0-1009-4BC9-A885-BC9E11B0B2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6640" y="696960"/>
            <a:ext cx="464796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raud and abuse is a continuing issue for state Medicaid programs, and data analyses have proven to be of great benefit in identifying patterns that may indicate fraudulent or abusive behavior on the part of a provider or beneficiary.   Now, we will have better data from our claims to identify patterns.  There may be opportunities prior to claims payment to recognize diagnosis-to-procedure mismatches.    Your fraud and abuse units should be looking at these opportunities and begin planning to use the ICD-10 codes.</a:t>
            </a:r>
            <a:endParaRPr b="0" lang="en-US" sz="1000" spc="-1" strike="noStrike">
              <a:solidFill>
                <a:srgbClr val="000000"/>
              </a:solidFill>
              <a:latin typeface="Calibri"/>
            </a:endParaRPr>
          </a:p>
        </p:txBody>
      </p:sp>
      <p:sp>
        <p:nvSpPr>
          <p:cNvPr id="114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9D7779A-FEC4-4CAB-B770-6FB93C1C1A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80D92-B0B7-4EEB-8F55-A8B85F1CA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4CD08-AB30-4A70-BC0C-BAEBD46F0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4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4B89E1-DA17-48CA-AF7A-A2071E05AE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CA8F17-910A-4B6F-BD7F-4D11D25877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532BD9-FC02-4CC2-AC9D-C1BCEE2BB5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5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1F6BD0-9D7C-4000-A298-0EF5F6263B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5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427C37-6695-413E-AB21-DF05E7BC4C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6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89BAC6-87D3-4370-B606-75B497D1E4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6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67D376-1327-4249-B997-FC437B0DC8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6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EFA107-5756-4679-AF68-65FE5830F0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7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618EAF-B004-4144-B262-55AE9CC325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C28258C-0065-4ABF-A3A0-9147A32C38B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00A0B-9B4B-4A6F-ADD9-C4AE51823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5"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A46622-EDFC-4A74-82F8-33352066A7A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7"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1D2A84-C253-4746-B3B7-3B5883FE6B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9"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DE9871-8682-472B-A9E2-2D392F0F05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4807C9-C1FB-4A4C-A0FD-D1423240CF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FD08EDD-2A86-4788-99B7-DD660AAD5C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9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13D686-A7F9-423E-9294-A50BFAE6D2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9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507B7A-5F25-4926-9480-4074EAF950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0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279658-EA20-4005-9064-A50A88D97E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06"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4F3349-D2DA-4128-B06B-0A6872FB6B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0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6CA87E6-8921-4E4D-91EB-73BE980E3EE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07899-1BB9-4CB2-BD66-F57818B46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14"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7"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8"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9"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56891DC-CE96-4984-B2B7-2A6E254FBC5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DE238B5-4FC0-4E6E-B708-DB44A698689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26"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1DD92E4-1363-40FA-9FCF-AA93886DBD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28"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F2A4BD1-578F-4EC9-B13E-C1669A9D88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30"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ECC6255-461E-4A09-88FE-08591B996FF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FF5F54-878B-46CB-AAAF-2A3273B57F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630438-DC57-489E-A26E-F0404C34DF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3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1428D9-C504-49F3-88BE-47ED483993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39"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1"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609174-942D-4F02-BFEF-4CA386361E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4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5"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17D8C5-C3E7-4F77-A34B-8D99C47C77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6AA989-DAA2-42A7-9DC8-94535A64A8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47"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8"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C2D1A1E-C681-4A8C-BC86-A9B9DBBE66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5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5CDD086-F40D-4516-9117-7043BDFC4A7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55"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6"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8"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9"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0"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234D421-6B80-4CEE-B825-0E00FF9BE74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3A851A0-80F3-4443-91B9-CC058643725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67"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BD57B3-AE28-4B62-A99E-90920C16C21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69"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DAC946-5259-4067-A345-73B98F32BBD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7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E52588-0166-4682-BACC-55DA0FC6D4B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06830E-DDCB-42B7-A54C-581193AB34D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DB783EB-0132-425B-985B-DA1AB5F2397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7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6E6A7C-A67A-45F4-A20C-096AFE8632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2510B-5DF6-4EB4-9F3F-EB55FD800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80"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E6F5F3-1529-4F74-8FF4-ABC0B35664F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8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254ED5-B3D1-4A46-B5FF-0AE17CA48A4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88"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7036CDE-8008-429E-98ED-06A302BBBDC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9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EDB083A-F5C0-4026-B325-4F7A49A5024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96"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9"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0"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1"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B10D13B-CDE8-4D6E-822C-77EB5674AE2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BD14338-0621-4A56-B77D-D35F0E2E219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8"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8A9784F-BB86-480F-8260-B101BB9579D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10"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2D4837E-8014-48BA-80F1-09BF0D890BA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1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8B1BDA6-944F-4016-8891-0A251B57222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B4FEA4A-57A1-4639-8E1A-28A22AA2877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5F4F4-2097-4DCF-90DC-474C530C0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CF9C2C1-3604-4E83-9BE4-A1C14100CEB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1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CDA8F49-11CF-4EAF-AF9E-A1DCBA4AB8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3"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8F7E69-6334-4762-967B-8BF257D6DF4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7"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C4CCF01-A10B-4FEF-BF0D-16453BE2054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9"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0"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74F31EB-E441-4396-9154-F361FB01771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3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5"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2BD423B-8A40-4EE0-8BD6-F7D2AFFF156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37"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8"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9"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0"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1"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2"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E919991-FB48-4129-A214-96F7B9EB73C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8788FAE-AAD7-4754-A4D2-D5F80598935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4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527D58F-F365-4DBC-96C6-1DA2710B067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5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96390EF-ECF4-48D3-A6EF-096DD069EEF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35041-053D-4DE9-A553-25A9D7AE1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5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FF6A7E1-6B36-44C4-8FB2-66B3189EF9D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4CB66A3-5828-45CA-A203-3E2F8A8182A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0E23BF8-8FC3-4E3F-9034-37A68FE8662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5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8031CD1-010A-446E-BE25-ABEFAB4FBAE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6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7302261-4C32-4706-B89F-01A495B4E26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6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809938B-AA63-47F1-9CB5-EB9CC5A7B47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7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A6FFD00-EBA4-4481-B9E2-FD634DA5E7C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7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7D93A44-2005-4889-9628-31AE45C11D4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7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11A6553-D6B0-48C0-B1CF-24476B67779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0FBAFC1-858F-42A1-B6C0-6F5EFF94FB0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A59CE-858F-4618-94B0-338D7B5AB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8032558-0E86-4582-91FB-1B5EBF7425B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5036FB0-B244-473E-9B53-AE419446967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9DE8D84-F45F-4A6C-B9B9-63F2E1EAB03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48C0C02-DC9D-463E-BD82-07B1A291736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2720509-1CCE-4FD2-8285-356E0D446A0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26B6700-0439-47FB-B913-2EA3D809C4B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0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02B6FDB-46AA-4B85-95C9-C6876EA6C89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0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7A2E386-0C40-471B-B8EF-90E2D48D811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1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1F2F506-4941-4574-B9D9-7FE00879CD1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1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7680C39-E25A-4FF6-98BA-4E4B47ABE18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0D739-04AA-443D-A9A4-A0C81750F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1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5F8D641-277D-4F3E-9E6E-D42C42D2C74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E9804C2-809B-4B0F-BC24-866E0D7D81E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81B4C1E-1F4A-4EB9-9F57-D25D876501E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465A37B-3E61-4DC5-9C8D-5D9B6B1614A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387FEFB-506E-44F7-B4E3-B400F79C3FE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D6F4E44-5C39-4E70-B527-68DC5C2F283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D53943F-4630-4F69-94F8-8970CAF8966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4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3302F70-DE3D-4097-A513-A00211480F4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4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A579875-19F9-41AB-A7EE-0984467B7A8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4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0270B7B-7BC4-4CEF-A815-38EB6F376F4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E2B9A-36EB-409C-9D7A-0FA8096C0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5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F22305B-EDC3-44AD-A1FF-69D6CCA29E6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5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81DD7DF-00E0-437D-94B3-1EB26185E70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6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6D66577-D44C-468A-AC13-58AF3FB312C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EDF785F-C5B4-4E62-8E7A-0787C622CCF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C6AB268-0391-4EB2-B383-97EB460066A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C63199B-0782-4BD9-A047-F6A7F74D18C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6FB1D1C-FCC8-48B8-B1FC-798D1AD361A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1345D60-49D8-4A1A-BE7B-ECCE214BA0D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D723693-DB8B-4094-AD9D-75A44C871AA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8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82DC38B-8A22-4D37-9D57-802EFE94788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8AA4C-F59A-45B7-8009-9AD09BC71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B9547-5C2D-4FD6-B9F4-13B2D53D8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8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D4DADCD-47C7-4B65-AF27-5E1D492D70D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8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A33BCB1-62CD-4C5C-8837-5B20A6730DF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9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E039588-1F55-4AC8-A2E5-97E1078A9CB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9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1B643CE-FDD2-498D-8FFA-D9A3742CFDF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0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674A635-5113-4FCC-8B43-F75E334EFA3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E3E0BF0-110E-4750-86C7-C2AD4C8A001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E726B7F-E60A-4692-B64C-AAC63911B87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D9CB893-F781-458C-BE81-49FE87E22C4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C004997-9E54-47F0-8A73-DD756E11820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D7C0F36-BE28-404E-96DC-6AB5E923DEA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A6B08-AA91-4FA0-AF32-4CD5567D4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672092D-CAE3-481E-915F-48F4D9DD02A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2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8D524C9-DFF5-4BDB-9B7C-9088B547D5F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2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D824A91-CC11-4DFD-88D6-947D2C84333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3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077A1C9-EE04-4257-9802-8ED2322A41C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3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7A025D4-7391-4FD9-890C-C516EC6151F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3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FAD4A36-5621-455B-976F-A4A51657AF8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75A0D53-9886-453B-8829-DCCBD4C4E0C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F0F7AA9-5565-4353-B260-28E87E972F5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57"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486D6B3-69A3-4C12-8736-8DFB7A6D101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59"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343848E-AD79-4677-915A-B062050111B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AF3E6-73D4-4487-9416-9168A0B4B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6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211367A-BAB3-4975-9B21-7CC182E392A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6445EB5-DB75-4D24-BA5E-14BB58ACF4A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3E81C60-2AB0-405C-BB1A-01D792E4C19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6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EAD2796-3221-42EC-A3C9-DF36AD98962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70"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2"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473CC72-4389-4B9C-8F53-201E7B34FCA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6"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036D537-B6A8-4F4D-AA6E-2D178DADE6F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78"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9"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C50AB17-8A13-46B0-B709-D275DD2E2B4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8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4"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F27A519-34DA-4E60-B8B9-684637EE464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86"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7"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8"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9"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0"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1"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CBEB2F0-BD89-45D9-9CD7-FFBAA558BB2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CBECDC3-114D-4706-8674-328B744C2CF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1FFA6A-5653-42CC-9E01-E1221E29B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98"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085BC6F-C6D2-4DBC-BCB1-2FD24547E8E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00"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929E2BB-8EAB-4220-8586-6A6E82539B8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0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F14771D-7941-485E-AA71-3A3E0FFBCAE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9EBD3C4-B729-412E-9E10-3EC236158CE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5"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7B565B6-4F3C-4A3C-8774-B1333A87170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0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95E4E4E-2944-4854-BBE8-C58FA5574CF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1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3"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FE70372-49A3-44BB-B14A-FDBE801B98E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1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7"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3777D3F-3D1D-4876-BF8A-590642EAD8F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19"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0"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5A7D43C-648B-4060-AEDF-5D2D072120A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2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5"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06ACE59-13D8-4814-B498-C7388FD50D9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1E664D-DC4A-4B85-BDD6-0318EC224B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27"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8"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9"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0"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1"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2"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AA20A5E-5C67-4200-AC71-7DD26142417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551286D-3FC3-4478-8032-4863E8066149}"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3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476B066-3378-4867-8775-6C412B71672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4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BE89669-99F1-4942-B249-5790D718269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4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6F2346E-7AFA-4D45-9314-8C17617E0B2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1798839-5D00-44A1-B16E-568D7B38ACA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1352157-F47A-4582-B94D-2AEF8C02FC5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4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1DC3C57-4C31-42F4-AA99-D9768D91F91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5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7EC2148-4790-43C5-9393-B9FFD0EA4D9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5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E845B3A-A9C0-4473-911D-ABDCD988C86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67578A-5580-45B1-874B-4D45424876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6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C709F49-560C-4114-A002-BF65A6199D3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6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D0BB046-AA27-4D88-AC16-CAE22E189FF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6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2BA0743-12F4-46B5-826F-FDDB15C15D4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0137DBC3-32D2-48A4-B6E4-129A8C72CF1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8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948CD81-AF64-40D2-92B5-284759E1304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8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6D9B424-D287-4497-B863-079C7FB0767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8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3262856-0F2E-4F20-8709-2959BD38FBD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2218DAA-5497-4594-BF72-BC2EBB35827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A8DD011-428B-4586-A713-5E8EFB3AABF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8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5278B63-A477-4E34-A812-8C82C03C980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31025D-E32F-4D85-9DD5-792990D89F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9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5F9954A-4C06-47C2-98ED-D4DEF919A86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89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E791804-CA6B-4685-B7DE-B1AEE36DE19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0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3D2E2D9-2577-4287-9E9E-0148903D819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0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C4A16D6A-3248-4242-9050-410E6A51716E}"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0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1FAB360-2F12-4CDA-9BEC-379D22E921A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707C86D-021D-47D8-8F2D-A794D49EB86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2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6BB108C-F1F8-4567-B1EA-C07AF52ED4A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2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957A8A2-C170-4ADD-BA80-FC261DC9086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2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2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9B393BB-23EE-43E6-93B3-8B3B2995724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D6349A8-7934-466A-ADA3-BAA91266D2C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12D55B-D6FF-46B3-84FF-D85511DBA2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2AF4B43-84A4-4807-B376-7312680095E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3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0FDB934-2B75-4035-9F86-101557ECCBA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3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A85F4FB-53C1-44F0-9A4E-A9E97F91440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3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77FB852-91DC-4EE1-A650-DFB7CDED9F8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4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49E94F1-F8FC-470A-BA2F-896CAB972FD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4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2EFC94DC-143A-4C07-A0D0-41113A8DB378}"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5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9F9FD9A3-8AD9-473B-808B-2530658F3DCF}"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2400B18D-A675-44AB-85CE-46596D0A76B8}"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6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B18A5D3-4072-4005-9589-402B832E3AD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6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7982ED2-6567-4498-A752-F751FC3CD15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76F517-74B3-4B72-AA39-A9152A6739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6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E340411-B8D5-4839-B1C8-9168EFC8E90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2816114-6665-45F6-9A85-194B453CD5B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51CDB1E-9CF3-4700-A0D2-4AE5741BA2E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7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ACFFED3-A12D-4820-AD1F-1A8FDB13F8A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7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85DD8BE-D281-4F8B-9A8B-69A7CFBC341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7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915743C-3727-4B34-AFFD-5B4A34B6F34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8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4942265-4A4D-488B-8DEF-13F35577473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8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4F3EC13C-A0F0-4D31-80C0-1A04BFA7A940}"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9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B72793CC-FCCB-42DA-B0BD-5C93075C9EDC}"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8E9BF18-C7D4-405D-A29B-77501F1E797F}"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C9F707-7BFE-43EE-B642-27252F8D38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07"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CB9CD22-11CB-4C51-9414-EAD2B8024B6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09"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3C7CFFD-DCC8-43A1-B12B-53F454B9A55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1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81CE8AA-C45C-49ED-89B2-71AB669C50C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2DE34F0-6B6B-4C3C-A3E7-AC38ACAA6EC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4"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C8CCB87-227E-4D9B-9CAD-E12E00DA20B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1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15F97B8-8323-44EC-9F0C-7F787165BD6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20"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2"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625A86E-491B-40BC-804E-35E16E65BFC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2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6"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6CAA701-1962-446D-9C31-B42C8DB053D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28"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9"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2C3C09E-CF1B-478C-ABF4-0947EE6C33B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3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4"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F77EB2C5-93F9-41D3-8C44-8E6C48B54BE2}"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9E335-31B6-4909-AC0B-508134451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88492E-03FA-4784-9FE6-DAC0995E05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36"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7"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8"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9"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0"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1"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AA34FD9C-007C-4CAC-B905-3243B18710F3}"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9C16C3-1A9C-4C20-9917-125E5087D1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A7C39E-ACBA-4718-BEFF-728C7E5C33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86E802-517A-4992-A163-788AEF5707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D636F3-C643-4676-9FB4-92E237A558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0E9880-A9CE-4C56-8DED-48B03C36C6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2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F739CB-576C-4EAB-84D2-D56E20B761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685AB5-353E-4817-A6DE-8F2EADCE64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AD02CA-4848-4578-8B5B-E33EAEB8BE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FD7013-6303-4B31-82B4-F9C5FA4413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D3F47-BD79-4423-B6BD-4AD153D9F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2911F6-CF96-44D8-88F9-36D716F17B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2CF098-4E01-48ED-B414-9BC6604FDE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D9F07F-9CB9-4A5E-A422-7BD46E9D11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ABE8A4-D2F9-4725-AE30-9D0A9DCA31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3D5D0D-0C72-4154-A35A-9A0F612B97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54D0DC-E4C6-4F55-9AE1-0710FA4F25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255447-7DB3-461E-AA08-8309E43BD8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218B0A-0EEC-4B54-8D7A-9E72910B4C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6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430022-16F3-42E7-ADE4-3471D193AF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204CCB-433E-4D8A-BC13-B7A8BAE41C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54E2E-4213-44F0-B53A-E3466ED34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C2D3D7-B173-4396-A949-6E9FE25D74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D69B3A-E4D0-4438-83C9-E41E1763F9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2CBE20-964E-49C2-B6D0-8492D70CF4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06E651-78C9-4A5E-8E88-039687EB73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B616A4-0DD1-4E3E-BBE2-214BCC26D2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20C841-8188-4E98-A672-11D8EC08ED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A43D21-CE21-495D-B8D5-C3421ECF77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1E8EBB-8787-42BE-BC2D-B93334BCB4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B46E4C-3875-45F8-A6F8-6B0E60F523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C0161D-FC3D-480B-AE60-E37679CE4C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9487D-AD9E-4CB8-8C5B-F58B7A93C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0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D6BB5B-0B32-41C3-9A97-831FF4B154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36B8D2-0E2A-452F-BB3F-4609120BD3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29B2F8-7614-4230-AA9A-18E58D5184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89B7F1-B3A7-4AC2-BF1F-22248D6084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782A83-1BFB-485A-9ACA-F7221D5E9A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80BA30-340B-4306-AB92-BC1ABD1EBB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40266F-030C-40AD-8098-6AA6C8AD1C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78E92C-0A36-45B6-9DBD-12B5E55C0A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01B6EA-E12B-4133-9BE3-8F7BFA5CAB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632245-8BFB-4CF9-A8BB-4DBC736E42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434B4-2E10-43FD-B32D-E49B6E7B9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0AAF40-6265-4A54-BB72-1A4C0DB654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EE62F1-5350-4D1D-9350-2F635AC1A8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4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3BF772-6B36-42E0-BD6D-76FE670F54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A6F32C-3E80-48C2-B8FB-8A09BDB0C1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801EB9-5DDC-4694-B186-0B2186ECFC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110298-6C95-4E0E-AED1-89E5A225D5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998843-63D6-41FD-840B-E5D26C8CC3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7B2532-FB87-46BE-B652-3CE05DBB10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74D338-F666-4559-B2B9-8B9F7611EC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1EFA57-5B06-4A0A-B65F-1C44C1D12A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CC9CC-50DC-49C0-B032-73B026C38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934402-5644-49FB-AB55-DBDF134C95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9D27FF-AD88-457B-9DC5-7A4C958E94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32FB52-12DE-478C-868B-E7CDFB788D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E87FFD-8BE3-44F2-9392-EC8BEB7403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9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790F69-F1C5-47D1-ACD3-3FF07104E2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85C5A3-A44D-4721-BD79-53C53C4379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9244C9-5630-4D92-95A3-6F448D76D0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DF5E0F-D5A3-4D48-A0BA-DF81255DE7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7FD8A2-A06C-4F3A-9573-FF146B0F67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C0CD16-20F6-407E-97C4-AC2D025F8E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FFFC3-F438-44DA-8EFA-86A4311C8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E8C115-A07F-494D-AED9-A039F83505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1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B9EF77-A939-4CE2-85F0-962C4AC929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1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4EE12F-54BE-400C-80E6-07E7FEF913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2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C2B0A2-59C0-452D-8CF6-3E9AEA67E2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2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694E14-BFCE-47FA-8012-F2BEF707C7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2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699540-B5D2-44F9-98E6-F92972869C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28885B-1C4B-4F1D-BA7A-338F3273F8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DA4964-E60C-4E8D-8BDF-1907259286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4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D9FCDC-585E-4DC1-A399-9A3DB1F5DB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4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E72BF1-CC0A-4CA3-B02B-CE80819584F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1" name="PlaceHolder 2"/>
          <p:cNvSpPr>
            <a:spLocks noGrp="1"/>
          </p:cNvSpPr>
          <p:nvPr>
            <p:ph type="body"/>
          </p:nvPr>
        </p:nvSpPr>
        <p:spPr>
          <a:xfrm>
            <a:off x="457200" y="2286000"/>
            <a:ext cx="8229600" cy="372096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B7DAF-6A13-4AAD-86C1-CAB93842CE40}"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06485-39B2-409E-A8DA-0DAB9336017D}"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Text Box 13"/>
          <p:cNvSpPr/>
          <p:nvPr/>
        </p:nvSpPr>
        <p:spPr>
          <a:xfrm>
            <a:off x="0" y="6324480"/>
            <a:ext cx="3657600" cy="33732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CD-10 Is a Big Deal</a:t>
            </a:r>
            <a:endParaRPr b="0" lang="en-US" sz="1600" spc="-1" strike="noStrike">
              <a:solidFill>
                <a:srgbClr val="000000"/>
              </a:solidFill>
              <a:latin typeface="Arial"/>
            </a:endParaRPr>
          </a:p>
        </p:txBody>
      </p:sp>
      <p:pic>
        <p:nvPicPr>
          <p:cNvPr id="6" name="Picture 8" descr="CMS_logo"/>
          <p:cNvPicPr/>
          <p:nvPr/>
        </p:nvPicPr>
        <p:blipFill>
          <a:blip r:embed="rId2"/>
          <a:stretch/>
        </p:blipFill>
        <p:spPr>
          <a:xfrm>
            <a:off x="228600" y="304920"/>
            <a:ext cx="1976400" cy="734760"/>
          </a:xfrm>
          <a:prstGeom prst="rect">
            <a:avLst/>
          </a:prstGeom>
          <a:ln w="0">
            <a:noFill/>
          </a:ln>
        </p:spPr>
      </p:pic>
      <p:pic>
        <p:nvPicPr>
          <p:cNvPr id="7" name="Picture 5" descr="HHS"/>
          <p:cNvPicPr/>
          <p:nvPr/>
        </p:nvPicPr>
        <p:blipFill>
          <a:blip r:embed="rId3"/>
          <a:stretch/>
        </p:blipFill>
        <p:spPr>
          <a:xfrm>
            <a:off x="7772400" y="152280"/>
            <a:ext cx="1066680" cy="106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D945-DB23-4C78-9AC7-3D862E974E0B}"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38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1C20E-4B0E-4369-8386-21C91566EB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27B22-C94B-4866-8566-6F88CE570BCC}"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2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54132-C73D-4D9A-B2DD-74EEC82C2E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822F2-F025-4281-B134-8EEE38BFC3A7}"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6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46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695B-3FBC-4B5E-A731-B203081F15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D199-D4CD-44D4-AA20-21B775ED98EC}"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50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2E69-2F85-4785-80C4-5031019E49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343C3-146F-420F-BB4D-5D59A9ADA65B}"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54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54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67E60-D2ED-4019-8077-FD0C31004A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6"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4035A-AD8C-43CA-97BB-75F27EA57C6E}"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587"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588"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229D5-EA6A-47C4-B74F-ED451D23B2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7"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E040F-D76F-42CF-B98A-2D4A3047B228}"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628"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629"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96393-FD77-4C85-9318-E1B3D159BCD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8"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FA3C6-BC12-450D-A35A-DA92105A3C56}"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669"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670"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15449-D209-4FE9-920C-2CBD90BB2A3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9"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1E807-DCEB-4600-86B4-710392AA1353}"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710"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711"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3CF60-B889-4EF4-8980-B862C8B83EC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749"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750"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751" name="Picture 8" descr="CMS_logo"/>
          <p:cNvPicPr/>
          <p:nvPr/>
        </p:nvPicPr>
        <p:blipFill>
          <a:blip r:embed="rId2"/>
          <a:stretch/>
        </p:blipFill>
        <p:spPr>
          <a:xfrm>
            <a:off x="152280" y="152280"/>
            <a:ext cx="1976400" cy="735120"/>
          </a:xfrm>
          <a:prstGeom prst="rect">
            <a:avLst/>
          </a:prstGeom>
          <a:ln w="0">
            <a:noFill/>
          </a:ln>
        </p:spPr>
      </p:pic>
      <p:pic>
        <p:nvPicPr>
          <p:cNvPr id="752" name="Picture 5" descr="HHS"/>
          <p:cNvPicPr/>
          <p:nvPr/>
        </p:nvPicPr>
        <p:blipFill>
          <a:blip r:embed="rId3"/>
          <a:stretch/>
        </p:blipFill>
        <p:spPr>
          <a:xfrm>
            <a:off x="8077320" y="152280"/>
            <a:ext cx="685800" cy="682920"/>
          </a:xfrm>
          <a:prstGeom prst="rect">
            <a:avLst/>
          </a:prstGeom>
          <a:ln w="0">
            <a:noFill/>
          </a:ln>
        </p:spPr>
      </p:pic>
      <p:sp>
        <p:nvSpPr>
          <p:cNvPr id="753" name="PlaceHolder 3"/>
          <p:cNvSpPr>
            <a:spLocks noGrp="1"/>
          </p:cNvSpPr>
          <p:nvPr>
            <p:ph type="dt" idx="55"/>
          </p:nvPr>
        </p:nvSpPr>
        <p:spPr>
          <a:xfrm>
            <a:off x="746748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6E6AB-4CFE-4606-8F9B-A749BBBF4316}"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754" name="PlaceHolder 4"/>
          <p:cNvSpPr>
            <a:spLocks noGrp="1"/>
          </p:cNvSpPr>
          <p:nvPr>
            <p:ph type="ftr" idx="56"/>
          </p:nvPr>
        </p:nvSpPr>
        <p:spPr>
          <a:xfrm>
            <a:off x="4343040" y="647676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PlaceHolder 5"/>
          <p:cNvSpPr>
            <a:spLocks noGrp="1"/>
          </p:cNvSpPr>
          <p:nvPr>
            <p:ph type="sldNum" idx="57"/>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EAECF-2B32-4F9D-B285-C143997E46C0}"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4412F-81F7-4272-92B4-3390C78A6674}"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06C87-5B91-4F00-B3FC-66E8FE6BC1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4"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063AC-9296-4989-94B3-8C4F741856E2}"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795"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796"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AA594-F979-43BC-A1CC-C0431EEAA5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5"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9A0F7-E35E-4453-956F-01BB7E58F82C}"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836"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837"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F6B34-2146-40B8-B5E0-1563D7BCDB1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6"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C4B4-0374-4669-862C-83DB6DE5DA4C}"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877"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878"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3EDA3-D715-4967-9E9D-74735ADFF1B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7"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C9AD4-7606-4BC9-B710-280AEAF6AF9B}"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918"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919"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B6D9-3B17-4F70-ABD6-1049BBF0CD4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8"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1F33-0496-4E8B-8681-BF3829882A12}"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959"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960"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6F46E-6EC1-41E3-B000-6FD423BB3CA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WordArt 2"/>
          <p:cNvSpPr txBox="1"/>
          <p:nvPr/>
        </p:nvSpPr>
        <p:spPr>
          <a:xfrm rot="2157600">
            <a:off x="1700280" y="2819160"/>
            <a:ext cx="6046560" cy="220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e6e6e6"/>
                    </a:gs>
                    <a:gs pos="100000">
                      <a:srgbClr val="ffffff"/>
                    </a:gs>
                  </a:gsLst>
                  <a:lin ang="1080000"/>
                </a:gradFill>
                <a:effectLst>
                  <a:outerShdw dist="40186" dir="4303641" blurRad="0" rotWithShape="0">
                    <a:srgbClr val="4d4d4d">
                      <a:alpha val="80000"/>
                    </a:srgbClr>
                  </a:outerShdw>
                </a:effectLst>
                <a:latin typeface="Arial Black"/>
              </a:rPr>
              <a:t>DRAFT</a:t>
            </a:r>
            <a:endParaRPr b="0" lang="en-US" sz="2800" spc="1" strike="noStrike">
              <a:ln w="0">
                <a:noFill/>
              </a:ln>
              <a:gradFill rotWithShape="0">
                <a:gsLst>
                  <a:gs pos="0">
                    <a:srgbClr val="e6e6e6"/>
                  </a:gs>
                  <a:gs pos="100000">
                    <a:srgbClr val="ffffff"/>
                  </a:gs>
                </a:gsLst>
                <a:lin ang="1080000"/>
              </a:gradFill>
              <a:effectLst>
                <a:outerShdw dist="40186" dir="4303641" blurRad="0" rotWithShape="0">
                  <a:srgbClr val="4d4d4d">
                    <a:alpha val="80000"/>
                  </a:srgbClr>
                </a:outerShdw>
              </a:effectLst>
              <a:latin typeface="Arial Black"/>
              <a:ea typeface="Arial Black"/>
            </a:endParaRPr>
          </a:p>
        </p:txBody>
      </p:sp>
      <p:sp>
        <p:nvSpPr>
          <p:cNvPr id="99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999" name="PlaceHolder 2"/>
          <p:cNvSpPr>
            <a:spLocks noGrp="1"/>
          </p:cNvSpPr>
          <p:nvPr>
            <p:ph type="body"/>
          </p:nvPr>
        </p:nvSpPr>
        <p:spPr>
          <a:xfrm>
            <a:off x="457200" y="228564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000"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1001" name="Picture 8" descr="CMS_logo"/>
          <p:cNvPicPr/>
          <p:nvPr/>
        </p:nvPicPr>
        <p:blipFill>
          <a:blip r:embed="rId2"/>
          <a:stretch/>
        </p:blipFill>
        <p:spPr>
          <a:xfrm>
            <a:off x="152280" y="152280"/>
            <a:ext cx="1976400" cy="735120"/>
          </a:xfrm>
          <a:prstGeom prst="rect">
            <a:avLst/>
          </a:prstGeom>
          <a:ln w="0">
            <a:noFill/>
          </a:ln>
        </p:spPr>
      </p:pic>
      <p:pic>
        <p:nvPicPr>
          <p:cNvPr id="1002" name="Picture 5" descr="HHS"/>
          <p:cNvPicPr/>
          <p:nvPr/>
        </p:nvPicPr>
        <p:blipFill>
          <a:blip r:embed="rId3"/>
          <a:stretch/>
        </p:blipFill>
        <p:spPr>
          <a:xfrm>
            <a:off x="8077320" y="152280"/>
            <a:ext cx="685800" cy="682920"/>
          </a:xfrm>
          <a:prstGeom prst="rect">
            <a:avLst/>
          </a:prstGeom>
          <a:ln w="0">
            <a:noFill/>
          </a:ln>
        </p:spPr>
      </p:pic>
      <p:sp>
        <p:nvSpPr>
          <p:cNvPr id="1003" name="PlaceHolder 3"/>
          <p:cNvSpPr>
            <a:spLocks noGrp="1"/>
          </p:cNvSpPr>
          <p:nvPr>
            <p:ph type="dt" idx="73"/>
          </p:nvPr>
        </p:nvSpPr>
        <p:spPr>
          <a:xfrm>
            <a:off x="746748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7E918-3D35-4713-A854-D8472E5A53B1}"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1004" name="PlaceHolder 4"/>
          <p:cNvSpPr>
            <a:spLocks noGrp="1"/>
          </p:cNvSpPr>
          <p:nvPr>
            <p:ph type="ftr" idx="74"/>
          </p:nvPr>
        </p:nvSpPr>
        <p:spPr>
          <a:xfrm>
            <a:off x="4343040" y="647676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PlaceHolder 5"/>
          <p:cNvSpPr>
            <a:spLocks noGrp="1"/>
          </p:cNvSpPr>
          <p:nvPr>
            <p:ph type="sldNum" idx="75"/>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B9C1C-DF69-485D-982C-79BA63CF6E36}"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08ECB-7B94-4D25-BF03-BC66573400DD}"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E0A38-2527-464B-AFB6-46571A8707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6B9AA-ECC7-4D45-9790-DAAF29DE7AA7}"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D66B9-DF2C-4E17-83DD-5107A65962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44410-91FC-4ACD-A459-A57299B5514A}"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E2F82-0571-4897-A73B-B8114D038B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C38BE-1E8B-46C7-B9FB-0615832DD204}"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9F88-257C-466F-B1AC-D54F2534EB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WordArt 2"/>
          <p:cNvSpPr txBox="1"/>
          <p:nvPr/>
        </p:nvSpPr>
        <p:spPr>
          <a:xfrm rot="2157600">
            <a:off x="1700280" y="2819160"/>
            <a:ext cx="6046560" cy="220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e6e6e6"/>
                    </a:gs>
                    <a:gs pos="100000">
                      <a:srgbClr val="ffffff"/>
                    </a:gs>
                  </a:gsLst>
                  <a:lin ang="1080000"/>
                </a:gradFill>
                <a:effectLst>
                  <a:outerShdw dist="40186" dir="4303641" blurRad="0" rotWithShape="0">
                    <a:srgbClr val="4d4d4d">
                      <a:alpha val="80000"/>
                    </a:srgbClr>
                  </a:outerShdw>
                </a:effectLst>
                <a:latin typeface="Arial Black"/>
              </a:rPr>
              <a:t>DRAFT</a:t>
            </a:r>
            <a:endParaRPr b="0" lang="en-US" sz="2800" spc="1" strike="noStrike">
              <a:ln w="0">
                <a:noFill/>
              </a:ln>
              <a:gradFill rotWithShape="0">
                <a:gsLst>
                  <a:gs pos="0">
                    <a:srgbClr val="e6e6e6"/>
                  </a:gs>
                  <a:gs pos="100000">
                    <a:srgbClr val="ffffff"/>
                  </a:gs>
                </a:gsLst>
                <a:lin ang="1080000"/>
              </a:gradFill>
              <a:effectLst>
                <a:outerShdw dist="40186" dir="4303641" blurRad="0" rotWithShape="0">
                  <a:srgbClr val="4d4d4d">
                    <a:alpha val="80000"/>
                  </a:srgbClr>
                </a:outerShdw>
              </a:effectLst>
              <a:latin typeface="Arial Black"/>
              <a:ea typeface="Arial Black"/>
            </a:endParaRPr>
          </a:p>
        </p:txBody>
      </p:sp>
      <p:sp>
        <p:nvSpPr>
          <p:cNvPr id="25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251" name="PlaceHolder 2"/>
          <p:cNvSpPr>
            <a:spLocks noGrp="1"/>
          </p:cNvSpPr>
          <p:nvPr>
            <p:ph type="body"/>
          </p:nvPr>
        </p:nvSpPr>
        <p:spPr>
          <a:xfrm>
            <a:off x="457200" y="228564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52" name="Text Box 5"/>
          <p:cNvSpPr/>
          <p:nvPr/>
        </p:nvSpPr>
        <p:spPr>
          <a:xfrm>
            <a:off x="0" y="6324480"/>
            <a:ext cx="3657600" cy="33732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CD-10 Is a Big Deal</a:t>
            </a:r>
            <a:endParaRPr b="0" lang="en-US" sz="1600" spc="-1" strike="noStrike">
              <a:solidFill>
                <a:srgbClr val="000000"/>
              </a:solidFill>
              <a:latin typeface="Arial"/>
            </a:endParaRPr>
          </a:p>
        </p:txBody>
      </p:sp>
      <p:pic>
        <p:nvPicPr>
          <p:cNvPr id="253" name="Picture 8" descr="CMS_logo"/>
          <p:cNvPicPr/>
          <p:nvPr/>
        </p:nvPicPr>
        <p:blipFill>
          <a:blip r:embed="rId2"/>
          <a:stretch/>
        </p:blipFill>
        <p:spPr>
          <a:xfrm>
            <a:off x="228600" y="304920"/>
            <a:ext cx="1976400" cy="734760"/>
          </a:xfrm>
          <a:prstGeom prst="rect">
            <a:avLst/>
          </a:prstGeom>
          <a:ln w="0">
            <a:noFill/>
          </a:ln>
        </p:spPr>
      </p:pic>
      <p:pic>
        <p:nvPicPr>
          <p:cNvPr id="254" name="Picture 5" descr="HHS"/>
          <p:cNvPicPr/>
          <p:nvPr/>
        </p:nvPicPr>
        <p:blipFill>
          <a:blip r:embed="rId3"/>
          <a:stretch/>
        </p:blipFill>
        <p:spPr>
          <a:xfrm>
            <a:off x="7772400" y="152280"/>
            <a:ext cx="1066680" cy="1062000"/>
          </a:xfrm>
          <a:prstGeom prst="rect">
            <a:avLst/>
          </a:prstGeom>
          <a:ln w="0">
            <a:noFill/>
          </a:ln>
        </p:spPr>
      </p:pic>
      <p:sp>
        <p:nvSpPr>
          <p:cNvPr id="255" name="PlaceHolder 3"/>
          <p:cNvSpPr>
            <a:spLocks noGrp="1"/>
          </p:cNvSpPr>
          <p:nvPr>
            <p:ph type="dt" idx="19"/>
          </p:nvPr>
        </p:nvSpPr>
        <p:spPr>
          <a:xfrm>
            <a:off x="746748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C2CE-8EE9-46DC-8F7A-6D84F78610FA}"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256" name="PlaceHolder 4"/>
          <p:cNvSpPr>
            <a:spLocks noGrp="1"/>
          </p:cNvSpPr>
          <p:nvPr>
            <p:ph type="ftr" idx="20"/>
          </p:nvPr>
        </p:nvSpPr>
        <p:spPr>
          <a:xfrm>
            <a:off x="4343040" y="647676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3CCD7-3A1B-4E11-AB31-5CAA035EC391}"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258" name="Text Box 11"/>
          <p:cNvSpPr/>
          <p:nvPr/>
        </p:nvSpPr>
        <p:spPr>
          <a:xfrm>
            <a:off x="0" y="6324480"/>
            <a:ext cx="3657600" cy="33732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CD-10 Is a Big Deal</a:t>
            </a:r>
            <a:endParaRPr b="0" lang="en-US" sz="1600" spc="-1" strike="noStrike">
              <a:solidFill>
                <a:srgbClr val="000000"/>
              </a:solidFill>
              <a:latin typeface="Arial"/>
            </a:endParaRPr>
          </a:p>
        </p:txBody>
      </p:sp>
      <p:pic>
        <p:nvPicPr>
          <p:cNvPr id="259" name="Picture 8" descr="CMS_logo"/>
          <p:cNvPicPr/>
          <p:nvPr/>
        </p:nvPicPr>
        <p:blipFill>
          <a:blip r:embed="rId4"/>
          <a:stretch/>
        </p:blipFill>
        <p:spPr>
          <a:xfrm>
            <a:off x="228600" y="304920"/>
            <a:ext cx="1976400" cy="734760"/>
          </a:xfrm>
          <a:prstGeom prst="rect">
            <a:avLst/>
          </a:prstGeom>
          <a:ln w="0">
            <a:noFill/>
          </a:ln>
        </p:spPr>
      </p:pic>
      <p:pic>
        <p:nvPicPr>
          <p:cNvPr id="260" name="Picture 5" descr="HHS"/>
          <p:cNvPicPr/>
          <p:nvPr/>
        </p:nvPicPr>
        <p:blipFill>
          <a:blip r:embed="rId5"/>
          <a:stretch/>
        </p:blipFill>
        <p:spPr>
          <a:xfrm>
            <a:off x="7772400" y="152280"/>
            <a:ext cx="1066680" cy="106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BBFD3-7347-46C8-A0DB-AB4F667705B4}"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0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30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A7693-DBDD-4B34-9593-F48F17852A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FCDD4-BC3D-4A9C-93BD-8EA2247C184E}"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4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3 - Benefits of Using ICD-10</a:t>
            </a:r>
            <a:endParaRPr b="0" lang="en-US" sz="1200" spc="-1" strike="noStrike">
              <a:solidFill>
                <a:srgbClr val="000000"/>
              </a:solidFill>
              <a:latin typeface="Times New Roman"/>
            </a:endParaRPr>
          </a:p>
        </p:txBody>
      </p:sp>
      <p:sp>
        <p:nvSpPr>
          <p:cNvPr id="34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74225-35CF-48CB-9EA2-410CDF910B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375A8-E19B-41E9-823F-51A0DC25E99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50" name="Date Placeholder 6"/>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BDBAF-C81D-42FC-95D5-FDDD7C561D6C}"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1051" name="Slide Number Placeholder 7"/>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FC3D2-F970-4D75-BAEC-BCE57C39238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52" name="Footer Placeholder 8"/>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053" name="Rectangle 3"/>
          <p:cNvSpPr/>
          <p:nvPr/>
        </p:nvSpPr>
        <p:spPr>
          <a:xfrm>
            <a:off x="4572000" y="4343400"/>
            <a:ext cx="4114800" cy="1600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Verdana"/>
              </a:rPr>
              <a:t>Training Segment 3</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Verdana"/>
              </a:rPr>
              <a:t>Benefits of Using</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Verdana"/>
              </a:rPr>
              <a:t>ICD-10</a:t>
            </a:r>
            <a:endParaRPr b="0" lang="en-US" sz="2800" spc="-1" strike="noStrike">
              <a:solidFill>
                <a:srgbClr val="000000"/>
              </a:solidFill>
              <a:latin typeface="Arial"/>
            </a:endParaRPr>
          </a:p>
        </p:txBody>
      </p:sp>
      <p:sp>
        <p:nvSpPr>
          <p:cNvPr id="1054" name="Rectangle 3"/>
          <p:cNvSpPr/>
          <p:nvPr/>
        </p:nvSpPr>
        <p:spPr>
          <a:xfrm>
            <a:off x="4572000" y="2895480"/>
            <a:ext cx="380988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Informational Series on ICD-10 Planning and Assessment for State Medicaid Agencies</a:t>
            </a:r>
            <a:endParaRPr b="0" lang="en-US" sz="1600" spc="-1" strike="noStrike">
              <a:solidFill>
                <a:srgbClr val="000000"/>
              </a:solidFill>
              <a:latin typeface="Arial"/>
            </a:endParaRPr>
          </a:p>
        </p:txBody>
      </p:sp>
      <p:sp>
        <p:nvSpPr>
          <p:cNvPr id="1055" name="Rectangle 12"/>
          <p:cNvSpPr/>
          <p:nvPr/>
        </p:nvSpPr>
        <p:spPr>
          <a:xfrm>
            <a:off x="3962520" y="0"/>
            <a:ext cx="2286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Content Placeholder 1"/>
          <p:cNvSpPr/>
          <p:nvPr/>
        </p:nvSpPr>
        <p:spPr>
          <a:xfrm>
            <a:off x="228600" y="1295280"/>
            <a:ext cx="3733920" cy="4953240"/>
          </a:xfrm>
          <a:prstGeom prst="rect">
            <a:avLst/>
          </a:prstGeom>
          <a:noFill/>
          <a:ln w="0">
            <a:noFill/>
          </a:ln>
        </p:spPr>
        <p:style>
          <a:lnRef idx="0"/>
          <a:fillRef idx="0"/>
          <a:effectRef idx="0"/>
          <a:fontRef idx="minor"/>
        </p:style>
        <p:txBody>
          <a:bodyPr lIns="90000" rIns="90000" tIns="46800" bIns="46800" anchor="t">
            <a:noAutofit/>
          </a:bodyPr>
          <a:p>
            <a:pPr marL="496800" indent="-38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rPr>
              <a:t>	</a:t>
            </a:r>
            <a:r>
              <a:rPr b="1" i="1" lang="en-US" sz="1000" spc="-1" strike="noStrike">
                <a:solidFill>
                  <a:srgbClr val="000000"/>
                </a:solidFill>
                <a:latin typeface="Verdana"/>
              </a:rPr>
              <a:t>A Series of Topics on ICD-10 for State Medicaid Agencies</a:t>
            </a:r>
            <a:r>
              <a:rPr b="0" lang="en-US" sz="1000" spc="-1" strike="noStrike">
                <a:solidFill>
                  <a:srgbClr val="000000"/>
                </a:solidFill>
                <a:latin typeface="Verdana"/>
              </a:rPr>
              <a:t>:</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is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gulatory Requirement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0504d"/>
                </a:solidFill>
                <a:uFillTx/>
                <a:latin typeface="Verdana"/>
              </a:rPr>
              <a:t>Benefits of Using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rther Movement along the MITA Road Map - Use of clinical data and interoperability</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ffective Implementation of ICD-10 </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tential Programmatic and Technical Problem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pact on MITA Business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ming the Implementation Team</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MIS Funding Opportuniti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ducation and Training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rtner and Vendor Consideration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ing Progress and Post Compliance Date Actions</a:t>
            </a:r>
            <a:endParaRPr b="0" lang="en-US" sz="1000" spc="-1" strike="noStrike">
              <a:solidFill>
                <a:srgbClr val="000000"/>
              </a:solidFill>
              <a:latin typeface="Arial"/>
            </a:endParaRPr>
          </a:p>
        </p:txBody>
      </p:sp>
      <p:sp>
        <p:nvSpPr>
          <p:cNvPr id="1057" name="TextBox 10"/>
          <p:cNvSpPr/>
          <p:nvPr/>
        </p:nvSpPr>
        <p:spPr>
          <a:xfrm>
            <a:off x="4648320" y="912960"/>
            <a:ext cx="3733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ICD-10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Planning an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txBox="1"/>
          <p:nvPr/>
        </p:nvSpPr>
        <p:spPr>
          <a:xfrm>
            <a:off x="685800" y="2288880"/>
            <a:ext cx="7391520" cy="374004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CD-10 codes must be supported by documentation contained in EHRs</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pect that the tools for ICD-10 coding will be included in new EHRs </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uld be able to link codes directly to specific information</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quests for information will be more specific and accurate</a:t>
            </a:r>
            <a:endParaRPr b="0" lang="en-US" sz="2100" spc="-1" strike="noStrike">
              <a:solidFill>
                <a:srgbClr val="000000"/>
              </a:solidFill>
              <a:latin typeface="Verdana"/>
            </a:endParaRPr>
          </a:p>
        </p:txBody>
      </p:sp>
      <p:sp>
        <p:nvSpPr>
          <p:cNvPr id="109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59D38-78B6-42B9-BAAA-DC5A63C857E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00" name="Date Placeholder 4"/>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8FA1A-7821-47F7-93F3-E558119DA093}"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1101" name="Footer Placeholder 5"/>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102" name="Text Box 7"/>
          <p:cNvSpPr/>
          <p:nvPr/>
        </p:nvSpPr>
        <p:spPr>
          <a:xfrm>
            <a:off x="762120" y="1143000"/>
            <a:ext cx="76197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Verdana"/>
              </a:rPr>
              <a:t>Links to Electronic Health Records and Additional Inform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
          <p:cNvSpPr txBox="1"/>
          <p:nvPr/>
        </p:nvSpPr>
        <p:spPr>
          <a:xfrm>
            <a:off x="685440" y="1904760"/>
            <a:ext cx="7543800" cy="28954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quality measures are either based on or specific to diagnoses</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CD-10 provides an opportunity to create more targeted and more accurate quality measures by using better diagnosis information</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vider quality and performance measures can thus be improved, and the data considered more accurate</a:t>
            </a:r>
            <a:endParaRPr b="0" lang="en-US" sz="2100" spc="-1" strike="noStrike">
              <a:solidFill>
                <a:srgbClr val="000000"/>
              </a:solidFill>
              <a:latin typeface="Verdana"/>
            </a:endParaRPr>
          </a:p>
        </p:txBody>
      </p:sp>
      <p:sp>
        <p:nvSpPr>
          <p:cNvPr id="110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460EA-693A-4735-8861-B30244189A4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05" name="Date Placeholder 4"/>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3412-E6D4-4488-81A9-D9F5166D87CC}"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1106" name="Footer Placeholder 5"/>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107" name="Text Box 7"/>
          <p:cNvSpPr/>
          <p:nvPr/>
        </p:nvSpPr>
        <p:spPr>
          <a:xfrm>
            <a:off x="762120" y="1219320"/>
            <a:ext cx="761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Verdana"/>
              </a:rPr>
              <a:t>Quality and Performance Meas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
          <p:cNvSpPr txBox="1"/>
          <p:nvPr/>
        </p:nvSpPr>
        <p:spPr>
          <a:xfrm>
            <a:off x="799920" y="1828800"/>
            <a:ext cx="7543800" cy="35812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CD-10 should provide better information on claims</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dicaid agencies can use this information to determine if beneficiaries are getting the right care</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look at provider patterns of care versus industry benchmarks</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pare Medicaid population with other populations</a:t>
            </a:r>
            <a:endParaRPr b="0" lang="en-US" sz="2100" spc="-1" strike="noStrike">
              <a:solidFill>
                <a:srgbClr val="000000"/>
              </a:solidFill>
              <a:latin typeface="Verdana"/>
            </a:endParaRPr>
          </a:p>
        </p:txBody>
      </p:sp>
      <p:sp>
        <p:nvSpPr>
          <p:cNvPr id="110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A9393-C720-4FD5-AC16-30E6A4DFEC6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10" name="Date Placeholder 4"/>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3D482-5944-4544-9068-A0845BB48CB4}"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1111" name="Footer Placeholder 5"/>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112" name="Text Box 7"/>
          <p:cNvSpPr/>
          <p:nvPr/>
        </p:nvSpPr>
        <p:spPr>
          <a:xfrm>
            <a:off x="762120" y="1143000"/>
            <a:ext cx="7619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Quality Assur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txBox="1"/>
          <p:nvPr/>
        </p:nvSpPr>
        <p:spPr>
          <a:xfrm>
            <a:off x="799920" y="2057400"/>
            <a:ext cx="7543800" cy="32004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ategic planning is another opportunity for use of the better data that ICD-10 will provid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enough data is collected, trending can begin and support strategic planning for:</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ing beneficiary demographic information with conditions</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ing at provider caseload trends by condition</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ermining better benefit packages for the Medicaid population</a:t>
            </a:r>
            <a:endParaRPr b="0" lang="en-US" sz="2000" spc="-1" strike="noStrike">
              <a:solidFill>
                <a:srgbClr val="000000"/>
              </a:solidFill>
              <a:latin typeface="Verdana"/>
            </a:endParaRPr>
          </a:p>
        </p:txBody>
      </p:sp>
      <p:sp>
        <p:nvSpPr>
          <p:cNvPr id="111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0C455-3822-4931-BA27-01CE4EDFA22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15" name="Date Placeholder 4"/>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90A4-5C7B-4AEF-808C-2A4B5A56D748}"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1116" name="Footer Placeholder 5"/>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117" name="Text Box 7"/>
          <p:cNvSpPr/>
          <p:nvPr/>
        </p:nvSpPr>
        <p:spPr>
          <a:xfrm>
            <a:off x="609480" y="1219320"/>
            <a:ext cx="762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Verdana"/>
              </a:rPr>
              <a:t>Strategic Planning for Beneficiary, Provider, and Benefit Services Improve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
          <p:cNvSpPr txBox="1"/>
          <p:nvPr/>
        </p:nvSpPr>
        <p:spPr>
          <a:xfrm>
            <a:off x="799920" y="2057400"/>
            <a:ext cx="7543800" cy="22860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10 provides better information on diagnoses and inpatient hospital procedure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data is routinely collected on claim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ata can be used to improve many of the functions of the State Medicaid program</a:t>
            </a:r>
            <a:endParaRPr b="0" lang="en-US" sz="2400" spc="-1" strike="noStrike">
              <a:solidFill>
                <a:srgbClr val="000000"/>
              </a:solidFill>
              <a:latin typeface="Verdana"/>
            </a:endParaRPr>
          </a:p>
        </p:txBody>
      </p:sp>
      <p:sp>
        <p:nvSpPr>
          <p:cNvPr id="111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C605B-0D84-40E1-A60F-86EDE479DAD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20" name="Date Placeholder 4"/>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118A1-92FD-4C6D-A8E0-6BCF7687234F}"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1121" name="Footer Placeholder 5"/>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122" name="Text Box 7"/>
          <p:cNvSpPr/>
          <p:nvPr/>
        </p:nvSpPr>
        <p:spPr>
          <a:xfrm>
            <a:off x="762120" y="1066680"/>
            <a:ext cx="761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p:nvPr>
        </p:nvSpPr>
        <p:spPr>
          <a:xfrm>
            <a:off x="457200" y="2368440"/>
            <a:ext cx="8229600" cy="229104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o better understand the total benefits of using the ICD-10 code set to enhance all areas of the Medicaid Enterprise</a:t>
            </a:r>
            <a:endParaRPr b="0" lang="en-US" sz="2100" spc="-1" strike="noStrike">
              <a:solidFill>
                <a:srgbClr val="000000"/>
              </a:solidFill>
              <a:latin typeface="Verdana"/>
            </a:endParaRPr>
          </a:p>
        </p:txBody>
      </p:sp>
      <p:sp>
        <p:nvSpPr>
          <p:cNvPr id="1059" name="Date Placeholder 3"/>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40575-4972-4433-A3B4-1BF79B83C3E0}"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1060"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C941-555A-44EC-A133-B86540739EF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61" name="Footer Placeholder 5"/>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062" name="Text Box 8"/>
          <p:cNvSpPr/>
          <p:nvPr/>
        </p:nvSpPr>
        <p:spPr>
          <a:xfrm>
            <a:off x="762120" y="1066680"/>
            <a:ext cx="7619760" cy="11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f497d"/>
                </a:solidFill>
                <a:latin typeface="Verdana"/>
              </a:rPr>
              <a:t>Segment 3 - Benefits of Using ICD-10</a:t>
            </a:r>
            <a:endParaRPr b="0" lang="en-US" sz="2700" spc="-1" strike="noStrike">
              <a:solidFill>
                <a:srgbClr val="000000"/>
              </a:solidFill>
              <a:latin typeface="Arial"/>
            </a:endParaRPr>
          </a:p>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f497d"/>
                </a:solidFill>
                <a:latin typeface="Verdana"/>
              </a:rPr>
              <a:t>Objectives of this Segme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
          <p:cNvSpPr txBox="1"/>
          <p:nvPr/>
        </p:nvSpPr>
        <p:spPr>
          <a:xfrm>
            <a:off x="685440" y="1828800"/>
            <a:ext cx="7543800" cy="35812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replaces a 25-year-old code set that has failed to keep up with modern terminology and practic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provides detailed information on a patient’s condition through specific diagnos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provides a more specific and modern approach to classifying inpatient hospital procedures</a:t>
            </a:r>
            <a:endParaRPr b="0" lang="en-US" sz="2200" spc="-1" strike="noStrike">
              <a:solidFill>
                <a:srgbClr val="000000"/>
              </a:solidFill>
              <a:latin typeface="Verdana"/>
            </a:endParaRPr>
          </a:p>
        </p:txBody>
      </p:sp>
      <p:sp>
        <p:nvSpPr>
          <p:cNvPr id="106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0FC10-3C18-4988-AB06-02CEC7188CC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65" name="Date Placeholder 4"/>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784E2-EE29-49BB-B85F-D328DBD3BBD2}"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1066" name="Footer Placeholder 5"/>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067" name="Text Box 7"/>
          <p:cNvSpPr/>
          <p:nvPr/>
        </p:nvSpPr>
        <p:spPr>
          <a:xfrm>
            <a:off x="762120" y="1143000"/>
            <a:ext cx="7619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Rationale for ICD-10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txBox="1"/>
          <p:nvPr/>
        </p:nvSpPr>
        <p:spPr>
          <a:xfrm>
            <a:off x="457200" y="1905120"/>
            <a:ext cx="8229600" cy="36576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th the greater specificity of ICD-10-CM diagnoses and ICD-10-PCS procedure codes, claims information can be used for data capture and analysi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ay enable you to avoid collection of additional data from provider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caid agencies can take advantage of this better information for a wide variety of function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can upgrade your current data analysis of diagnoses and procedures, and enable you to start using data for additional purposes</a:t>
            </a:r>
            <a:endParaRPr b="0" lang="en-US" sz="2200" spc="-1" strike="noStrike">
              <a:solidFill>
                <a:srgbClr val="000000"/>
              </a:solidFill>
              <a:latin typeface="Verdana"/>
            </a:endParaRPr>
          </a:p>
        </p:txBody>
      </p:sp>
      <p:sp>
        <p:nvSpPr>
          <p:cNvPr id="106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5083-3468-4F55-A558-3B63F9C91E0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70" name="Date Placeholder 4"/>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8C927-7678-4118-85AE-DFECA42E0A0A}"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1071" name="Footer Placeholder 5"/>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072" name="Text Box 7"/>
          <p:cNvSpPr/>
          <p:nvPr/>
        </p:nvSpPr>
        <p:spPr>
          <a:xfrm>
            <a:off x="533520" y="1143000"/>
            <a:ext cx="761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Opportunity for U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
          <p:cNvSpPr txBox="1"/>
          <p:nvPr/>
        </p:nvSpPr>
        <p:spPr>
          <a:xfrm>
            <a:off x="609120" y="1752120"/>
            <a:ext cx="7543800" cy="4343400"/>
          </a:xfrm>
          <a:prstGeom prst="rect">
            <a:avLst/>
          </a:prstGeom>
          <a:noFill/>
          <a:ln w="0">
            <a:noFill/>
          </a:ln>
        </p:spPr>
        <p:txBody>
          <a:bodyPr anchor="t">
            <a:normAutofit/>
          </a:bodyPr>
          <a:p>
            <a:pPr lvl="1" marL="849240" indent="-457200">
              <a:spcBef>
                <a:spcPts val="326"/>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mproved care management of beneficiaries</a:t>
            </a:r>
            <a:endParaRPr b="0" lang="en-US" sz="1900" spc="-1" strike="noStrike">
              <a:solidFill>
                <a:srgbClr val="000000"/>
              </a:solidFill>
              <a:latin typeface="Verdana"/>
            </a:endParaRPr>
          </a:p>
          <a:p>
            <a:pPr lvl="1" marL="849240" indent="-457200">
              <a:spcBef>
                <a:spcPts val="326"/>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oost efficiencies by identification of specific health conditions, diagnoses, and procedures</a:t>
            </a:r>
            <a:endParaRPr b="0" lang="en-US" sz="1900" spc="-1" strike="noStrike">
              <a:solidFill>
                <a:srgbClr val="000000"/>
              </a:solidFill>
              <a:latin typeface="Verdana"/>
            </a:endParaRPr>
          </a:p>
          <a:p>
            <a:pPr lvl="1" marL="849240" indent="-457200">
              <a:spcBef>
                <a:spcPts val="326"/>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ore effective coverage and payment determination</a:t>
            </a:r>
            <a:endParaRPr b="0" lang="en-US" sz="1900" spc="-1" strike="noStrike">
              <a:solidFill>
                <a:srgbClr val="000000"/>
              </a:solidFill>
              <a:latin typeface="Verdana"/>
            </a:endParaRPr>
          </a:p>
          <a:p>
            <a:pPr lvl="1" marL="849240" indent="-457200">
              <a:spcBef>
                <a:spcPts val="326"/>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etter data for fraud and abuse monitoring</a:t>
            </a:r>
            <a:endParaRPr b="0" lang="en-US" sz="1900" spc="-1" strike="noStrike">
              <a:solidFill>
                <a:srgbClr val="000000"/>
              </a:solidFill>
              <a:latin typeface="Verdana"/>
            </a:endParaRPr>
          </a:p>
          <a:p>
            <a:pPr lvl="1" marL="849240" indent="-457200">
              <a:spcBef>
                <a:spcPts val="326"/>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nks to electronic health records (EHRs) and additional information</a:t>
            </a:r>
            <a:endParaRPr b="0" lang="en-US" sz="1900" spc="-1" strike="noStrike">
              <a:solidFill>
                <a:srgbClr val="000000"/>
              </a:solidFill>
              <a:latin typeface="Verdana"/>
            </a:endParaRPr>
          </a:p>
          <a:p>
            <a:pPr lvl="1" marL="849240" indent="-457200">
              <a:spcBef>
                <a:spcPts val="326"/>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rategic planning for member, provider, and benefit service improvements</a:t>
            </a:r>
            <a:endParaRPr b="0" lang="en-US" sz="1900" spc="-1" strike="noStrike">
              <a:solidFill>
                <a:srgbClr val="000000"/>
              </a:solidFill>
              <a:latin typeface="Verdana"/>
            </a:endParaRPr>
          </a:p>
          <a:p>
            <a:pPr lvl="1" marL="849240" indent="-457200">
              <a:spcBef>
                <a:spcPts val="326"/>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erformance monitoring and increased capacity to report quality measures</a:t>
            </a:r>
            <a:endParaRPr b="0" lang="en-US" sz="1900" spc="-1" strike="noStrike">
              <a:solidFill>
                <a:srgbClr val="000000"/>
              </a:solidFill>
              <a:latin typeface="Verdana"/>
            </a:endParaRPr>
          </a:p>
          <a:p>
            <a:pPr lvl="1" marL="849240" indent="-457200">
              <a:spcBef>
                <a:spcPts val="326"/>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ality assurance of clinical and administrative processes</a:t>
            </a:r>
            <a:endParaRPr b="0" lang="en-US" sz="1900" spc="-1" strike="noStrike">
              <a:solidFill>
                <a:srgbClr val="000000"/>
              </a:solidFill>
              <a:latin typeface="Verdana"/>
            </a:endParaRPr>
          </a:p>
        </p:txBody>
      </p:sp>
      <p:sp>
        <p:nvSpPr>
          <p:cNvPr id="107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5A22B-7904-4FE7-8D22-55F8B876E3A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75" name="Date Placeholder 4"/>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86828-8F6C-40DA-9B05-BC0C3C202B80}"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1076" name="Footer Placeholder 5"/>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077" name="Text Box 7"/>
          <p:cNvSpPr/>
          <p:nvPr/>
        </p:nvSpPr>
        <p:spPr>
          <a:xfrm>
            <a:off x="609480" y="10666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Range of Applic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
          <p:cNvSpPr txBox="1"/>
          <p:nvPr/>
        </p:nvSpPr>
        <p:spPr>
          <a:xfrm>
            <a:off x="799920" y="2209680"/>
            <a:ext cx="7543800" cy="37404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tter diagnosis identification provides opportunity to:</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candidates sooner for special attention:</a:t>
            </a:r>
            <a:endParaRPr b="0" lang="en-US" sz="2000" spc="-1" strike="noStrike">
              <a:solidFill>
                <a:srgbClr val="000000"/>
              </a:solidFill>
              <a:latin typeface="Verdana"/>
            </a:endParaRPr>
          </a:p>
          <a:p>
            <a:pPr lvl="2" marL="858960" indent="-228600">
              <a:spcBef>
                <a:spcPts val="349"/>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abetes</a:t>
            </a:r>
            <a:endParaRPr b="0" lang="en-US" sz="1800" spc="-1" strike="noStrike">
              <a:solidFill>
                <a:srgbClr val="000000"/>
              </a:solidFill>
              <a:latin typeface="Verdana"/>
            </a:endParaRPr>
          </a:p>
          <a:p>
            <a:pPr lvl="2" marL="858960" indent="-228600">
              <a:spcBef>
                <a:spcPts val="349"/>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thma</a:t>
            </a:r>
            <a:endParaRPr b="0" lang="en-US" sz="18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ck severity of disease and measure progress</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disease groupings that may merit special attention</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 educational programs, as disease clusters are identified</a:t>
            </a:r>
            <a:endParaRPr b="0" lang="en-US" sz="20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 new care management programs</a:t>
            </a:r>
            <a:endParaRPr b="0" lang="en-US" sz="2000" spc="-1" strike="noStrike">
              <a:solidFill>
                <a:srgbClr val="000000"/>
              </a:solidFill>
              <a:latin typeface="Verdana"/>
            </a:endParaRPr>
          </a:p>
        </p:txBody>
      </p:sp>
      <p:sp>
        <p:nvSpPr>
          <p:cNvPr id="107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F42B-BAC6-4818-A9FB-C868F5AEC1B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80" name="Date Placeholder 4"/>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7DCC7-8513-4F1A-B53D-1A176CC36F3D}"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1081" name="Footer Placeholder 5"/>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082" name="Text Box 7"/>
          <p:cNvSpPr/>
          <p:nvPr/>
        </p:nvSpPr>
        <p:spPr>
          <a:xfrm>
            <a:off x="533520" y="1066680"/>
            <a:ext cx="7619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Improved Care Management of Beneficia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txBox="1"/>
          <p:nvPr/>
        </p:nvSpPr>
        <p:spPr>
          <a:xfrm>
            <a:off x="799920" y="2057040"/>
            <a:ext cx="7543800" cy="35305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CD-10 provides more specific information about diagnoses and inpatient hospital procedures</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should provide an opportunity to determine which types of procedures are the most cost-effective for specific conditions</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may be a way to start saving Medicaid payments!</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 the administrative side, there should be less need for additional information to make payment decisions</a:t>
            </a:r>
            <a:endParaRPr b="0" lang="en-US" sz="2000" spc="-1" strike="noStrike">
              <a:solidFill>
                <a:srgbClr val="000000"/>
              </a:solidFill>
              <a:latin typeface="Verdana"/>
            </a:endParaRPr>
          </a:p>
        </p:txBody>
      </p:sp>
      <p:sp>
        <p:nvSpPr>
          <p:cNvPr id="108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D57C-5980-4651-88D1-34FD506533A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85" name="Date Placeholder 4"/>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676A8-4ED6-41AE-BB63-CAC4C0A16DF1}"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1086" name="Footer Placeholder 5"/>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087" name="Text Box 7"/>
          <p:cNvSpPr/>
          <p:nvPr/>
        </p:nvSpPr>
        <p:spPr>
          <a:xfrm>
            <a:off x="762120" y="1219320"/>
            <a:ext cx="7619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Boost Efficien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
          <p:cNvSpPr txBox="1"/>
          <p:nvPr/>
        </p:nvSpPr>
        <p:spPr>
          <a:xfrm>
            <a:off x="799920" y="2209680"/>
            <a:ext cx="7543800" cy="36576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ore specific information provided in the ICD-10 codes presents an opportunity for coverage and policy revisions</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icies can now pinpoint more specific conditions and more specific procedures</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dicaid programs can make better decisions on whether or not to cover procedures based on better diagnosis information on the claim</a:t>
            </a:r>
            <a:endParaRPr b="0" lang="en-US" sz="20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dicaid programs can more accurately pay for procedures based on specific diagnoses and the severity of the diagnosis</a:t>
            </a:r>
            <a:endParaRPr b="0" lang="en-US" sz="2000" spc="-1" strike="noStrike">
              <a:solidFill>
                <a:srgbClr val="000000"/>
              </a:solidFill>
              <a:latin typeface="Verdana"/>
            </a:endParaRPr>
          </a:p>
        </p:txBody>
      </p:sp>
      <p:sp>
        <p:nvSpPr>
          <p:cNvPr id="108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63BB1-8CAF-453F-A247-76A50F1B59D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90" name="Date Placeholder 4"/>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4752A-2F1E-41B6-ACED-2D55A65E7EF3}"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1091" name="Footer Placeholder 5"/>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092" name="Text Box 7"/>
          <p:cNvSpPr/>
          <p:nvPr/>
        </p:nvSpPr>
        <p:spPr>
          <a:xfrm>
            <a:off x="609480" y="1143000"/>
            <a:ext cx="7620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Verdana"/>
              </a:rPr>
              <a:t>More Effective Coverage and Payment Determin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
          <p:cNvSpPr txBox="1"/>
          <p:nvPr/>
        </p:nvSpPr>
        <p:spPr>
          <a:xfrm>
            <a:off x="609120" y="1905120"/>
            <a:ext cx="7543800" cy="35812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10 improves the specificity of diagnose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10 includes laterality</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tter data provides more pattern recognition opportunities</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uld be able to recognize more diagnosis-to-procedure mismatches</a:t>
            </a:r>
            <a:endParaRPr b="0" lang="en-US" sz="2400" spc="-1" strike="noStrike">
              <a:solidFill>
                <a:srgbClr val="000000"/>
              </a:solidFill>
              <a:latin typeface="Verdana"/>
            </a:endParaRPr>
          </a:p>
        </p:txBody>
      </p:sp>
      <p:sp>
        <p:nvSpPr>
          <p:cNvPr id="109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02D84-D015-420A-8A24-C92A3CA30F9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95" name="Date Placeholder 4"/>
          <p:cNvSpPr/>
          <p:nvPr/>
        </p:nvSpPr>
        <p:spPr>
          <a:xfrm>
            <a:off x="7696080" y="6408720"/>
            <a:ext cx="9511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28926-EAAF-4C3F-9F4E-76BDC5259502}"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1096" name="Footer Placeholder 5"/>
          <p:cNvSpPr/>
          <p:nvPr/>
        </p:nvSpPr>
        <p:spPr>
          <a:xfrm>
            <a:off x="4379760" y="6408720"/>
            <a:ext cx="33163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3 - Benefits of Using ICD-10</a:t>
            </a:r>
            <a:endParaRPr b="0" lang="en-US" sz="1000" spc="-1" strike="noStrike">
              <a:solidFill>
                <a:srgbClr val="000000"/>
              </a:solidFill>
              <a:latin typeface="Arial"/>
            </a:endParaRPr>
          </a:p>
        </p:txBody>
      </p:sp>
      <p:sp>
        <p:nvSpPr>
          <p:cNvPr id="1097" name="Text Box 7"/>
          <p:cNvSpPr/>
          <p:nvPr/>
        </p:nvSpPr>
        <p:spPr>
          <a:xfrm>
            <a:off x="609480" y="1143000"/>
            <a:ext cx="7620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Better Data for Fraud and Ab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3T23:03:16Z</dcterms:created>
  <dc:creator>snachimson</dc:creator>
  <dc:description/>
  <dc:language>en-US</dc:language>
  <cp:lastModifiedBy>Sherry Scott</cp:lastModifiedBy>
  <dcterms:modified xsi:type="dcterms:W3CDTF">2009-11-02T16:39:40Z</dcterms:modified>
  <cp:revision>65</cp:revision>
  <dc:subject/>
  <dc:title>ICD-10 Plannng and Assess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0">
    <vt:lpwstr>Collateral Materials</vt:lpwstr>
  </property>
  <property fmtid="{D5CDD505-2E9C-101B-9397-08002B2CF9AE}" pid="3" name="Owner">
    <vt:lpwstr>10</vt:lpwstr>
  </property>
  <property fmtid="{D5CDD505-2E9C-101B-9397-08002B2CF9AE}" pid="4" name="Status">
    <vt:lpwstr>Draft</vt:lpwstr>
  </property>
</Properties>
</file>